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3672-22E2-4C89-9A67-5C365F3D4B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BBC9-25D3-4D5B-BAB1-7D18618E5B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F62C-76C0-4361-ADB6-B28B915D71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6547-FF5A-4EF8-B0ED-A66097818D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9BF9-C6F5-4650-86B7-195A4545A4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AAD5-A4CF-4D20-B63D-DD8170DE0C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9E87-E846-477B-A437-88E1548272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2974-9A3B-4DCE-BE8B-94701A1119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83AA-9FC9-4D0E-9D5E-4BA0163678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9BD0-E680-4388-A68E-9489E627D3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0E4B-360C-4CE6-B028-A7699BA4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72A0-25CA-459A-93CE-DA57E20A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C47-DD5A-4D26-830E-F47F5A4A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22A-3164-4D7C-A68D-EA16A818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7CA6-FB37-4978-BB21-6B4A03DA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4EEF-D110-46F9-A889-CAEC2C89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2422-0A18-4778-AA55-A0EED7AE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C39A-EAF5-4424-9591-DEC521C5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2C4-D7F5-42D3-B160-51197F83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0BEA-987B-4167-A1B0-1D2B18E8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5CFB-46AA-4365-B8AD-645759D5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53F-B54B-4C58-B8A4-757B1894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C40C-A9A1-471F-B5B3-7A5818BA27D1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A990-9FB9-4837-8116-2B5662A6AE87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à coins arrondis 3"/>
          <p:cNvGrpSpPr/>
          <p:nvPr/>
        </p:nvGrpSpPr>
        <p:grpSpPr>
          <a:xfrm>
            <a:off x="-12600" y="1414440"/>
            <a:ext cx="9023400" cy="2895480"/>
            <a:chOff x="-12600" y="1414440"/>
            <a:chExt cx="9023400" cy="2895480"/>
          </a:xfrm>
        </p:grpSpPr>
        <p:pic>
          <p:nvPicPr>
            <p:cNvPr id="50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-12600" y="1414440"/>
              <a:ext cx="90234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28760" y="1733400"/>
              <a:ext cx="824868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</a:rPr>
                <a:t>CALCUL NUMÉRIQUE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</a:rPr>
                <a:t>SÉRIE 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238640" cy="1676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3629160" y="1700280"/>
            <a:ext cx="1806480" cy="46083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0" y="543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1731960" y="2708280"/>
            <a:ext cx="5143680" cy="1638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8726400" cy="14414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5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04760" y="2276640"/>
            <a:ext cx="9004320" cy="1439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"/>
          <p:cNvPicPr/>
          <p:nvPr/>
        </p:nvPicPr>
        <p:blipFill>
          <a:blip r:embed="rId2"/>
          <a:stretch/>
        </p:blipFill>
        <p:spPr>
          <a:xfrm>
            <a:off x="3203640" y="3429000"/>
            <a:ext cx="2479680" cy="144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2924280" cy="3085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" descr=""/>
          <p:cNvPicPr/>
          <p:nvPr/>
        </p:nvPicPr>
        <p:blipFill>
          <a:blip r:embed="rId2"/>
          <a:stretch/>
        </p:blipFill>
        <p:spPr>
          <a:xfrm>
            <a:off x="4819680" y="1916280"/>
            <a:ext cx="2705040" cy="308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5692680" cy="1800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2"/>
          <a:stretch/>
        </p:blipFill>
        <p:spPr>
          <a:xfrm>
            <a:off x="6496200" y="2492280"/>
            <a:ext cx="2108160" cy="180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1816200" y="1844640"/>
            <a:ext cx="3619440" cy="30862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2"/>
          <a:stretch/>
        </p:blipFill>
        <p:spPr>
          <a:xfrm>
            <a:off x="5651640" y="2637000"/>
            <a:ext cx="2000160" cy="1714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4849920" cy="18003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" descr=""/>
          <p:cNvPicPr/>
          <p:nvPr/>
        </p:nvPicPr>
        <p:blipFill>
          <a:blip r:embed="rId2"/>
          <a:stretch/>
        </p:blipFill>
        <p:spPr>
          <a:xfrm>
            <a:off x="5570640" y="2565360"/>
            <a:ext cx="3249360" cy="180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Georgia"/>
                <a:ea typeface="Arial"/>
              </a:rPr>
              <a:t>Calculer et donner le résultat sous la forme la plus simple possible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4552920" cy="3076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353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2"/>
          <a:stretch/>
        </p:blipFill>
        <p:spPr>
          <a:xfrm>
            <a:off x="5653080" y="2511360"/>
            <a:ext cx="3095640" cy="1638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165240" y="2781360"/>
            <a:ext cx="4551120" cy="1800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4981680" y="2781360"/>
            <a:ext cx="3838320" cy="180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1806480" cy="46087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3"/>
          <p:cNvSpPr/>
          <p:nvPr/>
        </p:nvSpPr>
        <p:spPr>
          <a:xfrm>
            <a:off x="0" y="543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" descr=""/>
          <p:cNvPicPr/>
          <p:nvPr/>
        </p:nvPicPr>
        <p:blipFill>
          <a:blip r:embed="rId2"/>
          <a:stretch/>
        </p:blipFill>
        <p:spPr>
          <a:xfrm>
            <a:off x="4716360" y="2060640"/>
            <a:ext cx="1886040" cy="2895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5651640" cy="1800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6048360" y="2060640"/>
            <a:ext cx="2844720" cy="180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26400" cy="14414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5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2268360" y="3429000"/>
            <a:ext cx="4262760" cy="144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2095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522440" y="1608120"/>
            <a:ext cx="6289560" cy="1800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1803240" y="3141720"/>
            <a:ext cx="2840040" cy="1798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8553240" cy="1368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2943360" y="1916280"/>
            <a:ext cx="2923920" cy="308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692360" y="2637000"/>
            <a:ext cx="5181480" cy="163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2987640" y="1855800"/>
            <a:ext cx="3619440" cy="3085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286240" cy="196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4552920" cy="3076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353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6-06-30T16:59:36Z</dcterms:modified>
  <cp:revision>237</cp:revision>
  <dc:subject/>
  <dc:title>Diapositive 0</dc:title>
</cp:coreProperties>
</file>