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222F-21AF-4955-86EE-A9660D577F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BD12-A376-4B7B-ACD4-CC0CE47ACB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F5F6-C886-47F1-B153-2E700148CB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A70F-76A5-45B6-B743-1BFA4EA728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924-E96C-4FA8-B61A-E763B74000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DC64-CB75-484C-A4A9-D22EE73CFA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B437-8913-40DF-8E37-1448EF301F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0C5B-823E-466F-9117-181D777B9D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D30-9384-45C4-9838-57BD3EF0BC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5C9-4C8E-4480-920C-6BFBFF4439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82A-6D43-44AB-851F-677A1E01A4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F45-E19E-4B81-A494-F5067C14F2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18CA-DAC6-41BE-89DD-C89ADDDDF0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3D39-F40A-4E3D-A577-271E2B4746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5C8-9DDC-4643-900B-E2A2727063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2F1-9670-48C0-A8E6-8243FEF654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DF9-E132-40F5-BA40-50FE546FA5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E14E-7B2B-4CC5-B427-91EEA29FAD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CC7-0DED-4888-B192-A6BDF93F23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9D0-97EE-47EE-A2A7-5B56770A10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770-0E0D-439F-B306-B52D7D79E0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9256-2912-4AA6-A6EA-D64144AE9D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E5F2-94ED-40AC-9984-6797C9198D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D765-59C0-404C-994C-7929C28453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BFF0-D595-4C74-BC2C-8E04B758CF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9EA6-8F29-42A5-8F55-1420D07D16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440-569F-43D7-A202-C706F4D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EE4-BD1F-412A-BAEA-0E3515F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B76-6F65-4FB6-A1CF-15812821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08E-CE39-47A4-8048-2AE979D3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251-50BF-4C82-B5BE-250321DA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DC2-8112-432D-A12F-CC1A0FC5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514-22DA-413E-B07A-8A72CCE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D51-4A38-4DA9-A235-97BF797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D54-8FC1-4E62-8DB9-771BE34E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C86-372F-416F-BCF5-BFF0189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FA7-8979-4D4E-9B41-F01A687E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D99-BBC0-4C45-A4AF-128A19F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BF81-22B7-4BDC-88C1-E297E05D0B5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6BDF-186D-4B2C-A837-136ED67BE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3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0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05 = 1 + 0,05 = 1 + 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8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2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 = 1 – 0,2 = 1 – 2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3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 = 1 + 0,3 = 1 + 3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4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= 1 – 0,45  = 1 – 4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46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46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6 = 1 + 0,46 = 1 + 46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Compléter les phrases par </a:t>
            </a:r>
            <a:br>
              <a:rPr sz="4800"/>
            </a:b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« augmenter » ou « diminuer » suivi du taux de pourcentage </a:t>
            </a:r>
            <a:br>
              <a:rPr sz="4800"/>
            </a:b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qui convie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9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1 = 1 – 0,99 = 1 – 99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3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67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33 = 1 – 0,67 = 1 – 67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0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0,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002 = 1 + 0,002 = 1 + 0,2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1628640"/>
            <a:ext cx="91440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99,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01 = 1 – 0,999 = 1 – 99,9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10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1 +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2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20 %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357720"/>
            <a:ext cx="6912000" cy="1584000"/>
          </a:xfrm>
          <a:prstGeom prst="cloudCallout">
            <a:avLst>
              <a:gd name="adj1" fmla="val 36782"/>
              <a:gd name="adj2" fmla="val -12431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 = 1 + 0,20 = 1 + 2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8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46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32Z</dcterms:modified>
  <cp:revision>214</cp:revision>
  <dc:subject/>
  <dc:title>Diapositive 0</dc:title>
</cp:coreProperties>
</file>