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769F3-69A5-49B6-B711-4C8966047AE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1FCFF-DCC8-46F7-920A-8A491F928AF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B61D0-585D-42BF-8552-441F960790C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39A37-362B-4E01-A02C-54F2953D58E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79D9D-AE58-4258-AE5C-E22BE2109D4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893CA-6334-4B32-9B76-E7DB46380FC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E8A16-D97E-4F7D-8828-562375D4948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3AD79-CB4E-4FF7-91F1-66F53C32A02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42EF5-D422-4549-A783-A85774DD6C2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24834-AAA6-4A4A-B9D2-DDCB88E49AD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B078E-7994-4F65-A528-40373CA19DF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A42A8-B905-4775-BA95-82A48BE6D70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91E9B-B040-474B-AA20-C2EA90EF9BC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C8F09-6606-450C-8433-E33A90C8000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2A9B7-3D70-4D28-A6F7-45A8AB7D2D7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9A166-5ED7-41A9-852D-2233ADD2CBC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D2034-1665-4C2C-8E38-661D68140C4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99F52-5DEC-4D3C-A3F6-1937DD6FC95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12540-7A6D-45D6-AA26-2F0B4B678A0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CB27E-FD26-4B20-9A43-4253AF9A0C5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16355-F629-4167-9083-E16D852FB6B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99665-6FF6-41D6-BB91-07CABEDF7ED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472AC-CF11-454D-B342-1DA2753C7DE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C34EA-6BEA-4587-9D53-8A133309890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A1F15-B183-4FCB-8103-121C4976C40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A8870-860E-41E4-B9E4-EE83FB0C8C2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AAF3-5F59-4EE3-BF73-233522B46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2F90-DE09-4A4B-AD97-87EAFA0D1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FE52-952B-4AFF-A80A-DCDB97C6F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D362-E187-4F68-AE73-FE77CFD84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0478-BC5B-4C5E-97EB-5D4B2D3A2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92BF-B9BF-4AC3-9830-3E2237F57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DB37-D86E-4222-BC51-272FC613A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7494-17FA-40F8-9E44-3CCF26FE6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A744-D89F-441A-B8DA-926C84ECF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F6FE-AD3B-41BD-9EE3-66C09706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FC34-43D0-4042-9D48-58BAF5243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6C69-1D8E-491F-921B-D6CE7A335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c2c2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A6C16-F665-4212-ABC8-CCBEFD6F8004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449C4-02FF-4022-B4F0-83CF6A8149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re 1"/>
          <p:cNvSpPr/>
          <p:nvPr/>
        </p:nvSpPr>
        <p:spPr>
          <a:xfrm>
            <a:off x="0" y="403236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à coins arrondis 3"/>
          <p:cNvSpPr/>
          <p:nvPr/>
        </p:nvSpPr>
        <p:spPr>
          <a:xfrm>
            <a:off x="612720" y="1628640"/>
            <a:ext cx="7918560" cy="2160720"/>
          </a:xfrm>
          <a:prstGeom prst="roundRect">
            <a:avLst>
              <a:gd name="adj" fmla="val 16667"/>
            </a:avLst>
          </a:prstGeom>
          <a:solidFill>
            <a:srgbClr val="696969">
              <a:alpha val="6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42c8"/>
                </a:solidFill>
                <a:latin typeface="Georgia"/>
              </a:rPr>
              <a:t>POURCENTAGES</a:t>
            </a:r>
            <a:br>
              <a:rPr sz="6600"/>
            </a:br>
            <a:r>
              <a:rPr b="1" lang="fr-FR" sz="6600" spc="-1" strike="noStrike">
                <a:solidFill>
                  <a:srgbClr val="0042c8"/>
                </a:solidFill>
                <a:latin typeface="Georgia"/>
              </a:rPr>
              <a:t>SÉRIE 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itre 1"/>
          <p:cNvSpPr/>
          <p:nvPr/>
        </p:nvSpPr>
        <p:spPr>
          <a:xfrm>
            <a:off x="0" y="1628640"/>
            <a:ext cx="91440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e </a:t>
            </a:r>
            <a:r>
              <a:rPr b="1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isse de 20 %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ivie d’une </a:t>
            </a:r>
            <a:r>
              <a:rPr b="1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usse de 20 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 équivalente à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itre 1"/>
          <p:cNvSpPr/>
          <p:nvPr/>
        </p:nvSpPr>
        <p:spPr>
          <a:xfrm>
            <a:off x="0" y="1628640"/>
            <a:ext cx="91440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e </a:t>
            </a:r>
            <a:r>
              <a:rPr b="1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isse de 20 %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ivie d’une </a:t>
            </a:r>
            <a:r>
              <a:rPr b="1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usse de 25 %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 équivalente à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itre 1"/>
          <p:cNvSpPr/>
          <p:nvPr/>
        </p:nvSpPr>
        <p:spPr>
          <a:xfrm>
            <a:off x="0" y="1628640"/>
            <a:ext cx="91440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e </a:t>
            </a:r>
            <a:r>
              <a:rPr b="1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isse de 10 %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ivie d’une </a:t>
            </a:r>
            <a:r>
              <a:rPr b="1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isse de 10 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ivie d’une </a:t>
            </a:r>
            <a:r>
              <a:rPr b="1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usse de 20 %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 équivalente à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itre 1"/>
          <p:cNvSpPr/>
          <p:nvPr/>
        </p:nvSpPr>
        <p:spPr>
          <a:xfrm>
            <a:off x="0" y="1628640"/>
            <a:ext cx="91440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e </a:t>
            </a:r>
            <a:r>
              <a:rPr b="1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usse de 20 %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ivie d’une </a:t>
            </a:r>
            <a:r>
              <a:rPr b="1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usse de 20 %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ivie d’une </a:t>
            </a:r>
            <a:r>
              <a:rPr b="1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isse de 20 %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 équivalente à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itre 1"/>
          <p:cNvSpPr/>
          <p:nvPr/>
        </p:nvSpPr>
        <p:spPr>
          <a:xfrm>
            <a:off x="0" y="404640"/>
            <a:ext cx="9144000" cy="64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e </a:t>
            </a:r>
            <a:r>
              <a:rPr b="1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usse de 10 %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ivie d’une</a:t>
            </a:r>
            <a:r>
              <a:rPr b="1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ausse de 20 %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 équivalente à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 </a:t>
            </a: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ne hausse de 32 %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ensées 3"/>
          <p:cNvSpPr/>
          <p:nvPr/>
        </p:nvSpPr>
        <p:spPr>
          <a:xfrm>
            <a:off x="1116000" y="3573360"/>
            <a:ext cx="6912000" cy="1584360"/>
          </a:xfrm>
          <a:prstGeom prst="cloudCallout">
            <a:avLst>
              <a:gd name="adj1" fmla="val 9472"/>
              <a:gd name="adj2" fmla="val -72180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,10 </a:t>
            </a:r>
            <a:r>
              <a:rPr b="1" lang="fr-FR" sz="32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1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,20 = 1,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itre 1"/>
          <p:cNvSpPr/>
          <p:nvPr/>
        </p:nvSpPr>
        <p:spPr>
          <a:xfrm>
            <a:off x="0" y="404640"/>
            <a:ext cx="9144000" cy="64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e </a:t>
            </a:r>
            <a:r>
              <a:rPr b="1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isse de 10 %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ivie d’une </a:t>
            </a:r>
            <a:r>
              <a:rPr b="1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isse de 10 %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 équivalente à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 </a:t>
            </a: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ne baisse de 19 %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ensées 3"/>
          <p:cNvSpPr/>
          <p:nvPr/>
        </p:nvSpPr>
        <p:spPr>
          <a:xfrm>
            <a:off x="1116000" y="3573360"/>
            <a:ext cx="6912000" cy="1584360"/>
          </a:xfrm>
          <a:prstGeom prst="cloudCallout">
            <a:avLst>
              <a:gd name="adj1" fmla="val 9472"/>
              <a:gd name="adj2" fmla="val -72180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90 </a:t>
            </a:r>
            <a:r>
              <a:rPr b="1" lang="fr-FR" sz="32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1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0,90 = 0,8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itre 1"/>
          <p:cNvSpPr/>
          <p:nvPr/>
        </p:nvSpPr>
        <p:spPr>
          <a:xfrm>
            <a:off x="0" y="404640"/>
            <a:ext cx="9144000" cy="64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e </a:t>
            </a:r>
            <a:r>
              <a:rPr b="1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usse de 35 %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ivie d’une </a:t>
            </a:r>
            <a:r>
              <a:rPr b="1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usse de 30 %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 équivalente à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 </a:t>
            </a: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ne hausse de 75,5 %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ensées 3"/>
          <p:cNvSpPr/>
          <p:nvPr/>
        </p:nvSpPr>
        <p:spPr>
          <a:xfrm>
            <a:off x="1116000" y="3573360"/>
            <a:ext cx="6912000" cy="1584360"/>
          </a:xfrm>
          <a:prstGeom prst="cloudCallout">
            <a:avLst>
              <a:gd name="adj1" fmla="val 9472"/>
              <a:gd name="adj2" fmla="val -72180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,35 </a:t>
            </a:r>
            <a:r>
              <a:rPr b="1" lang="fr-FR" sz="32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1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,30 = 1,75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itre 1"/>
          <p:cNvSpPr/>
          <p:nvPr/>
        </p:nvSpPr>
        <p:spPr>
          <a:xfrm>
            <a:off x="0" y="404640"/>
            <a:ext cx="9144000" cy="64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e </a:t>
            </a:r>
            <a:r>
              <a:rPr b="1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isse de 30 %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ivie d’une </a:t>
            </a:r>
            <a:r>
              <a:rPr b="1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isse de 20 %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 équivalente à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 </a:t>
            </a: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ne baisse de 44 %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ensées 3"/>
          <p:cNvSpPr/>
          <p:nvPr/>
        </p:nvSpPr>
        <p:spPr>
          <a:xfrm>
            <a:off x="1116000" y="3573360"/>
            <a:ext cx="6912000" cy="1584360"/>
          </a:xfrm>
          <a:prstGeom prst="cloudCallout">
            <a:avLst>
              <a:gd name="adj1" fmla="val 9472"/>
              <a:gd name="adj2" fmla="val -72180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70 </a:t>
            </a:r>
            <a:r>
              <a:rPr b="1" lang="fr-FR" sz="32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1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0,80 = 0,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itre 1"/>
          <p:cNvSpPr/>
          <p:nvPr/>
        </p:nvSpPr>
        <p:spPr>
          <a:xfrm>
            <a:off x="0" y="404640"/>
            <a:ext cx="9144000" cy="64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e </a:t>
            </a:r>
            <a:r>
              <a:rPr b="1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usse de 50 %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ivie d’une </a:t>
            </a:r>
            <a:r>
              <a:rPr b="1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isse de 35 %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 équivalente à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 </a:t>
            </a: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ne baisse de 2,5 %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ensées 3"/>
          <p:cNvSpPr/>
          <p:nvPr/>
        </p:nvSpPr>
        <p:spPr>
          <a:xfrm>
            <a:off x="1116000" y="3573360"/>
            <a:ext cx="6912000" cy="1584360"/>
          </a:xfrm>
          <a:prstGeom prst="cloudCallout">
            <a:avLst>
              <a:gd name="adj1" fmla="val 9472"/>
              <a:gd name="adj2" fmla="val -72180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,50 </a:t>
            </a:r>
            <a:r>
              <a:rPr b="1" lang="fr-FR" sz="32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1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0,65 = 0,9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0042c8"/>
                </a:solidFill>
                <a:latin typeface="Georgia"/>
              </a:rPr>
              <a:t>Compléter les phrases par « hausse » ou « baisse » suivi d’un pourcentage. </a:t>
            </a:r>
            <a:br>
              <a:rPr sz="5000"/>
            </a:br>
            <a:br>
              <a:rPr sz="5000"/>
            </a:br>
            <a:r>
              <a:rPr b="0" i="1" lang="fr-FR" sz="5000" spc="-1" strike="noStrike">
                <a:solidFill>
                  <a:srgbClr val="0042c8"/>
                </a:solidFill>
                <a:latin typeface="Georgia"/>
              </a:rPr>
              <a:t>L’usage de la calculatrice est autorisé.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itre 1"/>
          <p:cNvSpPr/>
          <p:nvPr/>
        </p:nvSpPr>
        <p:spPr>
          <a:xfrm>
            <a:off x="0" y="404640"/>
            <a:ext cx="9144000" cy="64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e </a:t>
            </a:r>
            <a:r>
              <a:rPr b="1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isse de 35 %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ivie d’une </a:t>
            </a:r>
            <a:r>
              <a:rPr b="1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usse de 50 %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 équivalente à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 </a:t>
            </a: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ne baisse de 2,5 %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ensées 3"/>
          <p:cNvSpPr/>
          <p:nvPr/>
        </p:nvSpPr>
        <p:spPr>
          <a:xfrm>
            <a:off x="1116000" y="3573360"/>
            <a:ext cx="6912000" cy="1584360"/>
          </a:xfrm>
          <a:prstGeom prst="cloudCallout">
            <a:avLst>
              <a:gd name="adj1" fmla="val 9472"/>
              <a:gd name="adj2" fmla="val -72180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65 </a:t>
            </a:r>
            <a:r>
              <a:rPr b="1" lang="fr-FR" sz="32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1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,50 = 0,9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itre 1"/>
          <p:cNvSpPr/>
          <p:nvPr/>
        </p:nvSpPr>
        <p:spPr>
          <a:xfrm>
            <a:off x="0" y="404640"/>
            <a:ext cx="9144000" cy="64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e </a:t>
            </a:r>
            <a:r>
              <a:rPr b="1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isse de 20 %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ivie d’une </a:t>
            </a:r>
            <a:r>
              <a:rPr b="1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usse de 20 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 équivalente à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 </a:t>
            </a: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ne baisse de 4 %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ensées 3"/>
          <p:cNvSpPr/>
          <p:nvPr/>
        </p:nvSpPr>
        <p:spPr>
          <a:xfrm>
            <a:off x="1116000" y="3573360"/>
            <a:ext cx="6912000" cy="1584360"/>
          </a:xfrm>
          <a:prstGeom prst="cloudCallout">
            <a:avLst>
              <a:gd name="adj1" fmla="val 9472"/>
              <a:gd name="adj2" fmla="val -72180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80 </a:t>
            </a:r>
            <a:r>
              <a:rPr b="1" lang="fr-FR" sz="32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1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,20 = 0,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itre 1"/>
          <p:cNvSpPr/>
          <p:nvPr/>
        </p:nvSpPr>
        <p:spPr>
          <a:xfrm>
            <a:off x="0" y="404640"/>
            <a:ext cx="9144000" cy="64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e </a:t>
            </a:r>
            <a:r>
              <a:rPr b="1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isse de 20 %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ivie d’une </a:t>
            </a:r>
            <a:r>
              <a:rPr b="1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usse de 25 %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 équivalente à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 </a:t>
            </a: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arder le même résultat 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ensées 3"/>
          <p:cNvSpPr/>
          <p:nvPr/>
        </p:nvSpPr>
        <p:spPr>
          <a:xfrm>
            <a:off x="1116000" y="3573360"/>
            <a:ext cx="6912000" cy="1584360"/>
          </a:xfrm>
          <a:prstGeom prst="cloudCallout">
            <a:avLst>
              <a:gd name="adj1" fmla="val 9472"/>
              <a:gd name="adj2" fmla="val -72180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80 </a:t>
            </a:r>
            <a:r>
              <a:rPr b="1" lang="fr-FR" sz="32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1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,25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itre 1"/>
          <p:cNvSpPr/>
          <p:nvPr/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e </a:t>
            </a:r>
            <a:r>
              <a:rPr b="1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isse de 10 %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ivie d’une </a:t>
            </a:r>
            <a:r>
              <a:rPr b="1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isse de 10 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ivie d’une </a:t>
            </a:r>
            <a:r>
              <a:rPr b="1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usse de 20 %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 équivalente à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 </a:t>
            </a: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ne baisse de 2,8 %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ensées 3"/>
          <p:cNvSpPr/>
          <p:nvPr/>
        </p:nvSpPr>
        <p:spPr>
          <a:xfrm>
            <a:off x="611280" y="4221000"/>
            <a:ext cx="7993080" cy="1584360"/>
          </a:xfrm>
          <a:prstGeom prst="cloudCallout">
            <a:avLst>
              <a:gd name="adj1" fmla="val 9472"/>
              <a:gd name="adj2" fmla="val -72180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90 </a:t>
            </a:r>
            <a:r>
              <a:rPr b="1" lang="fr-FR" sz="32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1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0,90 </a:t>
            </a:r>
            <a:r>
              <a:rPr b="1" lang="fr-FR" sz="32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1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,20 = 0,97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itre 1"/>
          <p:cNvSpPr/>
          <p:nvPr/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e </a:t>
            </a:r>
            <a:r>
              <a:rPr b="1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usse de 20 %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ivie d’une </a:t>
            </a:r>
            <a:r>
              <a:rPr b="1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usse de 20 %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ivie d’une </a:t>
            </a:r>
            <a:r>
              <a:rPr b="1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isse de 20 %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 équivalente à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 </a:t>
            </a: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ne hausse de 15,2 %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ensées 3"/>
          <p:cNvSpPr/>
          <p:nvPr/>
        </p:nvSpPr>
        <p:spPr>
          <a:xfrm>
            <a:off x="611280" y="4221000"/>
            <a:ext cx="7993080" cy="1584360"/>
          </a:xfrm>
          <a:prstGeom prst="cloudCallout">
            <a:avLst>
              <a:gd name="adj1" fmla="val 9472"/>
              <a:gd name="adj2" fmla="val -72180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,20 </a:t>
            </a:r>
            <a:r>
              <a:rPr b="1" lang="fr-FR" sz="32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1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,20 </a:t>
            </a:r>
            <a:r>
              <a:rPr b="1" lang="fr-FR" sz="32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1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0,80 = 1,15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itre 1"/>
          <p:cNvSpPr/>
          <p:nvPr/>
        </p:nvSpPr>
        <p:spPr>
          <a:xfrm>
            <a:off x="0" y="1628640"/>
            <a:ext cx="91440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e </a:t>
            </a:r>
            <a:r>
              <a:rPr b="1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usse de 10 %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ivie d’une </a:t>
            </a:r>
            <a:r>
              <a:rPr b="1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usse de 10 %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 équivalente à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 </a:t>
            </a: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ne hausse de 21 %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ensées 3"/>
          <p:cNvSpPr/>
          <p:nvPr/>
        </p:nvSpPr>
        <p:spPr>
          <a:xfrm>
            <a:off x="1116000" y="3932280"/>
            <a:ext cx="6912000" cy="1584360"/>
          </a:xfrm>
          <a:prstGeom prst="cloudCallout">
            <a:avLst>
              <a:gd name="adj1" fmla="val 9472"/>
              <a:gd name="adj2" fmla="val -72180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,10 </a:t>
            </a:r>
            <a:r>
              <a:rPr b="1" lang="fr-FR" sz="32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1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,10 = 1,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itre 1"/>
          <p:cNvSpPr/>
          <p:nvPr/>
        </p:nvSpPr>
        <p:spPr>
          <a:xfrm>
            <a:off x="0" y="1628640"/>
            <a:ext cx="91440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e </a:t>
            </a:r>
            <a:r>
              <a:rPr b="1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usse de 10 %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ivie d’une</a:t>
            </a:r>
            <a:r>
              <a:rPr b="1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ausse de 20 %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 équivalente à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itre 1"/>
          <p:cNvSpPr/>
          <p:nvPr/>
        </p:nvSpPr>
        <p:spPr>
          <a:xfrm>
            <a:off x="0" y="1628640"/>
            <a:ext cx="91440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e </a:t>
            </a:r>
            <a:r>
              <a:rPr b="1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isse de 10 %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ivie d’une </a:t>
            </a:r>
            <a:r>
              <a:rPr b="1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isse de 10 %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 équivalente à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itre 1"/>
          <p:cNvSpPr/>
          <p:nvPr/>
        </p:nvSpPr>
        <p:spPr>
          <a:xfrm>
            <a:off x="0" y="1628640"/>
            <a:ext cx="91440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e </a:t>
            </a:r>
            <a:r>
              <a:rPr b="1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usse de 35 %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ivie d’une </a:t>
            </a:r>
            <a:r>
              <a:rPr b="1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usse de 30 %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 équivalente à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itre 1"/>
          <p:cNvSpPr/>
          <p:nvPr/>
        </p:nvSpPr>
        <p:spPr>
          <a:xfrm>
            <a:off x="0" y="1628640"/>
            <a:ext cx="91440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e </a:t>
            </a:r>
            <a:r>
              <a:rPr b="1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isse de 30 %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ivie d’une </a:t>
            </a:r>
            <a:r>
              <a:rPr b="1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isse de 20 %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 équivalente à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itre 1"/>
          <p:cNvSpPr/>
          <p:nvPr/>
        </p:nvSpPr>
        <p:spPr>
          <a:xfrm>
            <a:off x="0" y="1628640"/>
            <a:ext cx="91440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e </a:t>
            </a:r>
            <a:r>
              <a:rPr b="1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usse de 50 %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ivie d’une </a:t>
            </a:r>
            <a:r>
              <a:rPr b="1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isse de 35 %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 équivalente à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itre 1"/>
          <p:cNvSpPr/>
          <p:nvPr/>
        </p:nvSpPr>
        <p:spPr>
          <a:xfrm>
            <a:off x="0" y="1628640"/>
            <a:ext cx="91440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e </a:t>
            </a:r>
            <a:r>
              <a:rPr b="1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isse de 35 %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ivie d’une </a:t>
            </a:r>
            <a:r>
              <a:rPr b="1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usse de 50 %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 équivalente à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5:38:50Z</dcterms:created>
  <dc:creator>Marielle Séguy</dc:creator>
  <dc:description/>
  <dc:language>en-US</dc:language>
  <cp:lastModifiedBy>SEM</cp:lastModifiedBy>
  <dcterms:modified xsi:type="dcterms:W3CDTF">2014-06-29T14:56:52Z</dcterms:modified>
  <cp:revision>215</cp:revision>
  <dc:subject/>
  <dc:title>Diapositive 0</dc:title>
</cp:coreProperties>
</file>