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FB04-B047-4D25-B470-E66DEA4BCB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1F86-B608-41DA-B991-12F218F0E1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BD6-7E2A-4080-8EA6-9A50CD4FFC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C838-3785-4951-BFF2-3341931907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B851-FCA1-4B8E-9727-0304BD47FA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2429-4CFC-49EE-9DCF-E35CFC882F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0AB-FC6C-43B7-A60B-F95B9113A7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9A76-78E3-44D6-BDDB-6EF7B67879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CBE7-B93F-485F-96B7-D9393A0B98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84D-2475-41F5-A08E-F50FA0CE56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7B43-EFD7-4E3D-B736-D65EC14BDE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E10-1693-426C-A224-3F51884E6F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6D13-60CC-4FE6-8866-102753BB3F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0C4-1B57-490F-A205-F2C9E2E061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1FDB-262C-4730-977B-4F1AFEEEB4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F8D-4911-4803-B204-821A2E5A64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A89-3F04-4634-997C-0603BE7942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404-1DA3-4113-B711-9215BF4AA5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3383-15A3-4BCA-A949-2022E7A37F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69E-7479-431A-B713-6B4C71317A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82B-C71B-47F1-9424-51B2530F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D14-3D3E-4A46-867A-5CF4A69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264-452B-4FDA-82FB-B2547E66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36D-1281-4ECC-9352-FC76B8F6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2A4-2155-4B4A-AA76-A6E2F721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F2D-D73A-4296-8DC5-1E2F46E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389-15B3-482C-8031-BDCC267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1D5-912B-42C9-BA51-56B09474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5A9-79D9-4B0B-AFFE-02D60745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069-9CA9-403D-A589-4CA85B57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DBA-EA0C-4F02-8AD0-835A5967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1E7-2518-44F0-A0FE-967F48D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7AC1-2A90-4DFE-AE4D-95C998CA417F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18B3-7F13-4237-BD50-8A80B12F25BB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-12600" y="1414440"/>
            <a:ext cx="9023400" cy="2895480"/>
            <a:chOff x="-12600" y="1414440"/>
            <a:chExt cx="902340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-12600" y="1414440"/>
              <a:ext cx="90234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CALCUL NUMÉRIQU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411280" y="1898640"/>
            <a:ext cx="3619800" cy="311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"/>
          <p:cNvPicPr/>
          <p:nvPr/>
        </p:nvPicPr>
        <p:blipFill>
          <a:blip r:embed="rId1"/>
          <a:stretch/>
        </p:blipFill>
        <p:spPr>
          <a:xfrm>
            <a:off x="1204920" y="2708280"/>
            <a:ext cx="6462720" cy="151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286600" cy="3371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646360" y="1773360"/>
            <a:ext cx="3581280" cy="311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2225520"/>
            <a:ext cx="5248440" cy="1924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6388200" y="24210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816200" y="1916280"/>
            <a:ext cx="361944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2"/>
          <a:stretch/>
        </p:blipFill>
        <p:spPr>
          <a:xfrm>
            <a:off x="5811840" y="1916280"/>
            <a:ext cx="2000160" cy="30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181840" cy="163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5670720" y="2611440"/>
            <a:ext cx="3438360" cy="160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696160" cy="1441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2266920" cy="14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24000" y="2225520"/>
            <a:ext cx="4586040" cy="1979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5316480" y="2241720"/>
            <a:ext cx="3576600" cy="197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alculer et donner le résultat sous la forme la plus simple possible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5205600" cy="1800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2"/>
          <a:stretch/>
        </p:blipFill>
        <p:spPr>
          <a:xfrm>
            <a:off x="5719680" y="2421000"/>
            <a:ext cx="31003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3619800" cy="3114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5667480" y="270828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5" descr=""/>
          <p:cNvPicPr/>
          <p:nvPr/>
        </p:nvPicPr>
        <p:blipFill>
          <a:blip r:embed="rId1"/>
          <a:stretch/>
        </p:blipFill>
        <p:spPr>
          <a:xfrm>
            <a:off x="1420920" y="1700280"/>
            <a:ext cx="6464160" cy="151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1531800" y="3284640"/>
            <a:ext cx="5343840" cy="151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286240" cy="33717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6316560" y="1773360"/>
            <a:ext cx="2000520" cy="30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919080" y="1773360"/>
            <a:ext cx="3581640" cy="31147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40992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2440" y="1608120"/>
            <a:ext cx="62895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803240" y="3141720"/>
            <a:ext cx="284004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71560" y="2225520"/>
            <a:ext cx="5248440" cy="1924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19800" cy="3085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181480" cy="163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696160" cy="14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130480" y="2225520"/>
            <a:ext cx="4457520" cy="1924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848480" cy="167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30T16:59:11Z</dcterms:modified>
  <cp:revision>236</cp:revision>
  <dc:subject/>
  <dc:title>Diapositive 0</dc:title>
</cp:coreProperties>
</file>