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013-845E-4E6C-A96C-43BF93F6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842-9303-42A0-BF28-13238A85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D8D-7CB2-4B21-ADCC-38F55444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367-B7E9-4134-93A8-10574CC5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E9E-DAFA-45E4-A6B9-0FADD1CF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A49-FE96-4235-AE5F-5757217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1CE-2B2E-4FDB-9186-2AB7A4B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56B-D67D-4F2A-972C-48350C1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954-0A8B-4A55-9511-41A6E90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B50-06F6-4802-A908-4E2E725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C8A-5E59-4072-ABD2-CEACE02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661-C567-48B7-933A-6DAB36B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1CF9-57F3-4143-9D39-C3EA096F5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50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gner un rectangle avec un coin diagonal 1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661000" cy="2225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gner un rectangle avec un coin diagonal 15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06:57:50Z</dcterms:created>
  <dc:creator>Rigaux</dc:creator>
  <dc:description/>
  <dc:language>en-US</dc:language>
  <cp:lastModifiedBy>auderi</cp:lastModifiedBy>
  <dcterms:modified xsi:type="dcterms:W3CDTF">2016-07-01T14:47:15Z</dcterms:modified>
  <cp:revision>17</cp:revision>
  <dc:subject/>
  <dc:title>Calcul algébrique 2</dc:title>
</cp:coreProperties>
</file>