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78F3-8F34-4EDA-8560-38F673A0A91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FDE1-AE10-465D-B29D-7F7D21AE9A8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3D55-BC78-4146-BE7B-11ADB130208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63D3-D063-46CC-B6C6-CE42A5F59A4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EEF0-CEAC-4C07-BA63-BE4A63BC9A4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CB5A-4C5A-4DEB-BA6B-772CB3C6EC1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DF41-02AA-4B84-AC15-F41E0A8C4A3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8D42-E51F-4683-BCDF-F2798DD616A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BF15-370B-414E-AACE-9B1F6ED41FB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51DB-602C-49A9-85A4-F800578516C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D2C2-4E46-44F0-9244-FFD61ADC4B5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3A80-34C0-4A34-93CD-84C2B9CD239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4335-D6E1-432C-8E00-E75F0CB7DAB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340A-75C7-4C00-B9C8-A01808D44D0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F8B5-E3E9-4DFC-A40C-FFDAC67B367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15F3-523F-4D55-B645-34E5BB7AFEC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D332-7D20-49ED-B1A2-00BC36E885C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4CE9-8CB3-4EA9-A88F-757E944E6D6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9744-4416-4B1E-B0A5-D1CBC721BD3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8347-B4D6-4876-96E4-A066BC5FE52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3BC6-97F0-46B2-B9A7-59BE0CA160A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34A4-48E0-4A3C-8EB3-297F22DC96D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6C7C-2C2F-40F7-9DAB-77A96D8055B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7D14-449B-450C-9823-DDCA2DD2190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ACC3-2CEB-42A5-9E0A-1DE9D19ABBA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BAE8-C3DF-49FA-9B83-8FA2EB14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5E5B-7742-4D4D-A445-A9DCCF18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288C-305A-44CE-B64C-234E96C01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6F0D-F54D-4B86-A0C5-14EB1BF8F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A677-C280-4213-BCA9-A9B2F707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833A-907C-4508-A23A-AE0A2CFB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EF21-9F7C-44D3-9BF5-8D67FEF2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8C1F-9EF2-4988-B8E2-F2E9A290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FE17-A612-4552-916D-0AD896CE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F1FA-560E-4181-9618-23763CA9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E9F8-5FB7-4290-A2BA-13945D81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DB8A-F9BD-47F2-9FDF-D6811F79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2c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5517-626C-4A1A-9263-CAB80776602E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58B0-E4F6-497B-8B52-75A448DEB5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POURCENTAGES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durée passe de 400 s à 350 s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e a diminué de 12,5 %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longueur a été divisée par 4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e a diminué de 25 %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longueur a été multipliée par 4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e a augmenté de 300 %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tre 1"/>
          <p:cNvSpPr/>
          <p:nvPr/>
        </p:nvSpPr>
        <p:spPr>
          <a:xfrm>
            <a:off x="0" y="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calculer 25 % d’un nombre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le multiplie par 1,25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ensées 3"/>
          <p:cNvSpPr/>
          <p:nvPr/>
        </p:nvSpPr>
        <p:spPr>
          <a:xfrm>
            <a:off x="1116000" y="3573360"/>
            <a:ext cx="691200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/100 = 0,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oneTexte 11"/>
          <p:cNvSpPr/>
          <p:nvPr/>
        </p:nvSpPr>
        <p:spPr>
          <a:xfrm rot="20728200">
            <a:off x="6150240" y="5597640"/>
            <a:ext cx="302400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à coins arrondis 11"/>
          <p:cNvSpPr/>
          <p:nvPr/>
        </p:nvSpPr>
        <p:spPr>
          <a:xfrm>
            <a:off x="7380360" y="2421000"/>
            <a:ext cx="1368360" cy="647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rganigramme : Processus 12"/>
          <p:cNvSpPr/>
          <p:nvPr/>
        </p:nvSpPr>
        <p:spPr>
          <a:xfrm flipV="1" rot="20096400">
            <a:off x="6176880" y="2761200"/>
            <a:ext cx="1281240" cy="46080"/>
          </a:xfrm>
          <a:prstGeom prst="flowChartProcess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tre 1"/>
          <p:cNvSpPr/>
          <p:nvPr/>
        </p:nvSpPr>
        <p:spPr>
          <a:xfrm>
            <a:off x="0" y="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déterminer un nombre augmenté de 10 %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le multiplie par 1,010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ensées 6"/>
          <p:cNvSpPr/>
          <p:nvPr/>
        </p:nvSpPr>
        <p:spPr>
          <a:xfrm>
            <a:off x="1116000" y="4005360"/>
            <a:ext cx="691200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+ 10/100 = 1,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oneTexte 11"/>
          <p:cNvSpPr/>
          <p:nvPr/>
        </p:nvSpPr>
        <p:spPr>
          <a:xfrm rot="20728200">
            <a:off x="6150240" y="5597640"/>
            <a:ext cx="302400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à coins arrondis 8"/>
          <p:cNvSpPr/>
          <p:nvPr/>
        </p:nvSpPr>
        <p:spPr>
          <a:xfrm>
            <a:off x="7667640" y="2781360"/>
            <a:ext cx="1368360" cy="647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rganigramme : Processus 9"/>
          <p:cNvSpPr/>
          <p:nvPr/>
        </p:nvSpPr>
        <p:spPr>
          <a:xfrm flipV="1" rot="20096400">
            <a:off x="6176880" y="3184920"/>
            <a:ext cx="1281240" cy="46080"/>
          </a:xfrm>
          <a:prstGeom prst="flowChartProcess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tre 1"/>
          <p:cNvSpPr/>
          <p:nvPr/>
        </p:nvSpPr>
        <p:spPr>
          <a:xfrm>
            <a:off x="0" y="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calculer 40 % d’un nombre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le multiplie par 0,4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ensées 6"/>
          <p:cNvSpPr/>
          <p:nvPr/>
        </p:nvSpPr>
        <p:spPr>
          <a:xfrm>
            <a:off x="1116000" y="3573360"/>
            <a:ext cx="691200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/100 = 0,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ZoneTexte 11"/>
          <p:cNvSpPr/>
          <p:nvPr/>
        </p:nvSpPr>
        <p:spPr>
          <a:xfrm rot="20728200">
            <a:off x="6150240" y="5597640"/>
            <a:ext cx="302400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tre 1"/>
          <p:cNvSpPr/>
          <p:nvPr/>
        </p:nvSpPr>
        <p:spPr>
          <a:xfrm>
            <a:off x="0" y="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déterminer un nombr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inué de 60 %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le multiplie par 0,60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ensées 6"/>
          <p:cNvSpPr/>
          <p:nvPr/>
        </p:nvSpPr>
        <p:spPr>
          <a:xfrm>
            <a:off x="1116000" y="3932280"/>
            <a:ext cx="691200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– 60/100 = 0,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11"/>
          <p:cNvSpPr/>
          <p:nvPr/>
        </p:nvSpPr>
        <p:spPr>
          <a:xfrm rot="20728200">
            <a:off x="6150240" y="5597640"/>
            <a:ext cx="302400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à coins arrondis 8"/>
          <p:cNvSpPr/>
          <p:nvPr/>
        </p:nvSpPr>
        <p:spPr>
          <a:xfrm>
            <a:off x="7524720" y="2708280"/>
            <a:ext cx="1368360" cy="6494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4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rganigramme : Processus 9"/>
          <p:cNvSpPr/>
          <p:nvPr/>
        </p:nvSpPr>
        <p:spPr>
          <a:xfrm flipV="1" rot="20096400">
            <a:off x="6176880" y="3048480"/>
            <a:ext cx="1281240" cy="46080"/>
          </a:xfrm>
          <a:prstGeom prst="flowChartProcess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itre 1"/>
          <p:cNvSpPr/>
          <p:nvPr/>
        </p:nvSpPr>
        <p:spPr>
          <a:xfrm>
            <a:off x="0" y="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ix passe de 20 € à 22 €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a augmenté de 2 %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ensées 4"/>
          <p:cNvSpPr/>
          <p:nvPr/>
        </p:nvSpPr>
        <p:spPr>
          <a:xfrm>
            <a:off x="324000" y="3573360"/>
            <a:ext cx="856908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augmentation est de 2 € pour 20 €, soit 10 € pour 100 €, c’est-à-dire 10 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11"/>
          <p:cNvSpPr/>
          <p:nvPr/>
        </p:nvSpPr>
        <p:spPr>
          <a:xfrm rot="20728200">
            <a:off x="6150240" y="5597640"/>
            <a:ext cx="302400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à coins arrondis 8"/>
          <p:cNvSpPr/>
          <p:nvPr/>
        </p:nvSpPr>
        <p:spPr>
          <a:xfrm>
            <a:off x="7380360" y="2421000"/>
            <a:ext cx="1584360" cy="647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 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rganigramme : Processus 9"/>
          <p:cNvSpPr/>
          <p:nvPr/>
        </p:nvSpPr>
        <p:spPr>
          <a:xfrm flipV="1" rot="20096400">
            <a:off x="5889240" y="2761200"/>
            <a:ext cx="1279080" cy="46080"/>
          </a:xfrm>
          <a:prstGeom prst="flowChartProcess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3" presetSubtype="1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3" presetSubtype="1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tre 1"/>
          <p:cNvSpPr/>
          <p:nvPr/>
        </p:nvSpPr>
        <p:spPr>
          <a:xfrm>
            <a:off x="0" y="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ix passe de 25 € à 75 €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a augmenté de 200 %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oneTexte 11"/>
          <p:cNvSpPr/>
          <p:nvPr/>
        </p:nvSpPr>
        <p:spPr>
          <a:xfrm rot="20728200">
            <a:off x="6150240" y="5597640"/>
            <a:ext cx="302400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ensées 6"/>
          <p:cNvSpPr/>
          <p:nvPr/>
        </p:nvSpPr>
        <p:spPr>
          <a:xfrm>
            <a:off x="179280" y="3573360"/>
            <a:ext cx="878544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augmentation est de 50 € pour 25 €, soit 200 € pour 100 €, c’est-à-dire 200 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42c8"/>
                </a:solidFill>
                <a:latin typeface="Georgia"/>
              </a:rPr>
              <a:t>Répondre par </a:t>
            </a:r>
            <a:br>
              <a:rPr sz="8000"/>
            </a:br>
            <a:r>
              <a:rPr b="0" lang="fr-FR" sz="8000" spc="-1" strike="noStrike">
                <a:solidFill>
                  <a:srgbClr val="0042c8"/>
                </a:solidFill>
                <a:latin typeface="Georgia"/>
              </a:rPr>
              <a:t>VRAI ou FAUX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itre 1"/>
          <p:cNvSpPr/>
          <p:nvPr/>
        </p:nvSpPr>
        <p:spPr>
          <a:xfrm>
            <a:off x="0" y="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durée passe de 4 h à 5 h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e a augmenté de 25 %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ZoneTexte 11"/>
          <p:cNvSpPr/>
          <p:nvPr/>
        </p:nvSpPr>
        <p:spPr>
          <a:xfrm rot="20728200">
            <a:off x="6150240" y="5597640"/>
            <a:ext cx="302400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ensées 6"/>
          <p:cNvSpPr/>
          <p:nvPr/>
        </p:nvSpPr>
        <p:spPr>
          <a:xfrm>
            <a:off x="324000" y="3573360"/>
            <a:ext cx="856908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augmentation est de 1 h pour 4 h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it 25 h pour 100 h, c’est-à-dire 25 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itre 1"/>
          <p:cNvSpPr/>
          <p:nvPr/>
        </p:nvSpPr>
        <p:spPr>
          <a:xfrm>
            <a:off x="0" y="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durée passe de 400 s à 350 s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e a diminué de 12,5 %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oneTexte 11"/>
          <p:cNvSpPr/>
          <p:nvPr/>
        </p:nvSpPr>
        <p:spPr>
          <a:xfrm rot="20728200">
            <a:off x="6150240" y="5597640"/>
            <a:ext cx="302400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ensées 6"/>
          <p:cNvSpPr/>
          <p:nvPr/>
        </p:nvSpPr>
        <p:spPr>
          <a:xfrm>
            <a:off x="144360" y="3573360"/>
            <a:ext cx="882036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diminution est de 50 s pour 400 s, soit 12,5 s pour 100 s, c’est-à-dire 12,5 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itre 1"/>
          <p:cNvSpPr/>
          <p:nvPr/>
        </p:nvSpPr>
        <p:spPr>
          <a:xfrm>
            <a:off x="0" y="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longueur a été divisée par 4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e a diminué de 25 %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ensées 6"/>
          <p:cNvSpPr/>
          <p:nvPr/>
        </p:nvSpPr>
        <p:spPr>
          <a:xfrm>
            <a:off x="36360" y="3573360"/>
            <a:ext cx="907272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longueur est passée de 100 m à 25 m, soit une diminution de 75 m pour 100 m, c’est-à-dire 75 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oneTexte 11"/>
          <p:cNvSpPr/>
          <p:nvPr/>
        </p:nvSpPr>
        <p:spPr>
          <a:xfrm rot="20728200">
            <a:off x="6150240" y="5597640"/>
            <a:ext cx="302400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à coins arrondis 13"/>
          <p:cNvSpPr/>
          <p:nvPr/>
        </p:nvSpPr>
        <p:spPr>
          <a:xfrm>
            <a:off x="7380360" y="2421000"/>
            <a:ext cx="1584360" cy="647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5 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rganigramme : Processus 14"/>
          <p:cNvSpPr/>
          <p:nvPr/>
        </p:nvSpPr>
        <p:spPr>
          <a:xfrm flipV="1" rot="20096400">
            <a:off x="5889240" y="2761200"/>
            <a:ext cx="1279080" cy="46080"/>
          </a:xfrm>
          <a:prstGeom prst="flowChartProcess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3" presetSubtype="1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itre 1"/>
          <p:cNvSpPr/>
          <p:nvPr/>
        </p:nvSpPr>
        <p:spPr>
          <a:xfrm>
            <a:off x="0" y="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longueur a été multipliée par 4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e a augmenté de 300 %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ZoneTexte 11"/>
          <p:cNvSpPr/>
          <p:nvPr/>
        </p:nvSpPr>
        <p:spPr>
          <a:xfrm rot="20728200">
            <a:off x="6150240" y="5597640"/>
            <a:ext cx="302400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ensées 7"/>
          <p:cNvSpPr/>
          <p:nvPr/>
        </p:nvSpPr>
        <p:spPr>
          <a:xfrm>
            <a:off x="36360" y="3573360"/>
            <a:ext cx="907272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longueur est passée de 100 m à 400 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it une augmentation de 300 m pour 100 m, c’est-à-dire 30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calculer 25 % d’un nombre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le multiplie par 1,25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déterminer un nombre augmenté de 10 %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le multiplie par 1,010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calculer 40 % d’un nombre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le multiplie par 0,4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déterminer un nombr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inué de 60 %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le multiplie par 0,60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ix passe de 20 € à 22 €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a augmenté de 2 %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ix passe de 25 € à 75 €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a augmenté de 200 %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durée passe de 4 h à 5 h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e a augmenté de 25 %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SEM</cp:lastModifiedBy>
  <dcterms:modified xsi:type="dcterms:W3CDTF">2014-06-29T15:00:23Z</dcterms:modified>
  <cp:revision>218</cp:revision>
  <dc:subject/>
  <dc:title>Diapositive 0</dc:title>
</cp:coreProperties>
</file>