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9E1-93EC-4630-97DA-6F20F1F5BD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707A-E44C-4FE6-9A5F-2079246282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255-AB59-4EA9-96DC-CCA97D8D11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B0A-8D4B-4AE5-B63E-C5014CC5C9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014-4D61-444D-982C-20FF0E9A90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7F64-3C19-42BA-8258-B0E366A6C3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64B5-3A04-4632-A941-4A29A78E67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C343-5BD4-4DBD-81F7-3B8BBE994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012-6603-48C8-B753-7AA9D76F9E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70F2-1EA0-4254-98CF-FBBDF7C527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D83A-4C1E-4B4E-8234-14F2729E41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6DF-7D5D-4843-A217-B3ED506F61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DFD4-F2DB-450F-8999-7A1871DFC0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28FA-CB2B-4555-8AAB-61B275F465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455-3158-4B0C-97BC-A265081657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FBC2-8865-4A4A-A513-4F6F1C574A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41A5-F44B-4EF5-A41E-1F244C0CB4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1C82-4FAB-4DAD-8A61-07EAE463EA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882-232D-4D41-AFBA-29A055BE1B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E1E-1F1B-44F8-ACB5-4E19972BAB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A900-A799-47BF-9973-9A69908C47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BE1-51BF-4914-987F-4A3DB1649B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C16-FCBA-4D76-9936-752729249D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4A1-3B17-4BD3-B90C-7FA326B32C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803-4853-4EE3-917C-E133F71FF1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DB0-2765-4A3F-9D1D-D61A60C706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8F8-BDFE-4A05-BBC0-1794244F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D85-C707-4BAA-A9C3-FF79DF27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202-903E-4A2F-B463-8267124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2BF-69B3-458C-A559-6ECF8E03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3D7-175C-48F0-9B5E-2A6F9CA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9A5-135E-43CE-8D6D-FC27D31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DCF-EA4D-4A8C-A436-0B0BBEA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389-F620-4D6F-9C4A-36FA6A2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CD-BB19-4F95-AFD6-63133ABE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902-73C6-4AC6-A50D-3496CFB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145-F622-4BE3-B6F5-8C400D14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85D-6099-4AED-8A23-1CCF0D0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0F4-2BF4-422E-91AD-34EA9166A3FF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DE44-5F00-41C4-AB14-0F8C446F86BD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7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8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8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8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ompléter par le nombre qui convient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0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0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7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7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2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2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0,1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0,1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3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2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2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49Z</dcterms:modified>
  <cp:revision>212</cp:revision>
  <dc:subject/>
  <dc:title>Diapositive 0</dc:title>
</cp:coreProperties>
</file>