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C20B-3C59-4B33-B57B-FB51BDAC6B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9CA7-8F43-44E9-99C7-44D4EF0A69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CA3D-2A22-48EE-A66E-AC61C12A01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C6D8-0426-4694-8D3C-8D51DD3519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EA9D-8B45-4AFA-8BB3-52CC7020ED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F4C5-71EB-4811-A7BB-C2BB11EDF4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E653-F80E-4D4C-B682-D6533AA8E5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BD8A-F485-4EE9-9025-721A645570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F8CA-E8EC-47E7-A005-912B1B2251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CAB5-39BD-4930-AD2B-59EBEC1E5A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E65A-0B05-4795-85D9-C0F48F4C8E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BD49-3D48-43E9-9E40-52A34ED5CF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6ED2-ECE1-4E63-BBFF-F128FD943B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F6E7-D34C-4240-AD5B-3B3783686D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DA5A-C079-4401-A4DA-A56FD58A93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6998-B8A4-4798-BBC3-909CD47303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FD05-9675-4843-9331-686416C6CB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C112-B3A0-49AE-8DE3-917570CE42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7C45-D8FE-4B33-9997-B4377256E9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219A-9C4E-47DA-97E4-EC7B383D37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B030-1A53-4846-AAC0-AE2CF1F5E7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F443-D460-48E5-83B4-DFD44C1A9E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B91B-17AE-429B-8A11-BDD9E26C15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84BE-B1EF-4C95-BFFA-45E884CD49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DB81-ABF1-4A52-919F-0CDD1E8B28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DCDA-6168-4433-8439-11FF1D88B1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0D4-CA6D-42AD-B1BA-7143FF39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B11-B04B-4E0F-8E4D-97A61F2A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8F2-AD7C-4F0C-83AA-6790D03C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85B-76CB-4C38-9E95-8C5FEBCD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92C-7289-42EE-B0C2-2936BE50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939-1CAE-4136-862E-26D7293E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7D0-F4EF-4678-807D-01C46102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F86-CE83-4888-8ADB-41E66614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AB8-8103-4F90-8509-EF499FF3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F1A-DC44-4768-B2A6-B0549BCB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4E5-BFA8-43A2-A013-B25886D2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C60-6A5E-463A-B275-33410A85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94EF-F9B8-4CB2-AF06-3E2E7ED28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DÉVELOPPÉE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FACTORISÉE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ÉRIE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7920" y="5013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-71280" y="925560"/>
                <a:ext cx="7980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-71280" y="1992240"/>
                <a:ext cx="902952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2478240" y="5203800"/>
                <a:ext cx="34477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t 1"/>
              <p:cNvSpPr txBox="1"/>
              <p:nvPr/>
            </p:nvSpPr>
            <p:spPr>
              <a:xfrm>
                <a:off x="0" y="4005360"/>
                <a:ext cx="8126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19080" y="1171440"/>
                <a:ext cx="4552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34920" y="2349360"/>
                <a:ext cx="900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2637000" y="5000760"/>
                <a:ext cx="4006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t 2"/>
              <p:cNvSpPr txBox="1"/>
              <p:nvPr/>
            </p:nvSpPr>
            <p:spPr>
              <a:xfrm>
                <a:off x="4643280" y="1009800"/>
                <a:ext cx="4415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t 3"/>
              <p:cNvSpPr txBox="1"/>
              <p:nvPr/>
            </p:nvSpPr>
            <p:spPr>
              <a:xfrm>
                <a:off x="-71280" y="3500280"/>
                <a:ext cx="69912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2428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2922480" y="5095800"/>
                <a:ext cx="34340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t 3"/>
              <p:cNvSpPr txBox="1"/>
              <p:nvPr/>
            </p:nvSpPr>
            <p:spPr>
              <a:xfrm>
                <a:off x="19080" y="1171440"/>
                <a:ext cx="4552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t 4"/>
              <p:cNvSpPr txBox="1"/>
              <p:nvPr/>
            </p:nvSpPr>
            <p:spPr>
              <a:xfrm>
                <a:off x="4643280" y="1009800"/>
                <a:ext cx="4415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t 5"/>
              <p:cNvSpPr txBox="1"/>
              <p:nvPr/>
            </p:nvSpPr>
            <p:spPr>
              <a:xfrm>
                <a:off x="34920" y="2349360"/>
                <a:ext cx="900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t 2"/>
              <p:cNvSpPr txBox="1"/>
              <p:nvPr/>
            </p:nvSpPr>
            <p:spPr>
              <a:xfrm>
                <a:off x="-71280" y="3500280"/>
                <a:ext cx="69912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e proposition de correction en utilisant la forme la plus adaptée à chaque calcu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1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28440" y="1042920"/>
                <a:ext cx="865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0" y="2257560"/>
                <a:ext cx="818676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4678200" y="4902120"/>
                <a:ext cx="19288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t 1"/>
              <p:cNvSpPr txBox="1"/>
              <p:nvPr/>
            </p:nvSpPr>
            <p:spPr>
              <a:xfrm>
                <a:off x="108000" y="3716280"/>
                <a:ext cx="8136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6"/>
              <p:cNvSpPr txBox="1"/>
              <p:nvPr/>
            </p:nvSpPr>
            <p:spPr>
              <a:xfrm>
                <a:off x="28440" y="1042920"/>
                <a:ext cx="865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-44280" y="2257560"/>
                <a:ext cx="81882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" name="ZoneTexte 9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4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5"/>
              <p:cNvSpPr txBox="1"/>
              <p:nvPr/>
            </p:nvSpPr>
            <p:spPr>
              <a:xfrm>
                <a:off x="4359240" y="4932360"/>
                <a:ext cx="2357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t 1"/>
              <p:cNvSpPr txBox="1"/>
              <p:nvPr/>
            </p:nvSpPr>
            <p:spPr>
              <a:xfrm>
                <a:off x="108000" y="3716280"/>
                <a:ext cx="8136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-71280" y="2214720"/>
                <a:ext cx="723708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ZoneTexte 9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0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4537080" y="4932360"/>
                <a:ext cx="20001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t 1"/>
              <p:cNvSpPr txBox="1"/>
              <p:nvPr/>
            </p:nvSpPr>
            <p:spPr>
              <a:xfrm>
                <a:off x="0" y="1197000"/>
                <a:ext cx="9107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Rectangle 1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t 3"/>
              <p:cNvSpPr txBox="1"/>
              <p:nvPr/>
            </p:nvSpPr>
            <p:spPr>
              <a:xfrm>
                <a:off x="0" y="3500280"/>
                <a:ext cx="824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-71280" y="2214720"/>
                <a:ext cx="723708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" name="ZoneTexte 11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2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4716360" y="4902120"/>
                <a:ext cx="20005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t 1"/>
              <p:cNvSpPr txBox="1"/>
              <p:nvPr/>
            </p:nvSpPr>
            <p:spPr>
              <a:xfrm>
                <a:off x="0" y="1197000"/>
                <a:ext cx="9107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t 2"/>
              <p:cNvSpPr txBox="1"/>
              <p:nvPr/>
            </p:nvSpPr>
            <p:spPr>
              <a:xfrm>
                <a:off x="0" y="3500280"/>
                <a:ext cx="824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-71280" y="291960"/>
                <a:ext cx="835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5"/>
              <p:cNvSpPr txBox="1"/>
              <p:nvPr/>
            </p:nvSpPr>
            <p:spPr>
              <a:xfrm>
                <a:off x="-96840" y="1992240"/>
                <a:ext cx="91868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746280" y="5203800"/>
                <a:ext cx="33382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4214880" y="4978440"/>
                <a:ext cx="2786040" cy="18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t 1"/>
              <p:cNvSpPr txBox="1"/>
              <p:nvPr/>
            </p:nvSpPr>
            <p:spPr>
              <a:xfrm>
                <a:off x="-3240" y="3789360"/>
                <a:ext cx="82472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Dans chaque cas, les 3 expressions sont égales. Calculer la valeur numérique pour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 donné </a:t>
            </a:r>
            <a:r>
              <a:rPr b="1" lang="fr-FR" sz="5400" spc="-1" strike="noStrike">
                <a:solidFill>
                  <a:srgbClr val="000000"/>
                </a:solidFill>
                <a:latin typeface="Times New Roman"/>
              </a:rPr>
              <a:t>en choisissant la forme de l’expression la plus adapté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-71280" y="291960"/>
                <a:ext cx="835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-96840" y="1992240"/>
                <a:ext cx="91868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1019160" y="5232240"/>
                <a:ext cx="3338640" cy="15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4700520" y="5462640"/>
                <a:ext cx="18147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t 1"/>
              <p:cNvSpPr txBox="1"/>
              <p:nvPr/>
            </p:nvSpPr>
            <p:spPr>
              <a:xfrm>
                <a:off x="-3240" y="3789360"/>
                <a:ext cx="82472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6"/>
              <p:cNvSpPr txBox="1"/>
              <p:nvPr/>
            </p:nvSpPr>
            <p:spPr>
              <a:xfrm>
                <a:off x="-71280" y="925560"/>
                <a:ext cx="7980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-71280" y="1992240"/>
                <a:ext cx="902952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7"/>
              <p:cNvSpPr txBox="1"/>
              <p:nvPr/>
            </p:nvSpPr>
            <p:spPr>
              <a:xfrm>
                <a:off x="1071720" y="5160960"/>
                <a:ext cx="33368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4859280" y="5373720"/>
                <a:ext cx="2268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t 1"/>
              <p:cNvSpPr txBox="1"/>
              <p:nvPr/>
            </p:nvSpPr>
            <p:spPr>
              <a:xfrm>
                <a:off x="0" y="4005360"/>
                <a:ext cx="8126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-71280" y="925560"/>
                <a:ext cx="7980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-71280" y="1992240"/>
                <a:ext cx="902952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7"/>
              <p:cNvSpPr txBox="1"/>
              <p:nvPr/>
            </p:nvSpPr>
            <p:spPr>
              <a:xfrm>
                <a:off x="857160" y="5203800"/>
                <a:ext cx="36705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5025960" y="5462640"/>
                <a:ext cx="18795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t 1"/>
              <p:cNvSpPr txBox="1"/>
              <p:nvPr/>
            </p:nvSpPr>
            <p:spPr>
              <a:xfrm>
                <a:off x="0" y="4005360"/>
                <a:ext cx="8126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571680" y="5222880"/>
                <a:ext cx="41335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4908600" y="5375160"/>
                <a:ext cx="18781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t 1"/>
              <p:cNvSpPr txBox="1"/>
              <p:nvPr/>
            </p:nvSpPr>
            <p:spPr>
              <a:xfrm>
                <a:off x="19080" y="1171440"/>
                <a:ext cx="4552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t 2"/>
              <p:cNvSpPr txBox="1"/>
              <p:nvPr/>
            </p:nvSpPr>
            <p:spPr>
              <a:xfrm>
                <a:off x="4643280" y="1009800"/>
                <a:ext cx="4415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t 3"/>
              <p:cNvSpPr txBox="1"/>
              <p:nvPr/>
            </p:nvSpPr>
            <p:spPr>
              <a:xfrm>
                <a:off x="34920" y="2349360"/>
                <a:ext cx="900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Rectangle 2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t 5"/>
              <p:cNvSpPr txBox="1"/>
              <p:nvPr/>
            </p:nvSpPr>
            <p:spPr>
              <a:xfrm>
                <a:off x="14400" y="3573360"/>
                <a:ext cx="70056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2428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5"/>
              <p:cNvSpPr txBox="1"/>
              <p:nvPr/>
            </p:nvSpPr>
            <p:spPr>
              <a:xfrm>
                <a:off x="1285920" y="5270400"/>
                <a:ext cx="362412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6"/>
              <p:cNvSpPr txBox="1"/>
              <p:nvPr/>
            </p:nvSpPr>
            <p:spPr>
              <a:xfrm>
                <a:off x="4971960" y="5297400"/>
                <a:ext cx="18147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t 1"/>
              <p:cNvSpPr txBox="1"/>
              <p:nvPr/>
            </p:nvSpPr>
            <p:spPr>
              <a:xfrm>
                <a:off x="19080" y="1171440"/>
                <a:ext cx="4552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t 2"/>
              <p:cNvSpPr txBox="1"/>
              <p:nvPr/>
            </p:nvSpPr>
            <p:spPr>
              <a:xfrm>
                <a:off x="4643280" y="1009800"/>
                <a:ext cx="4415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t 3"/>
              <p:cNvSpPr txBox="1"/>
              <p:nvPr/>
            </p:nvSpPr>
            <p:spPr>
              <a:xfrm>
                <a:off x="34920" y="2349360"/>
                <a:ext cx="900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t 4"/>
              <p:cNvSpPr txBox="1"/>
              <p:nvPr/>
            </p:nvSpPr>
            <p:spPr>
              <a:xfrm>
                <a:off x="14400" y="3573360"/>
                <a:ext cx="70056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</a:t>
            </a: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8440" y="1042920"/>
                <a:ext cx="865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9"/>
              <p:cNvSpPr txBox="1"/>
              <p:nvPr/>
            </p:nvSpPr>
            <p:spPr>
              <a:xfrm>
                <a:off x="0" y="2257560"/>
                <a:ext cx="818676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t 2"/>
              <p:cNvSpPr txBox="1"/>
              <p:nvPr/>
            </p:nvSpPr>
            <p:spPr>
              <a:xfrm>
                <a:off x="108000" y="3716280"/>
                <a:ext cx="8136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8440" y="1042920"/>
                <a:ext cx="865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-15840" y="2257560"/>
                <a:ext cx="81882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t 1"/>
              <p:cNvSpPr txBox="1"/>
              <p:nvPr/>
            </p:nvSpPr>
            <p:spPr>
              <a:xfrm>
                <a:off x="108000" y="3716280"/>
                <a:ext cx="8136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2"/>
          <p:cNvSpPr/>
          <p:nvPr/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0" y="1197000"/>
                <a:ext cx="9107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-71280" y="2214720"/>
                <a:ext cx="723708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t 1"/>
              <p:cNvSpPr txBox="1"/>
              <p:nvPr/>
            </p:nvSpPr>
            <p:spPr>
              <a:xfrm>
                <a:off x="0" y="3500280"/>
                <a:ext cx="824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Rectangle 2"/>
          <p:cNvSpPr/>
          <p:nvPr/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</a:t>
            </a: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-71280" y="2214720"/>
                <a:ext cx="723708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t 1"/>
              <p:cNvSpPr txBox="1"/>
              <p:nvPr/>
            </p:nvSpPr>
            <p:spPr>
              <a:xfrm>
                <a:off x="1440" y="1197000"/>
                <a:ext cx="9107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t 2"/>
              <p:cNvSpPr txBox="1"/>
              <p:nvPr/>
            </p:nvSpPr>
            <p:spPr>
              <a:xfrm>
                <a:off x="0" y="3500280"/>
                <a:ext cx="824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2"/>
          <p:cNvSpPr/>
          <p:nvPr/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-71280" y="291960"/>
                <a:ext cx="835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-96840" y="1992240"/>
                <a:ext cx="91868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2643120" y="5176800"/>
                <a:ext cx="311616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Rectangle 1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t 6"/>
              <p:cNvSpPr txBox="1"/>
              <p:nvPr/>
            </p:nvSpPr>
            <p:spPr>
              <a:xfrm>
                <a:off x="-3240" y="3789360"/>
                <a:ext cx="82472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-71280" y="291960"/>
                <a:ext cx="835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-96840" y="1992240"/>
                <a:ext cx="91868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7"/>
              <p:cNvSpPr txBox="1"/>
              <p:nvPr/>
            </p:nvSpPr>
            <p:spPr>
              <a:xfrm>
                <a:off x="2643120" y="5176800"/>
                <a:ext cx="311472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t 1"/>
              <p:cNvSpPr txBox="1"/>
              <p:nvPr/>
            </p:nvSpPr>
            <p:spPr>
              <a:xfrm>
                <a:off x="-3240" y="3789360"/>
                <a:ext cx="82472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-71280" y="925560"/>
                <a:ext cx="7980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-71280" y="1992240"/>
                <a:ext cx="902952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2643120" y="5176800"/>
                <a:ext cx="311472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Rectangle 1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t 6"/>
              <p:cNvSpPr txBox="1"/>
              <p:nvPr/>
            </p:nvSpPr>
            <p:spPr>
              <a:xfrm>
                <a:off x="0" y="4005360"/>
                <a:ext cx="8126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56:17Z</dcterms:created>
  <dc:creator>ms</dc:creator>
  <dc:description/>
  <dc:language>en-US</dc:language>
  <cp:lastModifiedBy>auderi</cp:lastModifiedBy>
  <dcterms:modified xsi:type="dcterms:W3CDTF">2015-09-30T16:56:32Z</dcterms:modified>
  <cp:revision>38</cp:revision>
  <dc:subject/>
  <dc:title>S’agit-il d’une expression développée ? factorisée ?</dc:title>
</cp:coreProperties>
</file>