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2638-752A-49EF-B04D-93256C239B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4768-4553-47D7-976B-D1B0C528C2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1960-5039-479E-BB2D-AEC508C48A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D001-2238-45FF-A5B0-9B7C09570FD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59A0-6E08-43F8-877A-768E060BBE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75D9-2A36-4A4B-B41B-67C6616815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076C-5F9A-4A81-BB0F-835E237BA9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5F89-8A50-49CD-931F-491CEC1A70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8B19-693A-48AD-A5DC-7B04D61784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6654-7701-49B7-9B04-2E99A460BC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6DC0-E500-44AE-BD18-CF0EBD567CE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27DE-2CD6-4900-99C0-0F7187910C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393F-148B-47B3-B97B-6772D786F7C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16C6-A3A2-4576-9CC3-4A2E558C706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2472-E099-4322-B6C7-F83A126548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BF38-0754-4C66-AD5B-D2C2FCAB49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A5D9-8215-446C-B6BB-727CA5C3E79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363D-284D-4254-9AEB-4DA3F49EFD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FFB8-7F2A-4E08-AB28-437B880031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B218-1DD5-43F3-B53C-19F1CCEF46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E0CC-E92C-46BE-9FDC-D38EF2616B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545E-5195-46BF-A287-FD67FE54B6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4927-AE12-4088-B67F-8C53EC0EFC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96BB-785F-4896-A493-E3F9ED2F60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8A3C-4AE9-4C52-9E7A-69DB1B62B5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F08E-5C73-4269-B00C-3D508ADD40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0B59-1DC5-4A18-9DA5-DA64B6F3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B32-7BDB-484A-9B11-B74E88FB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775-ED39-4A43-AFFB-6075CE19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4B42-5FC8-4F5F-8CC6-51A14316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9F25-8484-4FB6-9397-192CF42B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EA7-009F-4B7D-A9F2-16DFDBD7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B04-5562-4F2A-9D2A-68DE4E58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F3C-4905-4DCD-8E8D-002F33AD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9373-6ABF-4A26-B0D9-5094D9AE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46D1-83DC-4B92-9C94-6F4D52DE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FBD9-FA55-4E13-8868-A7056F91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6938-125C-4F27-92CF-DE6FE18D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A72C-7637-4F30-81FB-1FC9290462A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ACF3-96FF-4808-B259-5E4A3327BB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PUISSANC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S 1 ET 1 B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rcRect l="0" t="47968" r="54039" b="31321"/>
          <a:stretch/>
        </p:blipFill>
        <p:spPr>
          <a:xfrm>
            <a:off x="539640" y="2700360"/>
            <a:ext cx="3486240" cy="1065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rcRect l="69505" t="33493" r="0" b="48335"/>
          <a:stretch/>
        </p:blipFill>
        <p:spPr>
          <a:xfrm>
            <a:off x="5651640" y="2700360"/>
            <a:ext cx="2313000" cy="93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rcRect l="55757" t="65463" r="0" b="16366"/>
          <a:stretch/>
        </p:blipFill>
        <p:spPr>
          <a:xfrm>
            <a:off x="611280" y="2700360"/>
            <a:ext cx="3355920" cy="93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2"/>
          <a:srcRect l="0" t="49661" r="82490" b="31321"/>
          <a:stretch/>
        </p:blipFill>
        <p:spPr>
          <a:xfrm>
            <a:off x="6227640" y="2700360"/>
            <a:ext cx="1328760" cy="97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rcRect l="0" t="16930" r="81726" b="61795"/>
          <a:stretch/>
        </p:blipFill>
        <p:spPr>
          <a:xfrm>
            <a:off x="1476360" y="2700360"/>
            <a:ext cx="1386000" cy="1095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"/>
          <p:cNvPicPr/>
          <p:nvPr/>
        </p:nvPicPr>
        <p:blipFill>
          <a:blip r:embed="rId2"/>
          <a:srcRect l="58812" t="32647" r="0" b="47771"/>
          <a:stretch/>
        </p:blipFill>
        <p:spPr>
          <a:xfrm>
            <a:off x="5292720" y="2700360"/>
            <a:ext cx="3122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rcRect l="70651" t="66027" r="0" b="15801"/>
          <a:stretch/>
        </p:blipFill>
        <p:spPr>
          <a:xfrm>
            <a:off x="1193760" y="2700360"/>
            <a:ext cx="2225880" cy="93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2"/>
          <a:srcRect l="0" t="47968" r="54420" b="32167"/>
          <a:stretch/>
        </p:blipFill>
        <p:spPr>
          <a:xfrm>
            <a:off x="5148360" y="2700360"/>
            <a:ext cx="3457440" cy="1022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2"/>
              <p:cNvSpPr txBox="1"/>
              <p:nvPr/>
            </p:nvSpPr>
            <p:spPr>
              <a:xfrm>
                <a:off x="1076400" y="2698920"/>
                <a:ext cx="234324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,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3"/>
              <p:cNvSpPr txBox="1"/>
              <p:nvPr/>
            </p:nvSpPr>
            <p:spPr>
              <a:xfrm>
                <a:off x="5630760" y="2698920"/>
                <a:ext cx="261324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,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9"/>
              <p:cNvSpPr txBox="1"/>
              <p:nvPr/>
            </p:nvSpPr>
            <p:spPr>
              <a:xfrm>
                <a:off x="5353200" y="3968640"/>
                <a:ext cx="29667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7</m:t>
                    </m:r>
                    <m:r>
                      <m:t xml:space="preserve"> 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5"/>
              <p:cNvSpPr txBox="1"/>
              <p:nvPr/>
            </p:nvSpPr>
            <p:spPr>
              <a:xfrm>
                <a:off x="704880" y="3968640"/>
                <a:ext cx="28987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"/>
              <p:cNvSpPr txBox="1"/>
              <p:nvPr/>
            </p:nvSpPr>
            <p:spPr>
              <a:xfrm>
                <a:off x="324000" y="2698920"/>
                <a:ext cx="39448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1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3"/>
              <p:cNvSpPr txBox="1"/>
              <p:nvPr/>
            </p:nvSpPr>
            <p:spPr>
              <a:xfrm>
                <a:off x="4859280" y="2698920"/>
                <a:ext cx="41212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9"/>
              <p:cNvSpPr txBox="1"/>
              <p:nvPr/>
            </p:nvSpPr>
            <p:spPr>
              <a:xfrm>
                <a:off x="6004080" y="3960720"/>
                <a:ext cx="16635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5"/>
              <p:cNvSpPr txBox="1"/>
              <p:nvPr/>
            </p:nvSpPr>
            <p:spPr>
              <a:xfrm>
                <a:off x="957240" y="3957480"/>
                <a:ext cx="23925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851040" y="2698920"/>
                <a:ext cx="292896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4859280" y="2698920"/>
                <a:ext cx="398772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4" name="Rectangle 11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9"/>
              <p:cNvSpPr txBox="1"/>
              <p:nvPr/>
            </p:nvSpPr>
            <p:spPr>
              <a:xfrm>
                <a:off x="5533920" y="3960720"/>
                <a:ext cx="26053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668160" y="3968640"/>
                <a:ext cx="29703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4</m:t>
                    </m:r>
                    <m:r>
                      <m:t xml:space="preserve"> 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324000" y="2698920"/>
                <a:ext cx="39448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2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3"/>
              <p:cNvSpPr txBox="1"/>
              <p:nvPr/>
            </p:nvSpPr>
            <p:spPr>
              <a:xfrm>
                <a:off x="5724360" y="2698920"/>
                <a:ext cx="247968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39"/>
              <p:cNvSpPr txBox="1"/>
              <p:nvPr/>
            </p:nvSpPr>
            <p:spPr>
              <a:xfrm>
                <a:off x="5389560" y="3968640"/>
                <a:ext cx="28940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 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5"/>
              <p:cNvSpPr txBox="1"/>
              <p:nvPr/>
            </p:nvSpPr>
            <p:spPr>
              <a:xfrm>
                <a:off x="849240" y="3960720"/>
                <a:ext cx="26082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250920" y="2698920"/>
                <a:ext cx="41241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7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2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3"/>
              <p:cNvSpPr txBox="1"/>
              <p:nvPr/>
            </p:nvSpPr>
            <p:spPr>
              <a:xfrm>
                <a:off x="4948200" y="2698920"/>
                <a:ext cx="39448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5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39"/>
              <p:cNvSpPr txBox="1"/>
              <p:nvPr/>
            </p:nvSpPr>
            <p:spPr>
              <a:xfrm>
                <a:off x="5749920" y="3960720"/>
                <a:ext cx="21718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1392120" y="3957480"/>
                <a:ext cx="15224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5bd3"/>
                </a:solidFill>
                <a:latin typeface="Georgia"/>
                <a:ea typeface="Times New Roman"/>
              </a:rPr>
              <a:t>Donner l’écriture décimale des nombres suivant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"/>
          <p:cNvPicPr/>
          <p:nvPr/>
        </p:nvPicPr>
        <p:blipFill>
          <a:blip r:embed="rId1"/>
          <a:srcRect l="63013" t="66394" r="0" b="18030"/>
          <a:stretch/>
        </p:blipFill>
        <p:spPr>
          <a:xfrm>
            <a:off x="900000" y="2700360"/>
            <a:ext cx="2805120" cy="801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2"/>
          <a:srcRect l="65114" t="66591" r="0" b="18341"/>
          <a:stretch/>
        </p:blipFill>
        <p:spPr>
          <a:xfrm>
            <a:off x="5580000" y="2700360"/>
            <a:ext cx="2646360" cy="774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3" name="Object 39"/>
              <p:cNvSpPr txBox="1"/>
              <p:nvPr/>
            </p:nvSpPr>
            <p:spPr>
              <a:xfrm>
                <a:off x="4992840" y="3968640"/>
                <a:ext cx="36907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3"/>
              <p:cNvSpPr txBox="1"/>
              <p:nvPr/>
            </p:nvSpPr>
            <p:spPr>
              <a:xfrm>
                <a:off x="957240" y="3968640"/>
                <a:ext cx="23925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rcRect l="0" t="47968" r="54039" b="31321"/>
          <a:stretch/>
        </p:blipFill>
        <p:spPr>
          <a:xfrm>
            <a:off x="539640" y="2700360"/>
            <a:ext cx="3486240" cy="1065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"/>
          <p:cNvPicPr/>
          <p:nvPr/>
        </p:nvPicPr>
        <p:blipFill>
          <a:blip r:embed="rId2"/>
          <a:srcRect l="69505" t="33493" r="0" b="48335"/>
          <a:stretch/>
        </p:blipFill>
        <p:spPr>
          <a:xfrm>
            <a:off x="5651640" y="2700360"/>
            <a:ext cx="2313000" cy="93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0" name="Object 39"/>
              <p:cNvSpPr txBox="1"/>
              <p:nvPr/>
            </p:nvSpPr>
            <p:spPr>
              <a:xfrm>
                <a:off x="5967360" y="3960720"/>
                <a:ext cx="17366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379440" y="3968640"/>
                <a:ext cx="31129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1"/>
          <a:srcRect l="55757" t="65463" r="0" b="16366"/>
          <a:stretch/>
        </p:blipFill>
        <p:spPr>
          <a:xfrm>
            <a:off x="611280" y="2637000"/>
            <a:ext cx="3355920" cy="934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"/>
          <p:cNvPicPr/>
          <p:nvPr/>
        </p:nvPicPr>
        <p:blipFill>
          <a:blip r:embed="rId2"/>
          <a:srcRect l="0" t="49661" r="82490" b="31321"/>
          <a:stretch/>
        </p:blipFill>
        <p:spPr>
          <a:xfrm>
            <a:off x="6227640" y="2637000"/>
            <a:ext cx="1328760" cy="97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297000" y="3897360"/>
                <a:ext cx="42037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6</m:t>
                    </m:r>
                    <m:r>
                      <m:t xml:space="preserve"> 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39"/>
              <p:cNvSpPr txBox="1"/>
              <p:nvPr/>
            </p:nvSpPr>
            <p:spPr>
              <a:xfrm>
                <a:off x="5329080" y="3500280"/>
                <a:ext cx="3184560" cy="17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rcRect l="0" t="16930" r="81726" b="61795"/>
          <a:stretch/>
        </p:blipFill>
        <p:spPr>
          <a:xfrm>
            <a:off x="1476360" y="2421000"/>
            <a:ext cx="1386000" cy="1095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"/>
          <p:cNvPicPr/>
          <p:nvPr/>
        </p:nvPicPr>
        <p:blipFill>
          <a:blip r:embed="rId2"/>
          <a:srcRect l="58812" t="32647" r="0" b="47771"/>
          <a:stretch/>
        </p:blipFill>
        <p:spPr>
          <a:xfrm>
            <a:off x="5292720" y="2492280"/>
            <a:ext cx="3122640" cy="100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4" name="Object 39"/>
              <p:cNvSpPr txBox="1"/>
              <p:nvPr/>
            </p:nvSpPr>
            <p:spPr>
              <a:xfrm>
                <a:off x="5205240" y="3930480"/>
                <a:ext cx="33274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514440" y="3471840"/>
                <a:ext cx="3625920" cy="17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rcRect l="70651" t="66027" r="0" b="15801"/>
          <a:stretch/>
        </p:blipFill>
        <p:spPr>
          <a:xfrm>
            <a:off x="1193760" y="2700360"/>
            <a:ext cx="2225880" cy="934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"/>
          <p:cNvPicPr/>
          <p:nvPr/>
        </p:nvPicPr>
        <p:blipFill>
          <a:blip r:embed="rId2"/>
          <a:srcRect l="0" t="47968" r="54420" b="32167"/>
          <a:stretch/>
        </p:blipFill>
        <p:spPr>
          <a:xfrm>
            <a:off x="5148360" y="2637000"/>
            <a:ext cx="3457440" cy="102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1" name="Object 39"/>
              <p:cNvSpPr txBox="1"/>
              <p:nvPr/>
            </p:nvSpPr>
            <p:spPr>
              <a:xfrm>
                <a:off x="5425920" y="3960720"/>
                <a:ext cx="23860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3"/>
              <p:cNvSpPr txBox="1"/>
              <p:nvPr/>
            </p:nvSpPr>
            <p:spPr>
              <a:xfrm>
                <a:off x="1282680" y="3927600"/>
                <a:ext cx="17398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 : deux exemp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39"/>
              <p:cNvSpPr txBox="1"/>
              <p:nvPr/>
            </p:nvSpPr>
            <p:spPr>
              <a:xfrm>
                <a:off x="995400" y="1241280"/>
                <a:ext cx="287820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3"/>
              <p:cNvSpPr txBox="1"/>
              <p:nvPr/>
            </p:nvSpPr>
            <p:spPr>
              <a:xfrm>
                <a:off x="2994120" y="2055960"/>
                <a:ext cx="39178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Titre 1"/>
          <p:cNvSpPr/>
          <p:nvPr/>
        </p:nvSpPr>
        <p:spPr>
          <a:xfrm>
            <a:off x="0" y="1125360"/>
            <a:ext cx="9144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1187280" y="4005360"/>
            <a:ext cx="7705800" cy="2736720"/>
          </a:xfrm>
          <a:prstGeom prst="rect">
            <a:avLst/>
          </a:prstGeom>
          <a:noFill/>
          <a:ln w="25560">
            <a:solidFill>
              <a:srgbClr val="0070c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250920" y="1197000"/>
            <a:ext cx="7705800" cy="2736720"/>
          </a:xfrm>
          <a:prstGeom prst="rect">
            <a:avLst/>
          </a:prstGeom>
          <a:noFill/>
          <a:ln w="25560">
            <a:solidFill>
              <a:srgbClr val="7030a0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"/>
          <p:cNvPicPr/>
          <p:nvPr/>
        </p:nvPicPr>
        <p:blipFill>
          <a:blip r:embed="rId1">
            <a:alphaModFix amt="59000"/>
          </a:blip>
          <a:srcRect l="61462" t="61298" r="0" b="16164"/>
          <a:stretch/>
        </p:blipFill>
        <p:spPr>
          <a:xfrm>
            <a:off x="6012000" y="4076640"/>
            <a:ext cx="2447640" cy="97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2"/>
          <a:srcRect l="0" t="0" r="0" b="72581"/>
          <a:stretch/>
        </p:blipFill>
        <p:spPr>
          <a:xfrm>
            <a:off x="1957320" y="5445000"/>
            <a:ext cx="6205680" cy="115272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4"/>
          <p:cNvSpPr/>
          <p:nvPr/>
        </p:nvSpPr>
        <p:spPr>
          <a:xfrm>
            <a:off x="1264680" y="4076640"/>
            <a:ext cx="483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vec la calculatrice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1076400" y="2698920"/>
                <a:ext cx="234324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,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5630760" y="2698920"/>
                <a:ext cx="261324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,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7"/>
              <p:cNvSpPr txBox="1"/>
              <p:nvPr/>
            </p:nvSpPr>
            <p:spPr>
              <a:xfrm>
                <a:off x="324000" y="2698920"/>
                <a:ext cx="39448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2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0"/>
              <p:cNvSpPr txBox="1"/>
              <p:nvPr/>
            </p:nvSpPr>
            <p:spPr>
              <a:xfrm>
                <a:off x="4859280" y="2698920"/>
                <a:ext cx="41212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5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7"/>
              <p:cNvSpPr txBox="1"/>
              <p:nvPr/>
            </p:nvSpPr>
            <p:spPr>
              <a:xfrm>
                <a:off x="851040" y="2698920"/>
                <a:ext cx="292896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9"/>
              <p:cNvSpPr txBox="1"/>
              <p:nvPr/>
            </p:nvSpPr>
            <p:spPr>
              <a:xfrm>
                <a:off x="4859280" y="2698920"/>
                <a:ext cx="398772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3" name="Rectangle 11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7"/>
              <p:cNvSpPr txBox="1"/>
              <p:nvPr/>
            </p:nvSpPr>
            <p:spPr>
              <a:xfrm>
                <a:off x="324000" y="2698920"/>
                <a:ext cx="39448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9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0"/>
              <p:cNvSpPr txBox="1"/>
              <p:nvPr/>
            </p:nvSpPr>
            <p:spPr>
              <a:xfrm>
                <a:off x="5724360" y="2698920"/>
                <a:ext cx="247968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250920" y="2698920"/>
                <a:ext cx="41241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7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7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4948200" y="2698920"/>
                <a:ext cx="39448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rcRect l="63013" t="66394" r="0" b="18030"/>
          <a:stretch/>
        </p:blipFill>
        <p:spPr>
          <a:xfrm>
            <a:off x="900000" y="2700360"/>
            <a:ext cx="2805120" cy="801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2"/>
          <a:srcRect l="65114" t="66591" r="0" b="18341"/>
          <a:stretch/>
        </p:blipFill>
        <p:spPr>
          <a:xfrm>
            <a:off x="5580000" y="2700360"/>
            <a:ext cx="2646360" cy="774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1-11T14:42:58Z</dcterms:modified>
  <cp:revision>244</cp:revision>
  <dc:subject/>
  <dc:title>Diapositive 0</dc:title>
</cp:coreProperties>
</file>