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A5EB-3618-4388-9ABB-39DEB0EA48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1C1D-FEA4-4DBD-A0E6-7BFD61FF53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F885-F6F7-4310-9B02-DA9721BEAE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4208-98D1-40AA-8F56-D2490C914E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6CC7-2721-4131-B49E-F5F6042ADD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FD56-0E20-4148-8771-1674044697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8628-66F6-41EA-B82C-55AA13AEE8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3509-7B00-4930-8988-5D36192DEA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F7E6-A479-4EBA-A367-627187B20C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415E-DA43-42FB-B1B4-EEE7E09202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C917-A1B8-4552-91FC-CD3867B3CD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46D8-8117-46E4-A6BF-63C1C95C80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CD29-1FCD-454D-BB6F-1B009A17EB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87E5-F758-45E5-84AF-E169982B0F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A033-6C98-484D-A682-F0B0A02AC6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263E-F201-44A4-9A33-07E7FC626D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BF95-A66D-49FB-939F-876CD193B9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EF8D-0321-4772-8932-306F189E18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DA09-37A4-4C8B-BE38-36F2BA3ACE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868B-28BF-427A-8D25-FE04D4D8EB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8AE8-B41B-476D-9076-AC75DD3A57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60F5-FF3A-4E91-BB61-3D83EAE550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6C10-6D03-4B74-A703-E474F76F32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BDA1-70F1-44FD-9FF6-DBC3508EE3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830E-4FE6-4768-B2A4-9BDF15B03B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2410-421C-4182-A26A-A7C3A9384D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069-F9A0-4587-AE4A-BE093BCC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646-939F-46BD-A5AE-530366A4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581-8C5D-4EC6-9171-FED52B82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11F-2362-458B-837E-482FB07B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415D-0E5C-43B2-96AB-477C3229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83B-38A6-44C5-9418-FE5B6FD4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204-D949-4BB8-8198-681217B6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838-63FF-4CD5-9C6E-CD49004C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4D61-8D23-4F29-A499-D098D8AF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1BB-B61A-444D-B2AD-1EC114FE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AE4-397C-4349-AEFC-9B662E4C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D16-4B92-4296-9BEB-ACDA77F1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7513-E96D-4CD1-9A9A-7F339A6005D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D753-6236-43E2-BFE2-5519A8C34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OURCENTAG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90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0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95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12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100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96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105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25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10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30 € pour 300 €, soit 10 € pour 100 €</a:t>
            </a:r>
            <a:r>
              <a:rPr b="1" lang="fr-F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e 12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13" name="Rogner un rectangle avec un coin diagonal 13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Flèche droite 14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ogner un rectangle avec un coin diagonal 15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3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– 20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minution est de 40 € pour 200 €, soit 20 € pour 100 €</a:t>
            </a:r>
            <a:r>
              <a:rPr b="1" lang="fr-F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20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6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– 75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minution est de 66 € pour 88 €, soit 3/4 de mo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e 9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27" name="Rogner un rectangle avec un coin diagonal 10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3335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Flèche droite 11"/>
            <p:cNvSpPr/>
            <p:nvPr/>
          </p:nvSpPr>
          <p:spPr>
            <a:xfrm>
              <a:off x="3863160" y="2277360"/>
              <a:ext cx="1508040" cy="280440"/>
            </a:xfrm>
            <a:prstGeom prst="rightArrow">
              <a:avLst>
                <a:gd name="adj1" fmla="val 50000"/>
                <a:gd name="adj2" fmla="val 51309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ogner un rectangle avec un coin diagonal 12"/>
            <p:cNvSpPr/>
            <p:nvPr/>
          </p:nvSpPr>
          <p:spPr>
            <a:xfrm>
              <a:off x="5514120" y="1717200"/>
              <a:ext cx="22978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22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50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220 € pour 440 €, soit la moitié de pl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34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66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– 25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minution est de 40 € pour 160 €, soit 1/4 de mo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41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2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Georgia"/>
              </a:rPr>
              <a:t>Des étiquettes vont défiler  : elles donnent l’ancien prix barré et le nouveau prix après augmentation ou diminution.  </a:t>
            </a:r>
            <a:br>
              <a:rPr sz="4000"/>
            </a:br>
            <a:br>
              <a:rPr sz="4000"/>
            </a:br>
            <a:r>
              <a:rPr b="0" lang="fr-FR" sz="3200" spc="-1" strike="noStrike">
                <a:solidFill>
                  <a:srgbClr val="0042c8"/>
                </a:solidFill>
                <a:latin typeface="Georgia"/>
              </a:rPr>
              <a:t>Pour chaque étiquette, donner l’augmentation  ou la diminution en pourcentage sous la forme :  </a:t>
            </a:r>
            <a:br>
              <a:rPr sz="3200"/>
            </a:br>
            <a:r>
              <a:rPr b="0" lang="fr-FR" sz="3200" spc="-1" strike="noStrike">
                <a:solidFill>
                  <a:srgbClr val="0042c8"/>
                </a:solidFill>
                <a:latin typeface="Georgia"/>
              </a:rPr>
              <a:t>« + </a:t>
            </a:r>
            <a:r>
              <a:rPr b="0" i="1" lang="fr-FR" sz="3200" spc="-1" strike="noStrike">
                <a:solidFill>
                  <a:srgbClr val="0042c8"/>
                </a:solidFill>
                <a:latin typeface="Georgia"/>
              </a:rPr>
              <a:t>x </a:t>
            </a:r>
            <a:r>
              <a:rPr b="0" lang="fr-FR" sz="3200" spc="-1" strike="noStrike">
                <a:solidFill>
                  <a:srgbClr val="0042c8"/>
                </a:solidFill>
                <a:latin typeface="Georgia"/>
              </a:rPr>
              <a:t>% » ou « – </a:t>
            </a:r>
            <a:r>
              <a:rPr b="0" i="1" lang="fr-FR" sz="3200" spc="-1" strike="noStrike">
                <a:solidFill>
                  <a:srgbClr val="0042c8"/>
                </a:solidFill>
                <a:latin typeface="Georgia"/>
              </a:rPr>
              <a:t>x</a:t>
            </a:r>
            <a:r>
              <a:rPr b="0" lang="fr-FR" sz="3200" spc="-1" strike="noStrike">
                <a:solidFill>
                  <a:srgbClr val="0042c8"/>
                </a:solidFill>
                <a:latin typeface="Georgia"/>
              </a:rPr>
              <a:t> %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8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8 € pour 100 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48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08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25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60 € pour 240 €, soit 1/4 de pl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55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0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4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12 € pour 300 €, soit 4 € pour 100 €</a:t>
            </a:r>
            <a:r>
              <a:rPr b="1" lang="fr-F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62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12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– 1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minution est de 4 € pour 400 €, soit 1 € pour 100 €</a:t>
            </a:r>
            <a:r>
              <a:rPr b="1" lang="fr-F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69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96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100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125 € pour 125 €, soit un prix doubl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76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25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30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e 6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54" name="Rogner un rectangle avec un coin diagonal 3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Flèche droite 4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ogner un rectangle avec un coin diagonal 5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26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60 € pour 200 €, soit 30 € pour 100 €</a:t>
            </a:r>
            <a:r>
              <a:rPr b="1" lang="fr-F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e 3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60" name="Rogner un rectangle avec un coin diagonal 4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Flèche droite 5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ogner un rectangle avec un coin diagonal 6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3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65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6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70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3335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Flèche droite 6"/>
            <p:cNvSpPr/>
            <p:nvPr/>
          </p:nvSpPr>
          <p:spPr>
            <a:xfrm>
              <a:off x="3863160" y="3359520"/>
              <a:ext cx="1508040" cy="278640"/>
            </a:xfrm>
            <a:prstGeom prst="rightArrow">
              <a:avLst>
                <a:gd name="adj1" fmla="val 50000"/>
                <a:gd name="adj2" fmla="val 51415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ogner un rectangle avec un coin diagonal 7"/>
            <p:cNvSpPr/>
            <p:nvPr/>
          </p:nvSpPr>
          <p:spPr>
            <a:xfrm>
              <a:off x="5514120" y="2800440"/>
              <a:ext cx="22978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22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75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66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80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2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85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08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4:57:14Z</dcterms:modified>
  <cp:revision>212</cp:revision>
  <dc:subject/>
  <dc:title>Diapositive 0</dc:title>
</cp:coreProperties>
</file>