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2B11-D51F-449A-8F39-491A02B7D1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8BD-0101-4EEC-9FFF-B96CB3A839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A449-35EF-468E-8309-63EC6C08DA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2235-5CD4-4894-9288-13E9506264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6F2-4173-42D9-9E40-0E3D6E3733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9627-30CB-4172-9109-350873F7F2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D40-CEC0-453D-8477-EE29003DAE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C5E-5632-4267-AB09-C344466533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5E6F-2768-45A7-948E-149978F56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0F9D-ECF8-4B8E-BE14-E3525BEA16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6BC-700D-4276-BC58-B6EC1FFC1D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49D-762E-4CD9-9FE7-FD9B388CAC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A46-5719-40CE-979C-2FEB06CF1A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2946-CE20-49BF-8A6F-440543A85F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AB06-041C-457B-A7A8-39BB984DC9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8A8-1262-4EA3-B1AF-EE1FB926C8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63E2-C06C-42BB-A7BC-0F6CA10992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EAB8-27F7-4881-9EFC-0C2FB6E989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F8C7-23DB-4028-96C3-55A7FC51AF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BA8-51A5-42AC-AD7E-7A86E60536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61F-E7CA-48EA-845B-90404863F2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8067-6108-498A-9B4A-7797E4BCC8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119-8609-4732-9BCC-3DAA2536F3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A316-08B4-464F-AFD0-C0ED8F0080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A59-CF56-4B20-B771-DB16077752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6BD-2A90-473E-BA08-714A1783A0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0B3-1716-4E3E-A082-2E84E8C6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75E-328F-41BD-8A43-AAC8407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E4F-EBC6-4C3A-B82A-B743ADAE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797-9774-47E3-B0E3-E03D53D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E75-61E2-4AA8-8E36-36F0D36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F83-4EC8-4E5B-B030-EB9E322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23A-48B1-4ABF-8247-B68A296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15B-D79D-48D2-A802-559753A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933-325E-4AAA-9CBD-4E1B876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EB9-2556-41B4-952F-EEFB58F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ECF-3BD9-4C18-BCAA-D81211A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338-F0EE-43F4-AFFF-D27EFCC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BD0-B4FE-4F03-AABF-280273A09BF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3D0B-DF90-4D47-9712-1E1171119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760320" y="2654280"/>
                <a:ext cx="30528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9"/>
              <p:cNvSpPr txBox="1"/>
              <p:nvPr/>
            </p:nvSpPr>
            <p:spPr>
              <a:xfrm>
                <a:off x="5330880" y="2654280"/>
                <a:ext cx="31287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9"/>
              <p:cNvSpPr txBox="1"/>
              <p:nvPr/>
            </p:nvSpPr>
            <p:spPr>
              <a:xfrm>
                <a:off x="349200" y="2781360"/>
                <a:ext cx="38163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9"/>
              <p:cNvSpPr txBox="1"/>
              <p:nvPr/>
            </p:nvSpPr>
            <p:spPr>
              <a:xfrm>
                <a:off x="4941720" y="2781360"/>
                <a:ext cx="38912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324000" y="2770200"/>
                <a:ext cx="3911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4772160" y="27702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9"/>
              <p:cNvSpPr txBox="1"/>
              <p:nvPr/>
            </p:nvSpPr>
            <p:spPr>
              <a:xfrm>
                <a:off x="509436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9"/>
              <p:cNvSpPr txBox="1"/>
              <p:nvPr/>
            </p:nvSpPr>
            <p:spPr>
              <a:xfrm>
                <a:off x="1312920" y="3537000"/>
                <a:ext cx="1890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358920" y="2516040"/>
                <a:ext cx="3933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954680" y="2492280"/>
                <a:ext cx="3822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5950080" y="3500280"/>
                <a:ext cx="1833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9"/>
              <p:cNvSpPr txBox="1"/>
              <p:nvPr/>
            </p:nvSpPr>
            <p:spPr>
              <a:xfrm>
                <a:off x="826920" y="3278160"/>
                <a:ext cx="2741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5516640" y="3276720"/>
                <a:ext cx="2800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280" y="2421000"/>
                <a:ext cx="4203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9"/>
              <p:cNvSpPr txBox="1"/>
              <p:nvPr/>
            </p:nvSpPr>
            <p:spPr>
              <a:xfrm>
                <a:off x="4759200" y="2428920"/>
                <a:ext cx="4265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1380960" y="3525840"/>
                <a:ext cx="1673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5888160" y="3486240"/>
                <a:ext cx="1674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311040" y="2349360"/>
                <a:ext cx="3905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9"/>
              <p:cNvSpPr txBox="1"/>
              <p:nvPr/>
            </p:nvSpPr>
            <p:spPr>
              <a:xfrm>
                <a:off x="4941720" y="2381400"/>
                <a:ext cx="3902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9"/>
              <p:cNvSpPr txBox="1"/>
              <p:nvPr/>
            </p:nvSpPr>
            <p:spPr>
              <a:xfrm>
                <a:off x="1042920" y="3238560"/>
                <a:ext cx="2360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5716440" y="3206880"/>
                <a:ext cx="2365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63680" y="227664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9"/>
              <p:cNvSpPr txBox="1"/>
              <p:nvPr/>
            </p:nvSpPr>
            <p:spPr>
              <a:xfrm>
                <a:off x="5132520" y="227664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1042920" y="3206880"/>
                <a:ext cx="236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9"/>
              <p:cNvSpPr txBox="1"/>
              <p:nvPr/>
            </p:nvSpPr>
            <p:spPr>
              <a:xfrm>
                <a:off x="5583240" y="3238560"/>
                <a:ext cx="2517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1504800" y="3595680"/>
                <a:ext cx="1373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5219640" y="3159000"/>
                <a:ext cx="33498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9"/>
              <p:cNvSpPr txBox="1"/>
              <p:nvPr/>
            </p:nvSpPr>
            <p:spPr>
              <a:xfrm>
                <a:off x="704880" y="3421080"/>
                <a:ext cx="3270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824040" y="2276640"/>
                <a:ext cx="30528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076720" y="3465360"/>
                <a:ext cx="3573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9"/>
              <p:cNvSpPr txBox="1"/>
              <p:nvPr/>
            </p:nvSpPr>
            <p:spPr>
              <a:xfrm>
                <a:off x="5346720" y="2278080"/>
                <a:ext cx="31291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1459080" y="3429000"/>
                <a:ext cx="1755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6012000" y="3357720"/>
                <a:ext cx="1755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349200" y="2278080"/>
                <a:ext cx="3816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4941720" y="2278080"/>
                <a:ext cx="3891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9"/>
              <p:cNvSpPr txBox="1"/>
              <p:nvPr/>
            </p:nvSpPr>
            <p:spPr>
              <a:xfrm>
                <a:off x="1090440" y="3481560"/>
                <a:ext cx="19926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5818320" y="3449520"/>
                <a:ext cx="19936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372960" y="2421000"/>
                <a:ext cx="3930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4772160" y="24210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9"/>
              <p:cNvSpPr txBox="1"/>
              <p:nvPr/>
            </p:nvSpPr>
            <p:spPr>
              <a:xfrm>
                <a:off x="1619280" y="3314880"/>
                <a:ext cx="1158840" cy="17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6289560" y="3716280"/>
                <a:ext cx="1094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9"/>
              <p:cNvSpPr txBox="1"/>
              <p:nvPr/>
            </p:nvSpPr>
            <p:spPr>
              <a:xfrm>
                <a:off x="509436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732040" y="4233960"/>
                <a:ext cx="41576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72000" y="5313240"/>
                <a:ext cx="24796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" name="Titre 1"/>
          <p:cNvSpPr/>
          <p:nvPr/>
        </p:nvSpPr>
        <p:spPr>
          <a:xfrm>
            <a:off x="2556000" y="4149720"/>
            <a:ext cx="5761080" cy="259236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358920" y="2852640"/>
                <a:ext cx="3914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4954680" y="2828880"/>
                <a:ext cx="38145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179280" y="2844720"/>
                <a:ext cx="4208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4759200" y="2852640"/>
                <a:ext cx="4265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9"/>
              <p:cNvSpPr txBox="1"/>
              <p:nvPr/>
            </p:nvSpPr>
            <p:spPr>
              <a:xfrm>
                <a:off x="311040" y="2781360"/>
                <a:ext cx="38926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4941720" y="2813040"/>
                <a:ext cx="38912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5132520" y="278136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35:54Z</dcterms:modified>
  <cp:revision>244</cp:revision>
  <dc:subject/>
  <dc:title>Diapositive 0</dc:title>
</cp:coreProperties>
</file>