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3E7B-E8CE-4F1C-9FBE-E4CF1F03F3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FA34-32A3-41FA-9A05-A0AEA33DAF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D38F-2789-4300-A75B-49A007EC8B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CE8E-EAA9-4F1D-BFC3-083B746E88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9598-5AC8-4386-9E13-459C5F094B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6E3E-162B-411F-8BEA-6F1A9B2D9B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78BA-DFA3-4F2B-AD0D-AC013D79E9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EDE0-0988-4F81-88A9-109731DB47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7416-7B03-4D46-B93E-A81AC71695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EF55-D56A-47BF-B9EF-3A09AA64C4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B380-B8A0-42D4-8F6E-C8EEAA733A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9757-F9F8-4248-8A89-9E922B0D61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A807-EC95-43E9-9E36-BECA83952D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54B7-9B2E-42E0-9DBD-68629F106A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4A78-1219-4487-A4FD-BCB56E2E4E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4C9-245A-4A10-97E7-FA44E03E69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D13B-86AB-47B8-BDC0-6DFBA6CD38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627C-5534-4BE9-BD51-CD006196D9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E463-339A-4287-96E2-C5DC72B0D9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4296-DFC9-44CC-A903-231F999AD2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B8B-159E-480C-9643-B9A1E91941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704A-36C7-49C4-BED5-F6A9C12CEE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ACD8-4F49-4E74-9883-44C6D0018F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48BF-D0FB-45C5-98E4-7D92641696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A5B-CC4F-4649-88F9-64943394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1DB-64E1-46DE-8E81-AB6152DD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623-CB79-4199-B96D-A6B7F579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09F-3EDB-45D5-B544-CE29330D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0C2-D71F-49A3-B73C-017FD820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B35-931A-43E4-A99C-A691A0DA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6C8-732D-457F-B3A9-10518F4C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BAA-ACF0-48E6-8141-F8922648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064-FFE6-4250-B842-91A3CE4E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691-F9C2-4006-9FF8-9503E32D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48C-722B-43FF-BDDA-8F87625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0C0-0B4D-431C-AF05-5B1A0DE4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98A3-E01B-4B65-953C-F1D827D695B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3B80-4D5C-4E19-B7DE-B6D2CF628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537372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612720" y="714240"/>
            <a:ext cx="7918560" cy="357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d7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É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DU PREMIER DEGRÉ </a:t>
            </a:r>
            <a:br>
              <a:rPr sz="4800"/>
            </a:b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SÉRIES 2 ET 2 B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50920" y="2830680"/>
            <a:ext cx="4092480" cy="81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292720" y="2730600"/>
            <a:ext cx="317664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39640" y="2700360"/>
            <a:ext cx="3462480" cy="101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816440" y="2827440"/>
            <a:ext cx="4148280" cy="81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250920" y="2778120"/>
            <a:ext cx="4103640" cy="86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5076720" y="2700360"/>
            <a:ext cx="3360960" cy="987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928800" y="2114640"/>
            <a:ext cx="281916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715000" y="2071800"/>
            <a:ext cx="2009880" cy="6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1143000" y="4152960"/>
            <a:ext cx="227664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34" name="Picture 10" descr=""/>
          <p:cNvPicPr/>
          <p:nvPr/>
        </p:nvPicPr>
        <p:blipFill>
          <a:blip r:embed="rId4"/>
          <a:stretch/>
        </p:blipFill>
        <p:spPr>
          <a:xfrm>
            <a:off x="500040" y="2997360"/>
            <a:ext cx="371484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5"/>
          <a:stretch/>
        </p:blipFill>
        <p:spPr>
          <a:xfrm>
            <a:off x="5940360" y="3268800"/>
            <a:ext cx="1057320" cy="952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6" name="Cadre 25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dre 26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214960" y="2152800"/>
            <a:ext cx="2819520" cy="59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187280" y="2152800"/>
            <a:ext cx="2086200" cy="599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3"/>
          <a:stretch/>
        </p:blipFill>
        <p:spPr>
          <a:xfrm>
            <a:off x="1662120" y="3268800"/>
            <a:ext cx="1181160" cy="95220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46" name="Picture 11" descr=""/>
          <p:cNvPicPr/>
          <p:nvPr/>
        </p:nvPicPr>
        <p:blipFill>
          <a:blip r:embed="rId4"/>
          <a:stretch/>
        </p:blipFill>
        <p:spPr>
          <a:xfrm>
            <a:off x="5000760" y="2997360"/>
            <a:ext cx="371448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5"/>
          <a:stretch/>
        </p:blipFill>
        <p:spPr>
          <a:xfrm>
            <a:off x="5653080" y="4081320"/>
            <a:ext cx="227664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8" name="Cadre 1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16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539640" y="2071800"/>
            <a:ext cx="3524400" cy="600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5643720" y="2071800"/>
            <a:ext cx="2085840" cy="600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357120" y="2928960"/>
            <a:ext cx="3915000" cy="57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"/>
          <p:cNvPicPr/>
          <p:nvPr/>
        </p:nvPicPr>
        <p:blipFill>
          <a:blip r:embed="rId4"/>
          <a:stretch/>
        </p:blipFill>
        <p:spPr>
          <a:xfrm>
            <a:off x="1071720" y="3916440"/>
            <a:ext cx="2666880" cy="95256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58" name="Picture 7" descr=""/>
          <p:cNvPicPr/>
          <p:nvPr/>
        </p:nvPicPr>
        <p:blipFill>
          <a:blip r:embed="rId5"/>
          <a:stretch/>
        </p:blipFill>
        <p:spPr>
          <a:xfrm>
            <a:off x="6156360" y="3124080"/>
            <a:ext cx="118116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9" name="Cadre 14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dre 15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332000" y="2143080"/>
            <a:ext cx="2009520" cy="600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2"/>
          <a:stretch/>
        </p:blipFill>
        <p:spPr>
          <a:xfrm>
            <a:off x="4915080" y="2071800"/>
            <a:ext cx="3800160" cy="600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3"/>
          <a:stretch/>
        </p:blipFill>
        <p:spPr>
          <a:xfrm>
            <a:off x="1554120" y="3289320"/>
            <a:ext cx="85716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5438880" y="3916440"/>
            <a:ext cx="299088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9" name="Picture 11" descr=""/>
          <p:cNvPicPr/>
          <p:nvPr/>
        </p:nvPicPr>
        <p:blipFill>
          <a:blip r:embed="rId5"/>
          <a:stretch/>
        </p:blipFill>
        <p:spPr>
          <a:xfrm>
            <a:off x="4829040" y="2957400"/>
            <a:ext cx="3886200" cy="542880"/>
          </a:xfrm>
          <a:prstGeom prst="rect">
            <a:avLst/>
          </a:prstGeom>
          <a:ln w="0">
            <a:noFill/>
          </a:ln>
        </p:spPr>
      </p:pic>
      <p:sp>
        <p:nvSpPr>
          <p:cNvPr id="170" name="Cadre 12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dre 13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dre 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dre 8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560920" y="2114640"/>
            <a:ext cx="2467080" cy="600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395280" y="2071800"/>
            <a:ext cx="3800520" cy="600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"/>
          <p:cNvPicPr/>
          <p:nvPr/>
        </p:nvPicPr>
        <p:blipFill>
          <a:blip r:embed="rId3"/>
          <a:stretch/>
        </p:blipFill>
        <p:spPr>
          <a:xfrm>
            <a:off x="428760" y="2997360"/>
            <a:ext cx="3886200" cy="542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1000080" y="3973680"/>
            <a:ext cx="2772000" cy="895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85" name="Picture 18" descr=""/>
          <p:cNvPicPr/>
          <p:nvPr/>
        </p:nvPicPr>
        <p:blipFill>
          <a:blip r:embed="rId5"/>
          <a:stretch/>
        </p:blipFill>
        <p:spPr>
          <a:xfrm>
            <a:off x="6012000" y="2781360"/>
            <a:ext cx="1323720" cy="571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"/>
          <p:cNvPicPr/>
          <p:nvPr/>
        </p:nvPicPr>
        <p:blipFill>
          <a:blip r:embed="rId6"/>
          <a:stretch/>
        </p:blipFill>
        <p:spPr>
          <a:xfrm>
            <a:off x="5840280" y="3429000"/>
            <a:ext cx="1324080" cy="571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"/>
          <p:cNvPicPr/>
          <p:nvPr/>
        </p:nvPicPr>
        <p:blipFill>
          <a:blip r:embed="rId7"/>
          <a:stretch/>
        </p:blipFill>
        <p:spPr>
          <a:xfrm>
            <a:off x="6286680" y="4292640"/>
            <a:ext cx="85716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dre 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5048280" y="2143080"/>
            <a:ext cx="3524400" cy="600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1285920" y="2143080"/>
            <a:ext cx="2085840" cy="600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" descr=""/>
          <p:cNvPicPr/>
          <p:nvPr/>
        </p:nvPicPr>
        <p:blipFill>
          <a:blip r:embed="rId3"/>
          <a:stretch/>
        </p:blipFill>
        <p:spPr>
          <a:xfrm>
            <a:off x="1785960" y="3197160"/>
            <a:ext cx="857160" cy="95256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93" name="Picture 5" descr=""/>
          <p:cNvPicPr/>
          <p:nvPr/>
        </p:nvPicPr>
        <p:blipFill>
          <a:blip r:embed="rId4"/>
          <a:stretch/>
        </p:blipFill>
        <p:spPr>
          <a:xfrm>
            <a:off x="4871880" y="2924280"/>
            <a:ext cx="391500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5"/>
          <a:stretch/>
        </p:blipFill>
        <p:spPr>
          <a:xfrm>
            <a:off x="5634000" y="3906720"/>
            <a:ext cx="2581200" cy="962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5" name="Cadre 9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eorgia"/>
                <a:ea typeface="Times New Roman"/>
              </a:rPr>
              <a:t>Résoudre les équat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5262480" y="2143080"/>
            <a:ext cx="3095640" cy="600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143080"/>
            <a:ext cx="2467080" cy="600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1643040" y="2857680"/>
            <a:ext cx="1324080" cy="57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1476360" y="3429000"/>
            <a:ext cx="1324080" cy="571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5"/>
          <a:stretch/>
        </p:blipFill>
        <p:spPr>
          <a:xfrm>
            <a:off x="1908000" y="4214880"/>
            <a:ext cx="85752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02" name="Picture 9" descr=""/>
          <p:cNvPicPr/>
          <p:nvPr/>
        </p:nvPicPr>
        <p:blipFill>
          <a:blip r:embed="rId6"/>
          <a:stretch/>
        </p:blipFill>
        <p:spPr>
          <a:xfrm>
            <a:off x="4976640" y="3144960"/>
            <a:ext cx="3524400" cy="571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7"/>
          <a:stretch/>
        </p:blipFill>
        <p:spPr>
          <a:xfrm>
            <a:off x="5600880" y="4226040"/>
            <a:ext cx="254304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4" name="Cadre 12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dre 13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714240" y="2286000"/>
            <a:ext cx="3305160" cy="600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5643720" y="2286000"/>
            <a:ext cx="2085840" cy="600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428760" y="3143160"/>
            <a:ext cx="3714480" cy="571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" descr=""/>
          <p:cNvPicPr/>
          <p:nvPr/>
        </p:nvPicPr>
        <p:blipFill>
          <a:blip r:embed="rId4"/>
          <a:stretch/>
        </p:blipFill>
        <p:spPr>
          <a:xfrm>
            <a:off x="1214280" y="4226040"/>
            <a:ext cx="227664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13" name="Picture 6" descr=""/>
          <p:cNvPicPr/>
          <p:nvPr/>
        </p:nvPicPr>
        <p:blipFill>
          <a:blip r:embed="rId5"/>
          <a:stretch/>
        </p:blipFill>
        <p:spPr>
          <a:xfrm>
            <a:off x="6143760" y="3340080"/>
            <a:ext cx="85716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Cadre 11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dre 12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5052960" y="2214720"/>
            <a:ext cx="3305160" cy="59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2"/>
          <a:stretch/>
        </p:blipFill>
        <p:spPr>
          <a:xfrm>
            <a:off x="1428840" y="2214720"/>
            <a:ext cx="207648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571680" y="2781360"/>
            <a:ext cx="2895480" cy="571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1979640" y="3429000"/>
            <a:ext cx="1476360" cy="571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"/>
          <p:cNvPicPr/>
          <p:nvPr/>
        </p:nvPicPr>
        <p:blipFill>
          <a:blip r:embed="rId5"/>
          <a:stretch/>
        </p:blipFill>
        <p:spPr>
          <a:xfrm>
            <a:off x="2584440" y="4149720"/>
            <a:ext cx="1123920" cy="57168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26" name="Picture 9" descr=""/>
          <p:cNvPicPr/>
          <p:nvPr/>
        </p:nvPicPr>
        <p:blipFill>
          <a:blip r:embed="rId6"/>
          <a:stretch/>
        </p:blipFill>
        <p:spPr>
          <a:xfrm>
            <a:off x="4929120" y="3068640"/>
            <a:ext cx="3714840" cy="571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7"/>
          <a:stretch/>
        </p:blipFill>
        <p:spPr>
          <a:xfrm>
            <a:off x="5724360" y="4076640"/>
            <a:ext cx="227664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8" name="Cadre 1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adre 16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785880" y="2071800"/>
            <a:ext cx="3095640" cy="60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" descr=""/>
          <p:cNvPicPr/>
          <p:nvPr/>
        </p:nvPicPr>
        <p:blipFill>
          <a:blip r:embed="rId2"/>
          <a:stretch/>
        </p:blipFill>
        <p:spPr>
          <a:xfrm>
            <a:off x="5643720" y="2071800"/>
            <a:ext cx="2076120" cy="60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3"/>
          <a:stretch/>
        </p:blipFill>
        <p:spPr>
          <a:xfrm>
            <a:off x="500040" y="2857680"/>
            <a:ext cx="3524400" cy="571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"/>
          <p:cNvPicPr/>
          <p:nvPr/>
        </p:nvPicPr>
        <p:blipFill>
          <a:blip r:embed="rId4"/>
          <a:stretch/>
        </p:blipFill>
        <p:spPr>
          <a:xfrm>
            <a:off x="1143000" y="3936960"/>
            <a:ext cx="2543040" cy="57168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36" name="Picture 8" descr=""/>
          <p:cNvPicPr/>
          <p:nvPr/>
        </p:nvPicPr>
        <p:blipFill>
          <a:blip r:embed="rId5"/>
          <a:stretch/>
        </p:blipFill>
        <p:spPr>
          <a:xfrm>
            <a:off x="5492880" y="2781360"/>
            <a:ext cx="2895480" cy="571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6"/>
          <a:stretch/>
        </p:blipFill>
        <p:spPr>
          <a:xfrm>
            <a:off x="6191280" y="3429000"/>
            <a:ext cx="1476360" cy="571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7"/>
          <a:stretch/>
        </p:blipFill>
        <p:spPr>
          <a:xfrm>
            <a:off x="6832440" y="4226040"/>
            <a:ext cx="112428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9" name="Cadre 13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e40059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64000" y="2722680"/>
            <a:ext cx="3087720" cy="92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3970080" cy="86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313080" cy="95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954680" y="2822400"/>
            <a:ext cx="3865320" cy="82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033800" cy="75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5154480" y="2755800"/>
            <a:ext cx="3089520" cy="88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0956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4809960" y="2852640"/>
            <a:ext cx="4083120" cy="74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05080" cy="72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892760" y="2708280"/>
            <a:ext cx="4000320" cy="97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539640" y="2681280"/>
            <a:ext cx="3597480" cy="1035000"/>
          </a:xfrm>
          <a:prstGeom prst="rect">
            <a:avLst/>
          </a:prstGeom>
          <a:ln w="0">
            <a:noFill/>
          </a:ln>
        </p:spPr>
      </p:pic>
      <p:sp>
        <p:nvSpPr>
          <p:cNvPr id="9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788000" y="2852640"/>
            <a:ext cx="417672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815000" y="2808360"/>
            <a:ext cx="4078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3958920" cy="96372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12-23T20:35:05Z</dcterms:modified>
  <cp:revision>300</cp:revision>
  <dc:subject/>
  <dc:title>Diapositive 0</dc:title>
</cp:coreProperties>
</file>