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35F4-B663-4A62-9070-28A4580AEE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CEC5-C524-439A-A98A-892E39191A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F2B0-822A-46C8-B941-9E01F0452F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2718-F6C6-4671-95C8-310B3B30C2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8FCF-9611-476F-BCAC-73EAA02048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7CD1-CC23-4640-B699-CC6992EEFB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3B81-875D-4759-9186-9C9C965547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F8DB-5666-41F0-87E3-B341600305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D72D-20F2-4B2D-885D-7C3C5E37DD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9429-5900-4D72-B7B5-A98685175F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EA44-C735-4E1E-9CD0-31F249EA1D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2583-9E44-47A0-B17A-DF9521E11D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C0E8-E3F2-4169-B81B-E187835D34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290A-248E-4F21-A408-E67704016D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F5F5-EA85-4C81-9C1D-64CD8C50D5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51BD-1A82-4434-8935-B972C8F54D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5398-3C3C-4550-877B-76D1BB30AF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C43B-4905-4E63-A014-69CFD58316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8FEB-CEFF-4B81-8DA2-8974E4BBF5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15F7-BEFA-478C-A090-2B4648D6F7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395E-FBEF-4A74-9D68-FD36A5080C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9BA4-4874-45B1-AE30-9E69D7EFFC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55FF-CA68-456D-B1DD-887C10E8D4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0EB3-E423-407A-8BF9-01FEFD7CA3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3073-0BBC-425A-9275-F5B847784D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EF8E-9259-41B5-BA68-0D69F351C8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87A-A376-4EE7-B387-B7F8C7EF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88E-624C-4150-8137-E0C8D203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901-E410-49B0-A255-842EFC40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91D-186A-42F8-AB58-27CBCE79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736-1AB1-4B0E-B212-53F94754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C84-C5EA-4E1C-AE52-CD5ADE15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52E-E5FE-4555-9B99-C2A90ECB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3F5-DAAE-4C2D-A20C-6C6C35AD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146-414A-4F9D-8E18-1014A41C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E6A-E595-42E7-860B-EE6E82B6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8A0-C69B-4648-A718-3E05290E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D8C-1D3E-4D8B-A641-662C2350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0E51-12DA-4D93-93E5-31B904862CD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04DD-0CC9-45F6-94A8-04E123C87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RACINES CARRÉ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e 3"/>
          <p:cNvGrpSpPr/>
          <p:nvPr/>
        </p:nvGrpSpPr>
        <p:grpSpPr>
          <a:xfrm>
            <a:off x="-181080" y="1844640"/>
            <a:ext cx="9361440" cy="3313080"/>
            <a:chOff x="-181080" y="1844640"/>
            <a:chExt cx="9361440" cy="3313080"/>
          </a:xfrm>
        </p:grpSpPr>
        <p:sp>
          <p:nvSpPr>
            <p:cNvPr id="98" name="Titre 1"/>
            <p:cNvSpPr/>
            <p:nvPr/>
          </p:nvSpPr>
          <p:spPr>
            <a:xfrm>
              <a:off x="-181080" y="1844640"/>
              <a:ext cx="936144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racine carrée de  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Object 39"/>
                <p:cNvSpPr txBox="1"/>
                <p:nvPr/>
              </p:nvSpPr>
              <p:spPr>
                <a:xfrm>
                  <a:off x="3635640" y="3678120"/>
                  <a:ext cx="2095560" cy="105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3"/>
                <p:cNvSpPr txBox="1"/>
                <p:nvPr/>
              </p:nvSpPr>
              <p:spPr>
                <a:xfrm>
                  <a:off x="6084000" y="2304360"/>
                  <a:ext cx="2601720" cy="105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5"/>
          <p:cNvGrpSpPr/>
          <p:nvPr/>
        </p:nvGrpSpPr>
        <p:grpSpPr>
          <a:xfrm>
            <a:off x="36360" y="1844640"/>
            <a:ext cx="9144000" cy="3313080"/>
            <a:chOff x="36360" y="1844640"/>
            <a:chExt cx="9144000" cy="3313080"/>
          </a:xfrm>
        </p:grpSpPr>
        <p:sp>
          <p:nvSpPr>
            <p:cNvPr id="103" name="Titre 1"/>
            <p:cNvSpPr/>
            <p:nvPr/>
          </p:nvSpPr>
          <p:spPr>
            <a:xfrm>
              <a:off x="36360" y="1844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’inverse de  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39"/>
                <p:cNvSpPr txBox="1"/>
                <p:nvPr/>
              </p:nvSpPr>
              <p:spPr>
                <a:xfrm>
                  <a:off x="3779640" y="3609720"/>
                  <a:ext cx="2376360" cy="11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3"/>
                <p:cNvSpPr txBox="1"/>
                <p:nvPr/>
              </p:nvSpPr>
              <p:spPr>
                <a:xfrm>
                  <a:off x="5148000" y="2242800"/>
                  <a:ext cx="2374920" cy="11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-36360" y="2492280"/>
            <a:ext cx="9144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acine carrée de 10</a:t>
            </a:r>
            <a:r>
              <a:rPr b="0" lang="fr-FR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10</a:t>
            </a:r>
            <a:r>
              <a:rPr b="0" lang="fr-FR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e 3"/>
          <p:cNvGrpSpPr/>
          <p:nvPr/>
        </p:nvGrpSpPr>
        <p:grpSpPr>
          <a:xfrm>
            <a:off x="0" y="1844640"/>
            <a:ext cx="9144000" cy="3313080"/>
            <a:chOff x="0" y="1844640"/>
            <a:chExt cx="9144000" cy="3313080"/>
          </a:xfrm>
        </p:grpSpPr>
        <p:sp>
          <p:nvSpPr>
            <p:cNvPr id="110" name="Titre 1"/>
            <p:cNvSpPr/>
            <p:nvPr/>
          </p:nvSpPr>
          <p:spPr>
            <a:xfrm>
              <a:off x="0" y="1844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quotient de          par 5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Object 39"/>
                <p:cNvSpPr txBox="1"/>
                <p:nvPr/>
              </p:nvSpPr>
              <p:spPr>
                <a:xfrm>
                  <a:off x="4932000" y="2276640"/>
                  <a:ext cx="191448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Object 3"/>
                <p:cNvSpPr txBox="1"/>
                <p:nvPr/>
              </p:nvSpPr>
              <p:spPr>
                <a:xfrm>
                  <a:off x="4212000" y="3683520"/>
                  <a:ext cx="1301760" cy="11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re 1"/>
          <p:cNvSpPr/>
          <p:nvPr/>
        </p:nvSpPr>
        <p:spPr>
          <a:xfrm>
            <a:off x="0" y="152280"/>
            <a:ext cx="9144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9"/>
              <p:cNvSpPr txBox="1"/>
              <p:nvPr/>
            </p:nvSpPr>
            <p:spPr>
              <a:xfrm>
                <a:off x="395280" y="3357720"/>
                <a:ext cx="47530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÷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÷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ensées 9"/>
          <p:cNvSpPr/>
          <p:nvPr/>
        </p:nvSpPr>
        <p:spPr>
          <a:xfrm>
            <a:off x="-36360" y="5229360"/>
            <a:ext cx="4608360" cy="165564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"/>
              <p:cNvSpPr txBox="1"/>
              <p:nvPr/>
            </p:nvSpPr>
            <p:spPr>
              <a:xfrm>
                <a:off x="682560" y="5373720"/>
                <a:ext cx="279576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≠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1" name="Titre 1"/>
          <p:cNvSpPr/>
          <p:nvPr/>
        </p:nvSpPr>
        <p:spPr>
          <a:xfrm>
            <a:off x="-36360" y="1260360"/>
            <a:ext cx="91440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oitié de         est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….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4248000" y="1341360"/>
                <a:ext cx="18417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6840360" y="1341360"/>
                <a:ext cx="1457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539640" y="4149720"/>
                <a:ext cx="36007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is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tre 1"/>
          <p:cNvSpPr/>
          <p:nvPr/>
        </p:nvSpPr>
        <p:spPr>
          <a:xfrm>
            <a:off x="0" y="1260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triple de        est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….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ensées 8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9"/>
              <p:cNvSpPr txBox="1"/>
              <p:nvPr/>
            </p:nvSpPr>
            <p:spPr>
              <a:xfrm>
                <a:off x="179280" y="4076640"/>
                <a:ext cx="5761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×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9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4118040" y="1380960"/>
                <a:ext cx="1533600" cy="12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6543720" y="1413000"/>
                <a:ext cx="19159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5"/>
              <p:cNvSpPr txBox="1"/>
              <p:nvPr/>
            </p:nvSpPr>
            <p:spPr>
              <a:xfrm>
                <a:off x="1014480" y="5676840"/>
                <a:ext cx="4205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et a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≠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i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×</m:t>
                            </m:r>
                            <m:r>
                              <m:t xml:space="preserve">b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ensées 7"/>
          <p:cNvSpPr/>
          <p:nvPr/>
        </p:nvSpPr>
        <p:spPr>
          <a:xfrm>
            <a:off x="-36360" y="5589720"/>
            <a:ext cx="734508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posé d’un réel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 –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39"/>
              <p:cNvSpPr txBox="1"/>
              <p:nvPr/>
            </p:nvSpPr>
            <p:spPr>
              <a:xfrm>
                <a:off x="465120" y="4583160"/>
                <a:ext cx="36752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6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re 1"/>
          <p:cNvSpPr/>
          <p:nvPr/>
        </p:nvSpPr>
        <p:spPr>
          <a:xfrm>
            <a:off x="0" y="836640"/>
            <a:ext cx="914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posé de  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3"/>
              <p:cNvSpPr txBox="1"/>
              <p:nvPr/>
            </p:nvSpPr>
            <p:spPr>
              <a:xfrm>
                <a:off x="5219640" y="1235160"/>
                <a:ext cx="22226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3780000" y="2603520"/>
                <a:ext cx="27590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ensées 7"/>
          <p:cNvSpPr/>
          <p:nvPr/>
        </p:nvSpPr>
        <p:spPr>
          <a:xfrm>
            <a:off x="-36360" y="5589720"/>
            <a:ext cx="720072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tous les réels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² =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+ 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9"/>
              <p:cNvSpPr txBox="1"/>
              <p:nvPr/>
            </p:nvSpPr>
            <p:spPr>
              <a:xfrm>
                <a:off x="409680" y="4286160"/>
                <a:ext cx="74581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3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re 1"/>
          <p:cNvSpPr/>
          <p:nvPr/>
        </p:nvSpPr>
        <p:spPr>
          <a:xfrm>
            <a:off x="-34920" y="836640"/>
            <a:ext cx="914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ré de  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4932360" y="1233360"/>
                <a:ext cx="2376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e 12"/>
          <p:cNvGrpSpPr/>
          <p:nvPr/>
        </p:nvGrpSpPr>
        <p:grpSpPr>
          <a:xfrm>
            <a:off x="0" y="836640"/>
            <a:ext cx="9144000" cy="3313080"/>
            <a:chOff x="0" y="836640"/>
            <a:chExt cx="9144000" cy="3313080"/>
          </a:xfrm>
        </p:grpSpPr>
        <p:sp>
          <p:nvSpPr>
            <p:cNvPr id="147" name="Titre 1"/>
            <p:cNvSpPr/>
            <p:nvPr/>
          </p:nvSpPr>
          <p:spPr>
            <a:xfrm>
              <a:off x="0" y="836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produit de 4 par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Object 3"/>
                <p:cNvSpPr txBox="1"/>
                <p:nvPr/>
              </p:nvSpPr>
              <p:spPr>
                <a:xfrm>
                  <a:off x="6774120" y="1236960"/>
                  <a:ext cx="145548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4"/>
                <p:cNvSpPr txBox="1"/>
                <p:nvPr/>
              </p:nvSpPr>
              <p:spPr>
                <a:xfrm>
                  <a:off x="4284000" y="2601360"/>
                  <a:ext cx="1685880" cy="111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9"/>
              <p:cNvSpPr txBox="1"/>
              <p:nvPr/>
            </p:nvSpPr>
            <p:spPr>
              <a:xfrm>
                <a:off x="36360" y="4076640"/>
                <a:ext cx="60483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2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ensées 11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1014480" y="5676840"/>
                <a:ext cx="4205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et a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≠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i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×</m:t>
                            </m:r>
                            <m:r>
                              <m:t xml:space="preserve">b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Les affirmations suivantes sont-elles </a:t>
            </a:r>
            <a:br>
              <a:rPr sz="6000"/>
            </a:b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vraies ou fausses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Object 39"/>
              <p:cNvSpPr txBox="1"/>
              <p:nvPr/>
            </p:nvSpPr>
            <p:spPr>
              <a:xfrm>
                <a:off x="336600" y="4478400"/>
                <a:ext cx="84834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ensées 8"/>
          <p:cNvSpPr/>
          <p:nvPr/>
        </p:nvSpPr>
        <p:spPr>
          <a:xfrm>
            <a:off x="-36360" y="5589720"/>
            <a:ext cx="756108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e 20"/>
          <p:cNvGrpSpPr/>
          <p:nvPr/>
        </p:nvGrpSpPr>
        <p:grpSpPr>
          <a:xfrm>
            <a:off x="-757080" y="836640"/>
            <a:ext cx="9937440" cy="3313080"/>
            <a:chOff x="-757080" y="836640"/>
            <a:chExt cx="9937440" cy="3313080"/>
          </a:xfrm>
        </p:grpSpPr>
        <p:sp>
          <p:nvSpPr>
            <p:cNvPr id="160" name="Titre 1"/>
            <p:cNvSpPr/>
            <p:nvPr/>
          </p:nvSpPr>
          <p:spPr>
            <a:xfrm>
              <a:off x="-757080" y="836640"/>
              <a:ext cx="993744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somme de        et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"/>
                <p:cNvSpPr txBox="1"/>
                <p:nvPr/>
              </p:nvSpPr>
              <p:spPr>
                <a:xfrm>
                  <a:off x="3858120" y="2612160"/>
                  <a:ext cx="1914840" cy="11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Object 5"/>
                <p:cNvSpPr txBox="1"/>
                <p:nvPr/>
              </p:nvSpPr>
              <p:spPr>
                <a:xfrm>
                  <a:off x="6660000" y="1205280"/>
                  <a:ext cx="199764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Object 6"/>
                <p:cNvSpPr txBox="1"/>
                <p:nvPr/>
              </p:nvSpPr>
              <p:spPr>
                <a:xfrm>
                  <a:off x="4499640" y="1236960"/>
                  <a:ext cx="160164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906480" y="5835600"/>
                <a:ext cx="4960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≠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39"/>
              <p:cNvSpPr txBox="1"/>
              <p:nvPr/>
            </p:nvSpPr>
            <p:spPr>
              <a:xfrm>
                <a:off x="395280" y="3645000"/>
                <a:ext cx="648828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où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Pensées 6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928800" y="5794200"/>
                <a:ext cx="457992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re 1"/>
          <p:cNvSpPr/>
          <p:nvPr/>
        </p:nvSpPr>
        <p:spPr>
          <a:xfrm>
            <a:off x="-181080" y="692280"/>
            <a:ext cx="936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acine carrée de  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6084720" y="1125360"/>
                <a:ext cx="260208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3635280" y="2521080"/>
                <a:ext cx="20955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39"/>
              <p:cNvSpPr txBox="1"/>
              <p:nvPr/>
            </p:nvSpPr>
            <p:spPr>
              <a:xfrm>
                <a:off x="324000" y="4456080"/>
                <a:ext cx="62704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Pensées 4"/>
          <p:cNvSpPr/>
          <p:nvPr/>
        </p:nvSpPr>
        <p:spPr>
          <a:xfrm>
            <a:off x="-36360" y="5589720"/>
            <a:ext cx="763272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≠ 0,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≠ 0,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t inverses       </a:t>
            </a:r>
            <a:r>
              <a:rPr b="0" lang="fr-FR" sz="3000" spc="-1" strike="noStrike">
                <a:solidFill>
                  <a:srgbClr val="000000"/>
                </a:solidFill>
                <a:latin typeface="OpenSymbol"/>
                <a:ea typeface="Times New Roman"/>
              </a:rPr>
              <a:t>⇔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re 1"/>
          <p:cNvSpPr/>
          <p:nvPr/>
        </p:nvSpPr>
        <p:spPr>
          <a:xfrm>
            <a:off x="-34920" y="836640"/>
            <a:ext cx="914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verse de  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5003640" y="1268280"/>
                <a:ext cx="23749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3564000" y="2637000"/>
                <a:ext cx="237636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39"/>
              <p:cNvSpPr txBox="1"/>
              <p:nvPr/>
            </p:nvSpPr>
            <p:spPr>
              <a:xfrm>
                <a:off x="652320" y="3716280"/>
                <a:ext cx="5808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où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2" name="Pensées 5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885960" y="5865840"/>
                <a:ext cx="46227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re 1"/>
          <p:cNvSpPr/>
          <p:nvPr/>
        </p:nvSpPr>
        <p:spPr>
          <a:xfrm>
            <a:off x="-36360" y="177336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acine carrée de 10</a:t>
            </a:r>
            <a:r>
              <a:rPr b="0" lang="fr-FR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10</a:t>
            </a:r>
            <a:r>
              <a:rPr b="0" lang="fr-FR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99960" y="4508640"/>
                <a:ext cx="4149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</m:t>
                    </m:r>
                    <m:r>
                      <m:rPr>
                        <m:lit/>
                        <m:nor/>
                      </m:rPr>
                      <m:t xml:space="preserve"> bien 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9"/>
              <p:cNvSpPr txBox="1"/>
              <p:nvPr/>
            </p:nvSpPr>
            <p:spPr>
              <a:xfrm>
                <a:off x="611280" y="4076640"/>
                <a:ext cx="77072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u</m:t>
                    </m:r>
                    <m:r>
                      <m:t xml:space="preserve">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9" name="Pensées 5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428840" y="5664240"/>
                <a:ext cx="32875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e 8"/>
          <p:cNvGrpSpPr/>
          <p:nvPr/>
        </p:nvGrpSpPr>
        <p:grpSpPr>
          <a:xfrm>
            <a:off x="0" y="765000"/>
            <a:ext cx="9144000" cy="3311640"/>
            <a:chOff x="0" y="765000"/>
            <a:chExt cx="9144000" cy="3311640"/>
          </a:xfrm>
        </p:grpSpPr>
        <p:sp>
          <p:nvSpPr>
            <p:cNvPr id="193" name="Titre 1"/>
            <p:cNvSpPr/>
            <p:nvPr/>
          </p:nvSpPr>
          <p:spPr>
            <a:xfrm>
              <a:off x="0" y="765000"/>
              <a:ext cx="914400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quotient de          par 5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4"/>
                <p:cNvSpPr txBox="1"/>
                <p:nvPr/>
              </p:nvSpPr>
              <p:spPr>
                <a:xfrm>
                  <a:off x="4889880" y="1197000"/>
                  <a:ext cx="1914480" cy="12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Object 5"/>
                <p:cNvSpPr txBox="1"/>
                <p:nvPr/>
              </p:nvSpPr>
              <p:spPr>
                <a:xfrm>
                  <a:off x="4212000" y="2564640"/>
                  <a:ext cx="1301760" cy="11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ensées 14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25560"/>
              <a:gd name="adj2" fmla="val -101273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0" y="1125360"/>
            <a:ext cx="914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9"/>
              <p:cNvSpPr txBox="1"/>
              <p:nvPr/>
            </p:nvSpPr>
            <p:spPr>
              <a:xfrm>
                <a:off x="179280" y="4005360"/>
                <a:ext cx="5761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2786040" y="4724280"/>
                <a:ext cx="35146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703440" y="5732640"/>
                <a:ext cx="50925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 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≠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e 19"/>
          <p:cNvGrpSpPr/>
          <p:nvPr/>
        </p:nvGrpSpPr>
        <p:grpSpPr>
          <a:xfrm>
            <a:off x="0" y="1197000"/>
            <a:ext cx="9144000" cy="2663640"/>
            <a:chOff x="0" y="1197000"/>
            <a:chExt cx="9144000" cy="2663640"/>
          </a:xfrm>
        </p:grpSpPr>
        <p:sp>
          <p:nvSpPr>
            <p:cNvPr id="59" name="Titre 1"/>
            <p:cNvSpPr/>
            <p:nvPr/>
          </p:nvSpPr>
          <p:spPr>
            <a:xfrm>
              <a:off x="0" y="1197000"/>
              <a:ext cx="914400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somme de        et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….</a:t>
              </a: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 ……</a:t>
              </a: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5"/>
                <p:cNvSpPr txBox="1"/>
                <p:nvPr/>
              </p:nvSpPr>
              <p:spPr>
                <a:xfrm>
                  <a:off x="5067360" y="1268640"/>
                  <a:ext cx="1304640" cy="11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Object 6"/>
                <p:cNvSpPr txBox="1"/>
                <p:nvPr/>
              </p:nvSpPr>
              <p:spPr>
                <a:xfrm>
                  <a:off x="7221600" y="1268640"/>
                  <a:ext cx="1765080" cy="11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Object 7"/>
                <p:cNvSpPr txBox="1"/>
                <p:nvPr/>
              </p:nvSpPr>
              <p:spPr>
                <a:xfrm>
                  <a:off x="4140000" y="2636640"/>
                  <a:ext cx="1765080" cy="11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e 13"/>
          <p:cNvGrpSpPr/>
          <p:nvPr/>
        </p:nvGrpSpPr>
        <p:grpSpPr>
          <a:xfrm>
            <a:off x="0" y="2565360"/>
            <a:ext cx="9144000" cy="1440000"/>
            <a:chOff x="0" y="2565360"/>
            <a:chExt cx="9144000" cy="1440000"/>
          </a:xfrm>
        </p:grpSpPr>
        <p:sp>
          <p:nvSpPr>
            <p:cNvPr id="66" name="Titre 1"/>
            <p:cNvSpPr/>
            <p:nvPr/>
          </p:nvSpPr>
          <p:spPr>
            <a:xfrm>
              <a:off x="0" y="2565360"/>
              <a:ext cx="91440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moitié de         est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….</a:t>
              </a: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39"/>
                <p:cNvSpPr txBox="1"/>
                <p:nvPr/>
              </p:nvSpPr>
              <p:spPr>
                <a:xfrm>
                  <a:off x="4284000" y="2708640"/>
                  <a:ext cx="184140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ra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Object 3"/>
                <p:cNvSpPr txBox="1"/>
                <p:nvPr/>
              </p:nvSpPr>
              <p:spPr>
                <a:xfrm>
                  <a:off x="6876360" y="2708640"/>
                  <a:ext cx="145872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8</m:t>
                          </m:r>
                        </m:e>
                      </m:ra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e 15"/>
          <p:cNvGrpSpPr/>
          <p:nvPr/>
        </p:nvGrpSpPr>
        <p:grpSpPr>
          <a:xfrm>
            <a:off x="0" y="2565360"/>
            <a:ext cx="9144000" cy="1440000"/>
            <a:chOff x="0" y="2565360"/>
            <a:chExt cx="9144000" cy="1440000"/>
          </a:xfrm>
        </p:grpSpPr>
        <p:sp>
          <p:nvSpPr>
            <p:cNvPr id="72" name="Titre 1"/>
            <p:cNvSpPr/>
            <p:nvPr/>
          </p:nvSpPr>
          <p:spPr>
            <a:xfrm>
              <a:off x="0" y="2565360"/>
              <a:ext cx="91440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triple de        est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….</a:t>
              </a: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Object 39"/>
                <p:cNvSpPr txBox="1"/>
                <p:nvPr/>
              </p:nvSpPr>
              <p:spPr>
                <a:xfrm>
                  <a:off x="4118400" y="2709360"/>
                  <a:ext cx="153324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Object 3"/>
                <p:cNvSpPr txBox="1"/>
                <p:nvPr/>
              </p:nvSpPr>
              <p:spPr>
                <a:xfrm>
                  <a:off x="6544440" y="2709360"/>
                  <a:ext cx="191592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e 5"/>
          <p:cNvGrpSpPr/>
          <p:nvPr/>
        </p:nvGrpSpPr>
        <p:grpSpPr>
          <a:xfrm>
            <a:off x="0" y="1844640"/>
            <a:ext cx="9144000" cy="3313080"/>
            <a:chOff x="0" y="1844640"/>
            <a:chExt cx="9144000" cy="3313080"/>
          </a:xfrm>
        </p:grpSpPr>
        <p:sp>
          <p:nvSpPr>
            <p:cNvPr id="77" name="Titre 1"/>
            <p:cNvSpPr/>
            <p:nvPr/>
          </p:nvSpPr>
          <p:spPr>
            <a:xfrm>
              <a:off x="0" y="1844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’opposé de  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Object 2"/>
                <p:cNvSpPr txBox="1"/>
                <p:nvPr/>
              </p:nvSpPr>
              <p:spPr>
                <a:xfrm>
                  <a:off x="5220000" y="2242800"/>
                  <a:ext cx="2222280" cy="11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Object 39"/>
              <p:cNvSpPr txBox="1"/>
              <p:nvPr/>
            </p:nvSpPr>
            <p:spPr>
              <a:xfrm>
                <a:off x="3757680" y="3611520"/>
                <a:ext cx="27590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e 7"/>
          <p:cNvGrpSpPr/>
          <p:nvPr/>
        </p:nvGrpSpPr>
        <p:grpSpPr>
          <a:xfrm>
            <a:off x="0" y="1844640"/>
            <a:ext cx="9144000" cy="3313080"/>
            <a:chOff x="0" y="1844640"/>
            <a:chExt cx="9144000" cy="3313080"/>
          </a:xfrm>
        </p:grpSpPr>
        <p:sp>
          <p:nvSpPr>
            <p:cNvPr id="82" name="Titre 1"/>
            <p:cNvSpPr/>
            <p:nvPr/>
          </p:nvSpPr>
          <p:spPr>
            <a:xfrm>
              <a:off x="0" y="1844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carré de  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Object 3"/>
                <p:cNvSpPr txBox="1"/>
                <p:nvPr/>
              </p:nvSpPr>
              <p:spPr>
                <a:xfrm>
                  <a:off x="5004000" y="2276640"/>
                  <a:ext cx="2376360" cy="11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e 6"/>
          <p:cNvGrpSpPr/>
          <p:nvPr/>
        </p:nvGrpSpPr>
        <p:grpSpPr>
          <a:xfrm>
            <a:off x="0" y="1844640"/>
            <a:ext cx="9144000" cy="3313080"/>
            <a:chOff x="0" y="1844640"/>
            <a:chExt cx="9144000" cy="3313080"/>
          </a:xfrm>
        </p:grpSpPr>
        <p:sp>
          <p:nvSpPr>
            <p:cNvPr id="86" name="Titre 1"/>
            <p:cNvSpPr/>
            <p:nvPr/>
          </p:nvSpPr>
          <p:spPr>
            <a:xfrm>
              <a:off x="0" y="1844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produit de 4 par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39"/>
                <p:cNvSpPr txBox="1"/>
                <p:nvPr/>
              </p:nvSpPr>
              <p:spPr>
                <a:xfrm>
                  <a:off x="6774120" y="2244960"/>
                  <a:ext cx="145548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3"/>
                <p:cNvSpPr txBox="1"/>
                <p:nvPr/>
              </p:nvSpPr>
              <p:spPr>
                <a:xfrm>
                  <a:off x="4284000" y="3609360"/>
                  <a:ext cx="1685880" cy="111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e 8"/>
          <p:cNvGrpSpPr/>
          <p:nvPr/>
        </p:nvGrpSpPr>
        <p:grpSpPr>
          <a:xfrm>
            <a:off x="-757080" y="1844640"/>
            <a:ext cx="9937440" cy="3313080"/>
            <a:chOff x="-757080" y="1844640"/>
            <a:chExt cx="9937440" cy="3313080"/>
          </a:xfrm>
        </p:grpSpPr>
        <p:grpSp>
          <p:nvGrpSpPr>
            <p:cNvPr id="91" name="Groupe 3"/>
            <p:cNvGrpSpPr/>
            <p:nvPr/>
          </p:nvGrpSpPr>
          <p:grpSpPr>
            <a:xfrm>
              <a:off x="-757080" y="1844640"/>
              <a:ext cx="9937440" cy="3313080"/>
              <a:chOff x="-757080" y="1844640"/>
              <a:chExt cx="9937440" cy="3313080"/>
            </a:xfrm>
          </p:grpSpPr>
          <p:sp>
            <p:nvSpPr>
              <p:cNvPr id="92" name="Titre 1"/>
              <p:cNvSpPr/>
              <p:nvPr/>
            </p:nvSpPr>
            <p:spPr>
              <a:xfrm>
                <a:off x="-757080" y="1844640"/>
                <a:ext cx="9937440" cy="33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6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a somme de        et     </a:t>
                </a:r>
                <a:r>
                  <a:rPr b="0" lang="fr-FR" sz="6000" spc="-1" strike="noStrike">
                    <a:solidFill>
                      <a:srgbClr val="f2f2f2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6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st      </a:t>
                </a:r>
                <a:r>
                  <a:rPr b="0" lang="fr-FR" sz="6000" spc="-1" strike="noStrike">
                    <a:solidFill>
                      <a:srgbClr val="f2f2f2"/>
                    </a:solidFill>
                    <a:latin typeface="Times New Roman"/>
                    <a:ea typeface="Times New Roman"/>
                  </a:rPr>
                  <a:t>...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3" name="Object 3"/>
                  <p:cNvSpPr txBox="1"/>
                  <p:nvPr/>
                </p:nvSpPr>
                <p:spPr>
                  <a:xfrm>
                    <a:off x="6660000" y="2244600"/>
                    <a:ext cx="1997640" cy="125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4" name="Object 4"/>
                  <p:cNvSpPr txBox="1"/>
                  <p:nvPr/>
                </p:nvSpPr>
                <p:spPr>
                  <a:xfrm>
                    <a:off x="3858120" y="3573720"/>
                    <a:ext cx="1914840" cy="118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95" name="Object 39"/>
                <p:cNvSpPr txBox="1"/>
                <p:nvPr/>
              </p:nvSpPr>
              <p:spPr>
                <a:xfrm>
                  <a:off x="4499640" y="2276280"/>
                  <a:ext cx="160164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1-11T14:21:15Z</dcterms:modified>
  <cp:revision>251</cp:revision>
  <dc:subject/>
  <dc:title>Diapositive 0</dc:title>
</cp:coreProperties>
</file>