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BA3-C149-4A4B-AEC0-5CE5FED9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358-7BED-4D67-B43C-499C9393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B528-BD47-4A7E-A1F6-9CA0EBA3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69E3B-DEEF-45E1-8C1D-A0AF7C9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80C00-5B7D-4E08-888F-E4AE34D3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ECA8C-51E3-4EF9-9AB5-1A7A565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4C369-A0E8-4057-B36E-5BC1F2A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D30C8-61BF-4EAB-8280-3901A4A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87E4D-FED2-4D42-9217-A9AA3D2F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79483-5EDC-4D72-87C9-93DA7C01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A3523-14EC-46C2-B4B3-3C879210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44CF9-D308-4D6D-832A-8CDB81AF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2CA-05AF-43D6-ACAE-C8236F17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76271-7F38-4204-B963-67EB39DA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6861D-A6B0-482A-85E1-73BC4BD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CDA79-715A-47F6-A009-6596128B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E89E4-70DD-4934-9314-3BD4210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725E8-9BE0-4303-A27B-9C30F916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5C6BD-97D7-4306-B054-CDD5F6CA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5FCAA-9E15-4D83-94DD-9ECB8E6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ED978-519A-4C0B-88C4-E166737A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3B3A6-75B1-4E67-A41A-AC28831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D0F43-F745-48FF-8CEE-2FAF16EB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7C1-5AD6-4716-8AA2-58817E0B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EC11D-B7DC-4756-9F2E-BD072D4F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03B0E-A152-4B64-8A24-B266547B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3E458-C143-4E5E-B71A-F19E678D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6FF0F-3619-42BC-B051-567E2FF4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D9892-09AE-45D3-90AA-DE712D78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AE7A4-9CF7-4AE0-831E-6D7D9A22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BF900-A79A-4B0E-A637-C0D4BEC5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C46D2-15DC-4D68-8531-F71B3D4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4311C-8458-470F-B81D-D3A7291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6E409-4517-429C-BFE7-C644D97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A0F0-A473-4318-AC2B-21C89FA2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BF987-1921-4D1B-8CE8-086877C0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FFC00-78AD-49FA-8234-9D81664A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99E4B-D258-4E62-879A-A67281D5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481F9-C106-42ED-B576-E8762D97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652C4-56E1-475D-B14B-0A6E6FF4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6879F-F551-4E29-9766-A75D233C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D6D49-37B9-4B41-A340-3EAC8610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B02A7-9A79-4CB7-8A27-E5D561B2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D6049-EBDE-4C13-BCC2-4F615716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B9E54-79AB-4C51-9500-B89B571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4D4-00BC-4967-80B5-30B76243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AA1CB-AF26-4ED0-99FA-4841E60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9A985-089C-4F57-A265-F6A68CE9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E5F68-F4CB-4532-9E2E-8D7E2DC1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EDFDD-2094-43B9-98BF-9C193773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79C27-5C17-4BC1-9613-CED3C0BA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DD7CA-D75E-4F91-8512-D68B4A86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60D83-E194-45E9-A7A7-86EBB5B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3B0C7-3B07-4687-810C-5CB8F9F4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9AD28-F4A0-46F0-8339-8C8AE181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E2F9E-581C-4A26-94DF-DF105089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AEF4-6C59-4EF3-A5EC-0E8A47B6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06A72-AC39-4C03-9592-DC8B10F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94558-1A75-4E22-A9A2-B395E75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7302A-2D21-4C17-A15C-93E23C6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EDE0C-68D4-42CC-B34C-FA6010E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41F80-EC9B-47FC-9311-00727315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DA6B9-55B0-45F3-AF54-F5DBDF58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99A3A-17D7-4524-97D2-781CF700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D0E-AB9C-42B2-B8D8-A1D4B6D3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BCD5-84E2-407E-895A-C21FA271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201B-EC1E-4AF7-8C30-01D3490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DB05-F460-4AC2-BB6F-D262DC7F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BB1-45FE-4A4C-8EED-70B82BF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F639-D0E9-48D0-B405-6EA8C5F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BE3-65F6-4E80-8294-7879D78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2DEB-FA76-4338-9594-0040992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49C2-2AB8-474C-B7DC-D004C9F5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F697-B331-4D27-A103-E481C55D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92B1-1256-40B3-B12F-F53A9481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2AED-D25A-4EC5-B867-CD539A98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F468-0AF8-4D07-B42C-3BDC44F8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089F-61ED-4599-ABA6-C9FEE591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86A7-628C-4704-9897-E1A559B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C17-A4E5-4833-AC0B-9F348B05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6D56-7BC4-42A9-BD1D-29E0C074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157B-64B1-4E51-B736-C1AB2CF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EBC9-86B8-47DA-B99E-7F58A8F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D743-C136-4489-8D6E-F2E1F62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6283-4139-4FC8-B28F-9FB7E3D3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9D46-2200-48F7-B670-EBAA4BB2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970D-33B2-47F3-87F7-41F3A32B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F035A-5942-44FB-A61C-60AF5F53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5230-7C29-4B12-BCC3-61357DD4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1581-C8EE-4780-9DF9-3AB37835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907-E65D-443A-BAE3-F3DC0B6C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7007-BC0A-47CB-A04E-A330A982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B79E-291E-4A1E-9B3E-B00D5253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5666-136F-45F3-9E28-5A1E730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A5F8-8A43-4144-9C56-FA773088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A11D-EAFE-47B4-B196-52D4879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C7EB-611C-4621-8E0E-46AA9A6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0069-F568-4024-B393-2AA80EFC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B5C7-F4E0-4525-A2BA-56A305B5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A74B-DD43-4FCE-A207-3AD86ECA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A12E-03D5-4CBF-B308-BD9F5DF9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FCE-3A0D-48CC-8F52-D86FDCFE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D9E1-4264-447E-BC17-C2C286D8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EDAE-832E-4DD2-8E05-D143B36E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DBD9-91F4-4E3A-97D5-C45C242C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50EF-2706-49F5-9850-2BCE29A1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DE66-C836-43AF-B5A5-1F95D9F3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DF09-26E8-43DB-8B31-293C7C1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89129-0DDB-4EC8-83D9-F5037EC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73B2-717C-40EE-A00E-3CD495E7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1666-5EF8-4C47-AE1E-4197DAE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76F98-E04B-4311-A6FB-D0D2451E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F8B-6D5C-4350-B75F-534A035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B673-D4D4-439F-AA46-F14F5D80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27D19-16F8-4514-91D0-11DE6365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9FCFB-DC80-411C-8F51-3A4E59B2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2F160-A1D2-4EB8-A072-BC0926A4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390BE-72F6-4C96-9D40-9C2CD82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17A25-C497-476E-963E-15CEA12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128A-1C89-4DD0-8355-C102C48B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1F2C-1939-4685-93F2-BD7E14B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703C-DB06-4B0B-9984-7FAD7B9E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F731D-3538-41AD-B0FC-8A877C26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136-FDE3-43E7-940A-539012E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2019-3BA7-4D63-B76F-9E4B63A5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735C-B3AF-447E-B2D6-9DE103A1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42B59-4CC2-44CB-9B2B-0F3A0728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00562-F1F4-4F64-9ACB-F8CE3F36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1B3B-270D-4932-A473-6EA62740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F477F-4018-44D2-AEAA-9C1712DD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3C95-3BD0-4676-9E42-20D27E68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F30F4-54B0-47F5-ABE5-B4538229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43FE-79CA-4E6F-9DE6-BDE258B6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B1593-D1D9-4511-8721-9496D57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171-DD5C-4A40-A26E-4996BBF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D99F-F854-4442-85F4-840DC77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39B2E-7B08-4B16-80AE-C941F79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771E9-9002-46AE-91E0-ED9C511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BC0C-B242-4B34-B764-8F3E5F36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F593B-0793-4C33-AE82-32DEB040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8782-43F1-486B-82D9-A014F800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BB17-F3DB-4DF3-8942-6D99BAB7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F224E-0BC0-45DB-9EC7-028D2D50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FD2A6-0D6A-4964-BD82-344EA7D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DA3FE-FF4D-4933-965B-E87EB5B9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B9B-F341-4442-B1B5-09ED129B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E182F-89C2-4C65-B574-7187EAE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9939C-E287-42E4-98B1-C4FD52B8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AA06B-5433-44E0-B3BF-D21A802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48D0-807F-4FF1-9B47-FE2AB3AD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F1321-A1C3-492C-BC90-FB50593B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C33AD-E6F4-458A-8D50-6DC90977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1DFE8-FB3C-4323-BA67-3EA5D443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E953-DA52-4EAE-9851-45C675EC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0D77B-2576-4AB4-A2E0-3E5AADA1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2035A-7FEA-4E03-8F96-C9429FE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1489-026A-4DA8-AC41-A9EE97ACD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3C58-755F-4D6A-8885-F212EC89911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7125-5FCF-4A5A-88FA-B839AC89CC7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0AA7-A34E-4820-A103-0CD606E1491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891B-D1ED-4846-AFF1-134AE80CCB0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407-A51A-4FB3-B9C9-859BD308E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093-3AE6-4527-964C-B733F0F33DF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B46-00F6-4A5E-B0B7-FEDE5F586AE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C037-6054-463D-A71A-EA8803920E0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C2F2-180C-4B00-B178-A634F57A5C3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3405-2126-4D99-AB0B-05DB2575B30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705D-DDED-4AF3-B630-A2C56F117DA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707E-82D3-4E8D-8DE9-4E6860472C0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 algébrique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-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54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083720" cy="19972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454880" cy="21988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593640" y="1916280"/>
            <a:ext cx="7175520" cy="198252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épon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381480" cy="22190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gner un rectangle avec un coin diagonal 7"/>
          <p:cNvSpPr/>
          <p:nvPr/>
        </p:nvSpPr>
        <p:spPr>
          <a:xfrm rot="20745000">
            <a:off x="4370040" y="479880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410440" cy="221940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gner un rectangle avec un coin diagonal 10"/>
          <p:cNvSpPr/>
          <p:nvPr/>
        </p:nvSpPr>
        <p:spPr>
          <a:xfrm rot="702000">
            <a:off x="1299960" y="4818240"/>
            <a:ext cx="3143160" cy="107136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4809960" cy="125712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ogner un rectangle avec un coin diagonal 14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6229440" cy="12574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ogner un rectangle avec un coin diagonal 17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15160" cy="22384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ogner un rectangle avec un coin diagonal 22"/>
          <p:cNvSpPr/>
          <p:nvPr/>
        </p:nvSpPr>
        <p:spPr>
          <a:xfrm rot="702000">
            <a:off x="1334880" y="481644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419880" cy="22190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800600" cy="22384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ogner un rectangle avec un coin diagonal 21"/>
          <p:cNvSpPr/>
          <p:nvPr/>
        </p:nvSpPr>
        <p:spPr>
          <a:xfrm rot="20745000">
            <a:off x="4440240" y="4879440"/>
            <a:ext cx="3143160" cy="107172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6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554880" cy="2286000"/>
          </a:xfrm>
          <a:prstGeom prst="rect">
            <a:avLst/>
          </a:prstGeom>
          <a:ln w="0">
            <a:noFill/>
          </a:ln>
        </p:spPr>
      </p:pic>
      <p:sp>
        <p:nvSpPr>
          <p:cNvPr id="828" name="Rogner un rectangle avec un coin diagonal 24"/>
          <p:cNvSpPr/>
          <p:nvPr/>
        </p:nvSpPr>
        <p:spPr>
          <a:xfrm rot="20745000">
            <a:off x="4222800" y="4879440"/>
            <a:ext cx="3143160" cy="107172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1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94920" cy="214164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ogner un rectangle avec un coin diagonal 26"/>
          <p:cNvSpPr/>
          <p:nvPr/>
        </p:nvSpPr>
        <p:spPr>
          <a:xfrm rot="702000">
            <a:off x="1191960" y="467352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1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54880" cy="21970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gner un rectangle avec un coin diagonal 26"/>
          <p:cNvSpPr/>
          <p:nvPr/>
        </p:nvSpPr>
        <p:spPr>
          <a:xfrm rot="20745000">
            <a:off x="436680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653160" cy="183852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ogner un rectangle avec un coin diagonal 17"/>
          <p:cNvSpPr/>
          <p:nvPr/>
        </p:nvSpPr>
        <p:spPr>
          <a:xfrm rot="20745000">
            <a:off x="429552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264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419880" cy="22190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381480" cy="22194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5410440" cy="22194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122800" cy="13395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6229440" cy="125712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5915160" cy="22381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800600" cy="223848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2T13:05:25Z</dcterms:created>
  <dc:creator>User</dc:creator>
  <dc:description/>
  <dc:language>en-US</dc:language>
  <cp:lastModifiedBy>auderi</cp:lastModifiedBy>
  <dcterms:modified xsi:type="dcterms:W3CDTF">2016-07-01T14:46:49Z</dcterms:modified>
  <cp:revision>23</cp:revision>
  <dc:subject/>
  <dc:title>Calcul algébrique</dc:title>
</cp:coreProperties>
</file>