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095D-EA18-4CD6-9EC7-37C7F90A85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8323-7590-4956-B8F2-159C90237D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8E8-2411-4575-BBDF-0A6BDFAFE5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E81-F201-496D-85AA-5982110180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D57C-F6E6-4917-9A46-DD909F6A60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F57-4867-4915-9E55-B0A6D7A04D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718-6D71-4348-BF82-2E5E8E4068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125-F7B5-47D1-9725-2D590B0D20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6FC1-A202-4C4C-AE47-552A8C6CA7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20BE-8D89-4A50-8D73-53CD5FD78B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E57-135C-4CA3-A7F9-2A2F2901E3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1624-FF95-44EE-9C3F-4E3EF5F07E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326-B810-4D69-9A09-AB567890E6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1073-D623-4D8A-8487-8487097427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55EB-7647-4070-9160-24E6915720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D49-F242-4B91-9340-F7EA9E7F48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91C-F2FA-4684-A59C-15B6B84F87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4941-9A86-4958-A5F8-8EAD317D60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95F3-0FEC-4DB5-BB3F-126B40F8E4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8E8A-39D7-4526-A1AE-7963FF7602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2FC-800B-4648-B3B7-B9E0A95A68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0CC-5DAB-4242-9C2C-62F9E4338A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0CB5-DD9F-447A-9830-80CD1AF48E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477F-86FF-46AC-B9AE-8970BBE39F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7584-92AF-4577-BA31-A619FE2412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5F92-716A-429E-A6EF-37692942FC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949-839C-4A91-8D29-98CE58FA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C4C-7486-47D1-93AB-F528A63E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125-DA3E-4800-AF7E-8FAE2E70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CA4-3BBE-45F5-942B-DCAF277E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7BE-B6AF-4E86-BB66-2E1203E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E00-CA9B-4B70-B304-54B45B94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E72-630D-4D07-89A8-48B141A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4DE-F7A0-43B6-B162-70978679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5EF-43E7-4184-903A-AC544913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AC8-BF78-4E76-A371-EF4D8A4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90B-D342-48B3-9922-438B8EA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3AA-2D71-4A46-A3B1-E06966C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046-7616-4990-AF59-ECC309A0D10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0D5-FCC7-4F7E-B247-E76F00A59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 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11"/>
          <p:cNvSpPr/>
          <p:nvPr/>
        </p:nvSpPr>
        <p:spPr>
          <a:xfrm>
            <a:off x="0" y="4005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est 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Ellipse 9"/>
          <p:cNvSpPr/>
          <p:nvPr/>
        </p:nvSpPr>
        <p:spPr>
          <a:xfrm>
            <a:off x="7020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12"/>
          <p:cNvSpPr/>
          <p:nvPr/>
        </p:nvSpPr>
        <p:spPr>
          <a:xfrm>
            <a:off x="7020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14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4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un antécédent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llipse 18"/>
          <p:cNvSpPr/>
          <p:nvPr/>
        </p:nvSpPr>
        <p:spPr>
          <a:xfrm>
            <a:off x="4500720" y="1700280"/>
            <a:ext cx="86328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9"/>
          <p:cNvSpPr/>
          <p:nvPr/>
        </p:nvSpPr>
        <p:spPr>
          <a:xfrm>
            <a:off x="4500720" y="2637000"/>
            <a:ext cx="86328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 rot="20728200">
            <a:off x="667260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3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12"/>
          <p:cNvSpPr/>
          <p:nvPr/>
        </p:nvSpPr>
        <p:spPr>
          <a:xfrm>
            <a:off x="2916360" y="4581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16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17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19"/>
          <p:cNvSpPr/>
          <p:nvPr/>
        </p:nvSpPr>
        <p:spPr>
          <a:xfrm>
            <a:off x="284328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20"/>
          <p:cNvSpPr/>
          <p:nvPr/>
        </p:nvSpPr>
        <p:spPr>
          <a:xfrm>
            <a:off x="284328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2 est –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Ellipse 15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16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lipse 12"/>
          <p:cNvSpPr/>
          <p:nvPr/>
        </p:nvSpPr>
        <p:spPr>
          <a:xfrm>
            <a:off x="20527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lipse 17"/>
          <p:cNvSpPr/>
          <p:nvPr/>
        </p:nvSpPr>
        <p:spPr>
          <a:xfrm>
            <a:off x="20527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10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11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–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Ellipse 9"/>
          <p:cNvSpPr/>
          <p:nvPr/>
        </p:nvSpPr>
        <p:spPr>
          <a:xfrm>
            <a:off x="468360" y="1700280"/>
            <a:ext cx="136692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0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1"/>
          <p:cNvSpPr/>
          <p:nvPr/>
        </p:nvSpPr>
        <p:spPr>
          <a:xfrm>
            <a:off x="466560" y="2708280"/>
            <a:ext cx="136872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4"/>
          <p:cNvSpPr/>
          <p:nvPr/>
        </p:nvSpPr>
        <p:spPr>
          <a:xfrm>
            <a:off x="5364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lipse 15"/>
          <p:cNvSpPr/>
          <p:nvPr/>
        </p:nvSpPr>
        <p:spPr>
          <a:xfrm>
            <a:off x="5364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u tableau de valeurs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, répondre aux question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par VRAI ou FAUX.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Ellipse 9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10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14"/>
          <p:cNvSpPr/>
          <p:nvPr/>
        </p:nvSpPr>
        <p:spPr>
          <a:xfrm>
            <a:off x="28447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5"/>
          <p:cNvSpPr/>
          <p:nvPr/>
        </p:nvSpPr>
        <p:spPr>
          <a:xfrm>
            <a:off x="28447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0" y="3435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 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Ellipse 9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2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4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e 15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e 10"/>
          <p:cNvSpPr/>
          <p:nvPr/>
        </p:nvSpPr>
        <p:spPr>
          <a:xfrm>
            <a:off x="20509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e 13"/>
          <p:cNvSpPr/>
          <p:nvPr/>
        </p:nvSpPr>
        <p:spPr>
          <a:xfrm>
            <a:off x="20509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Ellipse 9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0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11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2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cteur droit 13"/>
          <p:cNvSpPr/>
          <p:nvPr/>
        </p:nvSpPr>
        <p:spPr>
          <a:xfrm>
            <a:off x="2916360" y="4581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20"/>
          <p:cNvSpPr/>
          <p:nvPr/>
        </p:nvSpPr>
        <p:spPr>
          <a:xfrm>
            <a:off x="7020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21"/>
          <p:cNvSpPr/>
          <p:nvPr/>
        </p:nvSpPr>
        <p:spPr>
          <a:xfrm>
            <a:off x="7020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oneTexte 11"/>
          <p:cNvSpPr/>
          <p:nvPr/>
        </p:nvSpPr>
        <p:spPr>
          <a:xfrm>
            <a:off x="0" y="3433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est 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2"/>
          <p:cNvSpPr/>
          <p:nvPr/>
        </p:nvSpPr>
        <p:spPr>
          <a:xfrm>
            <a:off x="0" y="5229360"/>
            <a:ext cx="6372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est une solu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 </a:t>
            </a:r>
            <a:r>
              <a:rPr b="0" i="1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3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13"/>
          <p:cNvSpPr/>
          <p:nvPr/>
        </p:nvSpPr>
        <p:spPr>
          <a:xfrm>
            <a:off x="5003640" y="486900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llipse 21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llipse 22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llipse 23"/>
          <p:cNvSpPr/>
          <p:nvPr/>
        </p:nvSpPr>
        <p:spPr>
          <a:xfrm>
            <a:off x="284328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llipse 24"/>
          <p:cNvSpPr/>
          <p:nvPr/>
        </p:nvSpPr>
        <p:spPr>
          <a:xfrm>
            <a:off x="284328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oneTexte 11"/>
          <p:cNvSpPr/>
          <p:nvPr/>
        </p:nvSpPr>
        <p:spPr>
          <a:xfrm>
            <a:off x="0" y="39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Ellipse 7"/>
          <p:cNvSpPr/>
          <p:nvPr/>
        </p:nvSpPr>
        <p:spPr>
          <a:xfrm>
            <a:off x="5364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llipse 8"/>
          <p:cNvSpPr/>
          <p:nvPr/>
        </p:nvSpPr>
        <p:spPr>
          <a:xfrm>
            <a:off x="5364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llipse 9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lipse 10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12"/>
          <p:cNvSpPr/>
          <p:nvPr/>
        </p:nvSpPr>
        <p:spPr>
          <a:xfrm>
            <a:off x="0" y="486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necteur droit 13"/>
          <p:cNvSpPr/>
          <p:nvPr/>
        </p:nvSpPr>
        <p:spPr>
          <a:xfrm>
            <a:off x="1258920" y="4508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Ellipse 9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12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image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3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un antécédent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2 est –5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–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9:19Z</dcterms:modified>
  <cp:revision>244</cp:revision>
  <dc:subject/>
  <dc:title>Diapositive 0</dc:title>
</cp:coreProperties>
</file>