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18E6-9B94-4458-BFCC-99B10C35AB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45FF-94F1-43A5-84BB-C9369CCA37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612B-44F9-49B6-9BCE-5939A2594E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6BDF-D539-4963-B9D1-FE955154E2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3B21-1CEB-41AB-8323-FDE7186273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DD5A-C341-414F-B227-326B9E67E3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08DF-7B34-4A70-BDE0-8E178FD317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47E8-9FB0-40C9-B50A-22324ECF98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04F5-A626-432E-8C88-FDE55B28D9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D429-31B0-4DE8-B940-D858EA4B08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CC20-C4DD-4B76-BA99-9EEAD57775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EF1B-EBCA-47A7-9249-E0DE6663AA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F5FC-4CF9-45A6-BED9-FB3679BDEA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2F5A-40B7-4D77-9A9C-C61AEBF27B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CBF6-1EE1-4318-8E0F-F901015117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D650-0F29-41E6-92F4-A6C02D3F47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99A0-CA50-4994-B41C-C143ED192D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A90F-2A82-4DCC-B338-166A6D1EB0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9B76-E08D-4A2E-8672-14AA354F4B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81A9-1C6B-4136-A907-377D7B1407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50B8-24F0-4BE4-8456-E9D8D9FAC0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1547-BF6A-432E-B4BE-B11CD5D4C8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81F5-51F4-4000-AC42-CA3539DCD8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5D6B-D619-4560-B063-3F0D19BA07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1C85-6BF3-4E5D-83B7-11EBC27319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A92D-4C47-446B-AC14-85FF5EEBF9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3E9-E738-4366-8450-000A56EC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E72-C98E-4773-B2A0-B1780AE4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7E8-3F59-4E88-84CF-01BD8F58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06C-AF24-412C-B3FB-215B2571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27D-1A3C-4E13-81D3-417FAC9A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529-1FD6-4D23-963B-34BA3183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206-5EDC-4B68-AD95-1F68359E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4DD-DF93-47C6-97D5-146A41B0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B10-3364-4AA7-8282-A324D059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811-A723-43A5-8DCC-88B3287A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FA9-9C73-482B-A9BC-66184CA3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80B-1F35-409A-9152-C1E851CF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059F-76EE-465B-8707-4B75A718610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D738-D2FF-468A-ACA5-C8F646971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 4" descr="FctOuPasFct7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4" descr="FctOuPasFct8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 5" descr="FctOuPasFct9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 4" descr="FctOuPasFct10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 10" descr="FctOuPasFct1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75" name="Ellipse 3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 5" descr="FctOuPasFct2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78" name="Ellipse 3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as 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age 4" descr="FctOuPasFct3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81" name="Ellipse 5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age 4" descr="FctOuPasFct4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84" name="Ellipse 5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FctOuPasFct5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87" name="Ellipse 5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as 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à coins arrondis 4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FONCTION OU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PAS FONCTION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4" descr="FctOuPasFct6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90" name="Ellipse 5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4" descr="FctOuPasFct7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93" name="Ellipse 5"/>
          <p:cNvSpPr/>
          <p:nvPr/>
        </p:nvSpPr>
        <p:spPr>
          <a:xfrm rot="20611200">
            <a:off x="358920" y="3003120"/>
            <a:ext cx="2752560" cy="11527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 4" descr="FctOuPasFct8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96" name="Ellipse 5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 5" descr="FctOuPasFct9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99" name="Ellipse 4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as 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 4" descr="FctOuPasFct10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102" name="Ellipse 6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as 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Arial"/>
              </a:rPr>
              <a:t>P</a:t>
            </a: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our chaque courbe, dire si elle correspond à la représentation graphique d’une fonction ou non.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age 10" descr="FctOuPasFct1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 5" descr="FctOuPasFct2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age 4" descr="FctOuPasFct3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 4" descr="FctOuPasFct4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 4" descr="FctOuPasFct5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 4" descr="FctOuPasFct6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Xavier Malbert</dc:creator>
  <dc:description/>
  <dc:language>en-US</dc:language>
  <cp:lastModifiedBy>Marielle Séguy</cp:lastModifiedBy>
  <dcterms:modified xsi:type="dcterms:W3CDTF">2015-04-23T09:45:17Z</dcterms:modified>
  <cp:revision>263</cp:revision>
  <dc:subject/>
  <dc:title>Fonction ou Pas fonction</dc:title>
</cp:coreProperties>
</file>