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C8AC-0714-4E01-864E-65865E8708C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2B04-9D3A-4543-B7B6-EB494A9DDF4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A7B7-4F0A-4AAC-A70A-F38B3A1572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9E98-A0F6-4A5C-BDAF-DC4923C730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0124-9D38-4B95-A94C-B6E6CBDA231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0B83-8027-42B3-9AA0-C93EACFAB7A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0980-FAB9-455E-8A9D-C4459414392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AA49-A576-4D72-B938-E1248729FB0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BFA1-6B9B-4F29-BEFC-1CF0FD48941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7FBE-9F25-44E9-BADC-CB8F81CA32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F2F1-EE9A-4DBB-9984-BE2DC06DFE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9FE5-47BE-42C2-8CD6-8143B74BEC1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B1D6-7B5B-4C80-8E01-6F4D759A073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28F1-FBE8-4FA5-AE6C-001BC7D26C2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84C3-0D60-4A13-87BF-A00B9F22B8A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02B1-D50A-4B58-9EB8-A9070C3C68A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2277-55B3-41AE-9BB4-D544694EAE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9415-D0AC-4C42-A225-60B5BD90D28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6E2F-A6F2-4228-9F30-48BBA2B975A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1424-4CD6-4C0E-94D5-EF21D1341F2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40E4-51D3-4FA7-B976-1B09112D7A1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48FE-8472-4527-949A-18CCFC58A5D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69F0-E18A-48BB-9F78-F92636B017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DF0C-6B3B-41BF-A009-FD4E692F03B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9718-3115-46E2-AC1A-BBD60E2CDCF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D46D-7786-4C31-8780-34080C22A7A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C696-9A3B-4746-AA0A-ECDAA8076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3D0E-272A-400E-B6D6-969E1CB6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E0D0-360E-4D83-8330-971F0174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098F-69A6-4CBD-B594-9FE3693C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FD73-B3D7-4FDA-8806-7008C806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2746-85F9-4001-88B6-492BE477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4325-1748-4472-8B4D-95DAE6FF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4C59-06ED-4B3E-BE44-3A561446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110D-8FD4-41C4-B9F0-FF267060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6748-F1F0-4042-BABC-F28E4585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F381-9D05-499C-B622-64546581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D49B-16F0-4853-982D-8BA0F131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44F9-2BE8-422D-BC7D-61145227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12C2-C14D-4F1C-A696-5143194C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018A-4015-450C-8FAA-8BA85C63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B6EA-90E1-49B1-A022-F9335D1F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6639-85A7-4ED9-872B-EAFD86E5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0670-C8AA-4DD8-B7C5-DCAB6F58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1FF2-B5B4-410E-B65D-B845AF36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4F40-BB6D-4B3D-8FC2-24075DC5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B317-EA44-4C81-B006-67DFD44C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72B0-BB00-4D56-9235-66AE941D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AF7E-7BEC-4346-8F0F-1F1901AF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37D8-A1EA-478F-A950-14757230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9005-C323-4B14-A352-A595A6A3723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AA93-4212-46AD-9715-722C18B60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6FDD-0BA4-40AE-860D-8965613961A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DDDF-8D3B-4A68-8F46-EF613ACD4C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800" spc="-1" strike="noStrike">
                <a:solidFill>
                  <a:srgbClr val="0042c8"/>
                </a:solidFill>
                <a:latin typeface="Georgia"/>
              </a:rPr>
              <a:t>NOTION DE FONCTION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oneTexte 11"/>
          <p:cNvSpPr/>
          <p:nvPr/>
        </p:nvSpPr>
        <p:spPr>
          <a:xfrm>
            <a:off x="0" y="537372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 4 ; 7] l’inéquation </a:t>
            </a:r>
            <a:r>
              <a:rPr b="0" i="1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g</a:t>
            </a: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≤ 3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e 15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259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260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261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2" name="Ellipse 36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Ellipse 37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Ellipse 39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Ellipse 40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Ellipse 41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Ellipse 42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Ellipse 43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Ellipse 34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272" name="Rectangle 31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Connecteur droit 32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275" name="Rectangle 29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Connecteur droit 30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ZoneTexte 11"/>
          <p:cNvSpPr/>
          <p:nvPr/>
        </p:nvSpPr>
        <p:spPr>
          <a:xfrm>
            <a:off x="0" y="5373720"/>
            <a:ext cx="9180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 4 ; 7] l’inéquation </a:t>
            </a:r>
            <a:r>
              <a:rPr b="0" i="1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g</a:t>
            </a: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≥ –2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e 15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280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281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282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3" name="Ellipse 36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Ellipse 37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Ellipse 39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Ellipse 40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Ellipse 41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Ellipse 42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Ellipse 43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Ellipse 34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293" name="Rectangle 31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Connecteur droit 32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296" name="Rectangle 29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Connecteur droit 30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ZoneTexte 11"/>
          <p:cNvSpPr/>
          <p:nvPr/>
        </p:nvSpPr>
        <p:spPr>
          <a:xfrm>
            <a:off x="0" y="537372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 4 ; 7] l’inéquation </a:t>
            </a:r>
            <a:r>
              <a:rPr b="0" i="1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g</a:t>
            </a: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&lt; 3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e 15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301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302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303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4" name="Ellipse 27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Ellipse 28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Ellipse 30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Ellipse 32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Ellipse 41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Ellipse 42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Ellipse 43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" name="Ellipse 25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314" name="Rectangle 22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Connecteur droit 23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317" name="Rectangle 20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Connecteur droit 21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ZoneTexte 11"/>
          <p:cNvSpPr/>
          <p:nvPr/>
        </p:nvSpPr>
        <p:spPr>
          <a:xfrm>
            <a:off x="0" y="5373720"/>
            <a:ext cx="9180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 4 ; 7] l’inéquation </a:t>
            </a:r>
            <a:r>
              <a:rPr b="0" i="1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g</a:t>
            </a: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&lt; –3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e 15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322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323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324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5" name="Ellipse 36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Ellipse 37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Ellipse 39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Ellipse 40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Ellipse 41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Ellipse 42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Ellipse 43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Ellipse 34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335" name="Rectangle 31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Connecteur droit 32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338" name="Rectangle 29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Connecteur droit 30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e 65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342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343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Ellipse 74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Ellipse 75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Ellipse 76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Ellipse 77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Ellipse 78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Ellipse 79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Ellipse 80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Ellipse 81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Ellipse 82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354" name="Rectangle 71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Connecteur droit 72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357" name="Rectangle 69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Connecteur droit 70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ZoneTexte 11"/>
          <p:cNvSpPr/>
          <p:nvPr/>
        </p:nvSpPr>
        <p:spPr>
          <a:xfrm>
            <a:off x="0" y="51800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7 ; 6] l’équation 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0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ZoneTexte 11"/>
          <p:cNvSpPr/>
          <p:nvPr/>
        </p:nvSpPr>
        <p:spPr>
          <a:xfrm>
            <a:off x="0" y="566100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ur [–7 ; 6] l’équation </a:t>
            </a:r>
            <a:r>
              <a:rPr b="0" i="1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 = 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 deux solutions 1 et 5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Connecteur droit avec flèche 10"/>
          <p:cNvCxnSpPr/>
          <p:nvPr/>
        </p:nvCxnSpPr>
        <p:spPr>
          <a:xfrm flipH="1">
            <a:off x="1978920" y="3095280"/>
            <a:ext cx="281052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62" name="Connecteur droit avec flèche 13"/>
          <p:cNvCxnSpPr/>
          <p:nvPr/>
        </p:nvCxnSpPr>
        <p:spPr>
          <a:xfrm flipV="1">
            <a:off x="4788000" y="3095280"/>
            <a:ext cx="2448720" cy="86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63" name="Connecteur droit 17"/>
          <p:cNvSpPr/>
          <p:nvPr/>
        </p:nvSpPr>
        <p:spPr>
          <a:xfrm>
            <a:off x="5202360" y="2924280"/>
            <a:ext cx="0" cy="28872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Connecteur droit 18"/>
          <p:cNvSpPr/>
          <p:nvPr/>
        </p:nvSpPr>
        <p:spPr>
          <a:xfrm>
            <a:off x="6804000" y="2924280"/>
            <a:ext cx="0" cy="28872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e 47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367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368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Ellipse 56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Ellipse 57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Ellipse 58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Ellipse 59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Ellipse 60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Ellipse 61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Ellipse 62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Ellipse 63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Ellipse 64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379" name="Rectangle 53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Connecteur droit 54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382" name="Rectangle 51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Connecteur droit 52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ZoneTexte 11"/>
          <p:cNvSpPr/>
          <p:nvPr/>
        </p:nvSpPr>
        <p:spPr>
          <a:xfrm>
            <a:off x="0" y="52293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3 ; 0] l’équation 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–2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ZoneTexte 11"/>
          <p:cNvSpPr/>
          <p:nvPr/>
        </p:nvSpPr>
        <p:spPr>
          <a:xfrm>
            <a:off x="0" y="57326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ur [–3 ; 0] l’équation </a:t>
            </a:r>
            <a:r>
              <a:rPr b="0" i="1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 = –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 une solution –2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Connecteur droit avec flèche 11"/>
          <p:cNvCxnSpPr/>
          <p:nvPr/>
        </p:nvCxnSpPr>
        <p:spPr>
          <a:xfrm flipH="1">
            <a:off x="3563640" y="3860280"/>
            <a:ext cx="12261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87" name="Connecteur droit avec flèche 17"/>
          <p:cNvCxnSpPr/>
          <p:nvPr/>
        </p:nvCxnSpPr>
        <p:spPr>
          <a:xfrm flipV="1">
            <a:off x="3995280" y="3068280"/>
            <a:ext cx="1080" cy="792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8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e 44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390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391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" name="Ellipse 53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Ellipse 54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Ellipse 55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Ellipse 56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Ellipse 57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Ellipse 58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Ellipse 59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Ellipse 60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Ellipse 61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402" name="Rectangle 50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Connecteur droit 51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405" name="Rectangle 48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Connecteur droit 49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ZoneTexte 11"/>
          <p:cNvSpPr/>
          <p:nvPr/>
        </p:nvSpPr>
        <p:spPr>
          <a:xfrm>
            <a:off x="0" y="52293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7 ; 0] l’équation 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–1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ZoneTexte 11"/>
          <p:cNvSpPr/>
          <p:nvPr/>
        </p:nvSpPr>
        <p:spPr>
          <a:xfrm>
            <a:off x="0" y="57326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ur [–7 ; 0] l’équation </a:t>
            </a:r>
            <a:r>
              <a:rPr b="0" i="1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 = –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 deux solutions –3 et 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Connecteur droit avec flèche 10"/>
          <p:cNvCxnSpPr/>
          <p:nvPr/>
        </p:nvCxnSpPr>
        <p:spPr>
          <a:xfrm flipH="1">
            <a:off x="1978920" y="3492000"/>
            <a:ext cx="281052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10" name="Connecteur droit avec flèche 12"/>
          <p:cNvCxnSpPr/>
          <p:nvPr/>
        </p:nvCxnSpPr>
        <p:spPr>
          <a:xfrm flipV="1">
            <a:off x="3600000" y="3060000"/>
            <a:ext cx="1080" cy="432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11" name="Connecteur droit avec flèche 18"/>
          <p:cNvCxnSpPr/>
          <p:nvPr/>
        </p:nvCxnSpPr>
        <p:spPr>
          <a:xfrm flipV="1">
            <a:off x="4787640" y="3060000"/>
            <a:ext cx="1080" cy="432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41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e 44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414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415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Ellipse 53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Ellipse 54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Ellipse 55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Ellipse 56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Ellipse 57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Ellipse 58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Ellipse 59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Ellipse 60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Ellipse 61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426" name="Rectangle 50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Connecteur droit 51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429" name="Rectangle 48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Connecteur droit 49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ZoneTexte 11"/>
          <p:cNvSpPr/>
          <p:nvPr/>
        </p:nvSpPr>
        <p:spPr>
          <a:xfrm>
            <a:off x="0" y="51800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Sur [–7 ; 6] combien de solutions a l’équation 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1 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ZoneTexte 11"/>
          <p:cNvSpPr/>
          <p:nvPr/>
        </p:nvSpPr>
        <p:spPr>
          <a:xfrm>
            <a:off x="0" y="57326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ur [–7 ; 6] l’équation </a:t>
            </a:r>
            <a:r>
              <a:rPr b="0" i="1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 = 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 deux solu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Connecteur droit avec flèche 8"/>
          <p:cNvCxnSpPr/>
          <p:nvPr/>
        </p:nvCxnSpPr>
        <p:spPr>
          <a:xfrm flipH="1">
            <a:off x="1978920" y="2707920"/>
            <a:ext cx="281052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34" name="Connecteur droit avec flèche 11"/>
          <p:cNvCxnSpPr/>
          <p:nvPr/>
        </p:nvCxnSpPr>
        <p:spPr>
          <a:xfrm>
            <a:off x="4789440" y="2707920"/>
            <a:ext cx="244728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35" name="Connecteur droit avec flèche 20"/>
          <p:cNvCxnSpPr/>
          <p:nvPr/>
        </p:nvCxnSpPr>
        <p:spPr>
          <a:xfrm flipH="1">
            <a:off x="5508000" y="2707920"/>
            <a:ext cx="1080" cy="36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36" name="Connecteur droit avec flèche 21"/>
          <p:cNvCxnSpPr/>
          <p:nvPr/>
        </p:nvCxnSpPr>
        <p:spPr>
          <a:xfrm flipH="1">
            <a:off x="6587280" y="2707920"/>
            <a:ext cx="1080" cy="36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43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e 47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439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440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Ellipse 56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Ellipse 57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Ellipse 58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Ellipse 59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Ellipse 60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Ellipse 61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Ellipse 62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Ellipse 63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Ellipse 64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451" name="Rectangle 53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Connecteur droit 54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454" name="Rectangle 51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Connecteur droit 52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6" name="ZoneTexte 11"/>
          <p:cNvSpPr/>
          <p:nvPr/>
        </p:nvSpPr>
        <p:spPr>
          <a:xfrm>
            <a:off x="0" y="52293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7 ; 6] l’équation 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4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oneTexte 11"/>
          <p:cNvSpPr/>
          <p:nvPr/>
        </p:nvSpPr>
        <p:spPr>
          <a:xfrm>
            <a:off x="0" y="57326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ur [-7 ; 6] l’équation </a:t>
            </a:r>
            <a:r>
              <a:rPr b="0" i="1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 = 4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’a aucune solu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Connecteur droit avec flèche 7"/>
          <p:cNvCxnSpPr/>
          <p:nvPr/>
        </p:nvCxnSpPr>
        <p:spPr>
          <a:xfrm flipH="1">
            <a:off x="1978920" y="1483920"/>
            <a:ext cx="281052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59" name="Connecteur droit avec flèche 8"/>
          <p:cNvCxnSpPr/>
          <p:nvPr/>
        </p:nvCxnSpPr>
        <p:spPr>
          <a:xfrm>
            <a:off x="4789440" y="1483920"/>
            <a:ext cx="244728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46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e 27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92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93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Ellipse 8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Ellipse 9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Ellipse 11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Ellipse 13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Ellipse 14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Ellipse 15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Ellipse 16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Ellipse 17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Ellipse 18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104" name="Rectangle 19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Connecteur droit 21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107" name="Rectangle 24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Connecteur droit 25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ZoneTexte 11"/>
          <p:cNvSpPr/>
          <p:nvPr/>
        </p:nvSpPr>
        <p:spPr>
          <a:xfrm>
            <a:off x="0" y="537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les équations proposé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tre 1"/>
          <p:cNvSpPr/>
          <p:nvPr/>
        </p:nvSpPr>
        <p:spPr>
          <a:xfrm>
            <a:off x="0" y="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Voici la représentation graphique d’une fonction </a:t>
            </a:r>
            <a:r>
              <a:rPr b="0" i="1" lang="fr-FR" sz="40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f </a:t>
            </a:r>
            <a:r>
              <a:rPr b="0" lang="fr-FR" sz="40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définie sur [–7 ; 6]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e 21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462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463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464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5" name="Ellipse 42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Ellipse 43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Ellipse 45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Ellipse 46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Ellipse 47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Ellipse 48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Ellipse 49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Ellipse 40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475" name="Rectangle 37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Connecteur droit 38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478" name="Rectangle 27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Connecteur droit 36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0" name="ZoneTexte 11"/>
          <p:cNvSpPr/>
          <p:nvPr/>
        </p:nvSpPr>
        <p:spPr>
          <a:xfrm>
            <a:off x="0" y="52671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 4 ; 7] l’inéquation 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g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≥ 1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ZoneTexte 11"/>
          <p:cNvSpPr/>
          <p:nvPr/>
        </p:nvSpPr>
        <p:spPr>
          <a:xfrm>
            <a:off x="0" y="5732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’ensemble des solutions est [– 4 ; 0]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Connecteur droit 11"/>
          <p:cNvSpPr/>
          <p:nvPr/>
        </p:nvSpPr>
        <p:spPr>
          <a:xfrm flipH="1">
            <a:off x="2771280" y="2852640"/>
            <a:ext cx="172908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Connecteur droit 16"/>
          <p:cNvSpPr/>
          <p:nvPr/>
        </p:nvSpPr>
        <p:spPr>
          <a:xfrm flipH="1">
            <a:off x="2771280" y="3284640"/>
            <a:ext cx="172908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Connecteur droit avec flèche 9"/>
          <p:cNvCxnSpPr/>
          <p:nvPr/>
        </p:nvCxnSpPr>
        <p:spPr>
          <a:xfrm flipH="1">
            <a:off x="2770920" y="2923920"/>
            <a:ext cx="1080" cy="36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85" name="Connecteur droit avec flèche 10"/>
          <p:cNvCxnSpPr/>
          <p:nvPr/>
        </p:nvCxnSpPr>
        <p:spPr>
          <a:xfrm flipH="1">
            <a:off x="4500000" y="2925360"/>
            <a:ext cx="1080" cy="3596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86" name="Connecteur droit avec flèche 12"/>
          <p:cNvCxnSpPr/>
          <p:nvPr/>
        </p:nvCxnSpPr>
        <p:spPr>
          <a:xfrm flipV="1">
            <a:off x="4500360" y="1628280"/>
            <a:ext cx="1080" cy="1224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48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Groupe 50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489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490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491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2" name="Ellipse 61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Ellipse 62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Ellipse 64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Ellipse 65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Ellipse 66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Ellipse 67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Ellipse 68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Ellipse 59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502" name="Rectangle 56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Connecteur droit 57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505" name="Rectangle 54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Connecteur droit 55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ZoneTexte 11"/>
          <p:cNvSpPr/>
          <p:nvPr/>
        </p:nvSpPr>
        <p:spPr>
          <a:xfrm>
            <a:off x="0" y="52513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 4 ; 7] l’inéquation 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g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≤ 3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ZoneTexte 11"/>
          <p:cNvSpPr/>
          <p:nvPr/>
        </p:nvSpPr>
        <p:spPr>
          <a:xfrm>
            <a:off x="0" y="5732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’ensemble des solutions est [– 4 ; 7]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onnecteur droit 7"/>
          <p:cNvSpPr/>
          <p:nvPr/>
        </p:nvSpPr>
        <p:spPr>
          <a:xfrm flipH="1">
            <a:off x="2771280" y="1962000"/>
            <a:ext cx="475308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onnecteur droit 8"/>
          <p:cNvSpPr/>
          <p:nvPr/>
        </p:nvSpPr>
        <p:spPr>
          <a:xfrm flipH="1">
            <a:off x="2771280" y="3284640"/>
            <a:ext cx="475308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1" name="Connecteur droit avec flèche 9"/>
          <p:cNvCxnSpPr/>
          <p:nvPr/>
        </p:nvCxnSpPr>
        <p:spPr>
          <a:xfrm>
            <a:off x="4500360" y="1988640"/>
            <a:ext cx="1080" cy="3096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12" name="Connecteur droit avec flèche 11"/>
          <p:cNvCxnSpPr/>
          <p:nvPr/>
        </p:nvCxnSpPr>
        <p:spPr>
          <a:xfrm>
            <a:off x="2771280" y="1988640"/>
            <a:ext cx="1080" cy="1296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13" name="Connecteur droit avec flèche 13"/>
          <p:cNvCxnSpPr/>
          <p:nvPr/>
        </p:nvCxnSpPr>
        <p:spPr>
          <a:xfrm>
            <a:off x="7524360" y="1988640"/>
            <a:ext cx="1080" cy="1296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51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e 24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516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517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518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9" name="Ellipse 48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Ellipse 49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Ellipse 51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Ellipse 52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Ellipse 53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Ellipse 54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Ellipse 55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Ellipse 46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529" name="Rectangle 43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Connecteur droit 44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532" name="Rectangle 39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Connecteur droit 41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4" name="ZoneTexte 11"/>
          <p:cNvSpPr/>
          <p:nvPr/>
        </p:nvSpPr>
        <p:spPr>
          <a:xfrm>
            <a:off x="-36360" y="5300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 4 ; 7] l’inéquation 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g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≥ –2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ZoneTexte 11"/>
          <p:cNvSpPr/>
          <p:nvPr/>
        </p:nvSpPr>
        <p:spPr>
          <a:xfrm>
            <a:off x="0" y="57834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’ensemble des solutions est [– 4 ; 1]</a:t>
            </a:r>
            <a:r>
              <a:rPr b="0" lang="fr-FR" sz="3000" spc="-1" strike="noStrike">
                <a:solidFill>
                  <a:srgbClr val="00b050"/>
                </a:solidFill>
                <a:latin typeface="Arial"/>
              </a:rPr>
              <a:t>∪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[4 ; 7]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Connecteur droit 7"/>
          <p:cNvSpPr/>
          <p:nvPr/>
        </p:nvSpPr>
        <p:spPr>
          <a:xfrm flipH="1">
            <a:off x="2771280" y="4194000"/>
            <a:ext cx="4753080" cy="972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Connecteur droit 8"/>
          <p:cNvSpPr/>
          <p:nvPr/>
        </p:nvSpPr>
        <p:spPr>
          <a:xfrm flipH="1">
            <a:off x="2771640" y="3284640"/>
            <a:ext cx="216072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Connecteur droit avec flèche 9"/>
          <p:cNvCxnSpPr/>
          <p:nvPr/>
        </p:nvCxnSpPr>
        <p:spPr>
          <a:xfrm flipH="1" flipV="1">
            <a:off x="4500000" y="1699920"/>
            <a:ext cx="1080" cy="25214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39" name="Connecteur droit avec flèche 13"/>
          <p:cNvCxnSpPr/>
          <p:nvPr/>
        </p:nvCxnSpPr>
        <p:spPr>
          <a:xfrm flipV="1">
            <a:off x="4932000" y="3283920"/>
            <a:ext cx="1080" cy="937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40" name="Connecteur droit avec flèche 15"/>
          <p:cNvCxnSpPr/>
          <p:nvPr/>
        </p:nvCxnSpPr>
        <p:spPr>
          <a:xfrm flipV="1">
            <a:off x="6227280" y="3283920"/>
            <a:ext cx="1080" cy="937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41" name="Connecteur droit avec flèche 38"/>
          <p:cNvCxnSpPr/>
          <p:nvPr/>
        </p:nvCxnSpPr>
        <p:spPr>
          <a:xfrm flipV="1">
            <a:off x="2771280" y="3283920"/>
            <a:ext cx="1080" cy="937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42" name="Connecteur droit avec flèche 40"/>
          <p:cNvCxnSpPr/>
          <p:nvPr/>
        </p:nvCxnSpPr>
        <p:spPr>
          <a:xfrm flipV="1">
            <a:off x="7524360" y="3283920"/>
            <a:ext cx="1080" cy="937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543" name="Connecteur droit 42"/>
          <p:cNvSpPr/>
          <p:nvPr/>
        </p:nvSpPr>
        <p:spPr>
          <a:xfrm flipH="1">
            <a:off x="6227280" y="3284640"/>
            <a:ext cx="129708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e 23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546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547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548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9" name="Ellipse 35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Ellipse 36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Ellipse 38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Ellipse 39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Ellipse 41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Ellipse 50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Ellipse 51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7" name="Ellipse 33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559" name="Rectangle 30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Connecteur droit 31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562" name="Rectangle 28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Connecteur droit 29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4" name="ZoneTexte 11"/>
          <p:cNvSpPr/>
          <p:nvPr/>
        </p:nvSpPr>
        <p:spPr>
          <a:xfrm>
            <a:off x="0" y="5300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 4 ; 7] l’inéquation 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g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&lt; 3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ZoneTexte 11"/>
          <p:cNvSpPr/>
          <p:nvPr/>
        </p:nvSpPr>
        <p:spPr>
          <a:xfrm>
            <a:off x="0" y="5732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’ensemble des solutions est [– 4 ; –1[</a:t>
            </a:r>
            <a:r>
              <a:rPr b="0" lang="fr-FR" sz="3000" spc="-1" strike="noStrike">
                <a:solidFill>
                  <a:srgbClr val="00b050"/>
                </a:solidFill>
                <a:latin typeface="Calibri"/>
              </a:rPr>
              <a:t>∪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] –1 ; 7]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Connecteur droit 9"/>
          <p:cNvSpPr/>
          <p:nvPr/>
        </p:nvSpPr>
        <p:spPr>
          <a:xfrm flipH="1">
            <a:off x="2771280" y="3284640"/>
            <a:ext cx="475308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Ellipse 10"/>
          <p:cNvSpPr/>
          <p:nvPr/>
        </p:nvSpPr>
        <p:spPr>
          <a:xfrm flipV="1">
            <a:off x="3706920" y="1628640"/>
            <a:ext cx="649080" cy="648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Connecteur droit 11"/>
          <p:cNvSpPr/>
          <p:nvPr/>
        </p:nvSpPr>
        <p:spPr>
          <a:xfrm>
            <a:off x="4049640" y="3168720"/>
            <a:ext cx="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Connecteur droit 12"/>
          <p:cNvSpPr/>
          <p:nvPr/>
        </p:nvSpPr>
        <p:spPr>
          <a:xfrm flipH="1">
            <a:off x="2771280" y="1979640"/>
            <a:ext cx="475308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0" name="Connecteur droit avec flèche 14"/>
          <p:cNvCxnSpPr/>
          <p:nvPr/>
        </p:nvCxnSpPr>
        <p:spPr>
          <a:xfrm>
            <a:off x="4500360" y="1988640"/>
            <a:ext cx="1080" cy="3096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71" name="Connecteur droit avec flèche 15"/>
          <p:cNvCxnSpPr/>
          <p:nvPr/>
        </p:nvCxnSpPr>
        <p:spPr>
          <a:xfrm>
            <a:off x="2771280" y="1988640"/>
            <a:ext cx="1080" cy="1296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72" name="Connecteur droit avec flèche 16"/>
          <p:cNvCxnSpPr/>
          <p:nvPr/>
        </p:nvCxnSpPr>
        <p:spPr>
          <a:xfrm>
            <a:off x="7524360" y="1988640"/>
            <a:ext cx="1080" cy="1296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57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e 18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575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576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577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8" name="Ellipse 30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Ellipse 31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Ellipse 34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Ellipse 43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Ellipse 44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Ellipse 45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Ellipse 46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6" name="Ellipse 28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588" name="Rectangle 25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Connecteur droit 26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591" name="Rectangle 23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Connecteur droit 24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3" name="ZoneTexte 11"/>
          <p:cNvSpPr/>
          <p:nvPr/>
        </p:nvSpPr>
        <p:spPr>
          <a:xfrm>
            <a:off x="0" y="5300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 4 ; 7] l’inéquation 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g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&lt; –3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Connecteur droit 5"/>
          <p:cNvSpPr/>
          <p:nvPr/>
        </p:nvSpPr>
        <p:spPr>
          <a:xfrm flipH="1">
            <a:off x="2700000" y="4653000"/>
            <a:ext cx="482436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ZoneTexte 11"/>
          <p:cNvSpPr/>
          <p:nvPr/>
        </p:nvSpPr>
        <p:spPr>
          <a:xfrm>
            <a:off x="0" y="5732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’inéquation n’a aucune solu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6" name="Connecteur droit avec flèche 8"/>
          <p:cNvCxnSpPr/>
          <p:nvPr/>
        </p:nvCxnSpPr>
        <p:spPr>
          <a:xfrm>
            <a:off x="4500360" y="4652640"/>
            <a:ext cx="1080" cy="432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59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ZoneTexte 11"/>
          <p:cNvSpPr/>
          <p:nvPr/>
        </p:nvSpPr>
        <p:spPr>
          <a:xfrm>
            <a:off x="0" y="537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7 ; 6] l’équation 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0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e 20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114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115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Ellipse 29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Ellipse 30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Ellipse 31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Ellipse 32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Ellipse 33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Ellipse 34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Ellipse 35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Ellipse 36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Ellipse 37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126" name="Rectangle 26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Connecteur droit 27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129" name="Rectangle 24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Connecteur droit 25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11"/>
          <p:cNvSpPr/>
          <p:nvPr/>
        </p:nvSpPr>
        <p:spPr>
          <a:xfrm>
            <a:off x="0" y="537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3 ; 0] l’équation 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–2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e 38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135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136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Ellipse 47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Ellipse 48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Ellipse 49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Ellipse 50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Ellipse 51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Ellipse 52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Ellipse 53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Ellipse 54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Ellipse 55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147" name="Rectangle 44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Connecteur droit 45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150" name="Rectangle 42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Connecteur droit 43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ZoneTexte 11"/>
          <p:cNvSpPr/>
          <p:nvPr/>
        </p:nvSpPr>
        <p:spPr>
          <a:xfrm>
            <a:off x="0" y="537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7 ; 0] l’équation 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–1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e 38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156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157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Ellipse 47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Ellipse 48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Ellipse 49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Ellipse 50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Ellipse 51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Ellipse 52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Ellipse 53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Ellipse 54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Ellipse 55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168" name="Rectangle 44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Connecteur droit 45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171" name="Rectangle 42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Connecteur droit 43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11"/>
          <p:cNvSpPr/>
          <p:nvPr/>
        </p:nvSpPr>
        <p:spPr>
          <a:xfrm>
            <a:off x="0" y="5373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Sur [–7 ; 6] combien de solutions a l’équation 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1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e 38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177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178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Ellipse 47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Ellipse 48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Ellipse 49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Ellipse 50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Ellipse 51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Ellipse 52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Ellipse 53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Ellipse 54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Ellipse 55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189" name="Rectangle 44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Connecteur droit 45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192" name="Rectangle 42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Connecteur droit 43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ZoneTexte 11"/>
          <p:cNvSpPr/>
          <p:nvPr/>
        </p:nvSpPr>
        <p:spPr>
          <a:xfrm>
            <a:off x="0" y="537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7 ; 6] l’équation 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4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e 41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197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198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Ellipse 50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Ellipse 51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Ellipse 52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Ellipse 53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Ellipse 54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Ellipse 55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Ellipse 56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Ellipse 57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Ellipse 58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209" name="Rectangle 47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Connecteur droit 48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212" name="Rectangle 45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Connecteur droit 46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ZoneTexte 11"/>
          <p:cNvSpPr/>
          <p:nvPr/>
        </p:nvSpPr>
        <p:spPr>
          <a:xfrm>
            <a:off x="0" y="537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les inéquations proposé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re 1"/>
          <p:cNvSpPr/>
          <p:nvPr/>
        </p:nvSpPr>
        <p:spPr>
          <a:xfrm>
            <a:off x="0" y="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Voici la représentation graphique d’une fonction </a:t>
            </a:r>
            <a:r>
              <a:rPr b="0" i="1" lang="fr-FR" sz="40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g </a:t>
            </a:r>
            <a:r>
              <a:rPr b="0" lang="fr-FR" sz="40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définie sur [– 4 ; 7]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e 24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217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218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219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0" name="Ellipse 7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Ellipse 8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Ellipse 10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Ellipse 11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Ellipse 12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Ellipse 13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Ellipse 14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Ellipse 16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230" name="Rectangle 15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Connecteur droit 18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233" name="Rectangle 22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Connecteur droit 23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ZoneTexte 11"/>
          <p:cNvSpPr/>
          <p:nvPr/>
        </p:nvSpPr>
        <p:spPr>
          <a:xfrm>
            <a:off x="0" y="537372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 4 ; 7] l’inéquation </a:t>
            </a:r>
            <a:r>
              <a:rPr b="0" i="1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g</a:t>
            </a: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≥ 1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e 15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238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239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240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1" name="Ellipse 28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Ellipse 29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Ellipse 31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Ellipse 32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Ellipse 33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Ellipse 34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Ellipse 35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9" name="Ellipse 26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251" name="Rectangle 23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Connecteur droit 24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254" name="Rectangle 21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Connecteur droit 22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4-23T09:50:17Z</dcterms:modified>
  <cp:revision>251</cp:revision>
  <dc:subject/>
  <dc:title>Diapositive 0</dc:title>
</cp:coreProperties>
</file>