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92FF-8850-4CD2-835F-69FF3735E4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512-7A91-47E8-B614-2A0A838105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CD1E-786F-412C-A01B-AA1F320F53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224-0887-4095-AE61-EE7E58C9A8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1B1-DDFE-4F72-8C4D-85FF1B9E92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0DB9-09F7-416C-8C3A-3186F2B6FF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0AA-067F-479A-BCC5-7AB5691D17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35D-0405-4E52-9745-30685ED947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A8BA-3431-4C78-B1C1-6595079E5D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B9B-A7D6-46A3-A6BF-973D5DB33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6AC2-DA22-4791-8851-51C53464D4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31A-42C2-46AD-BA61-F3C8028C85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8A3-75F4-401D-9E5F-89A788E6C4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603-35EE-44C4-81D3-00F3346A0F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0B1-2651-4A2F-BCE8-C684C946D1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036-FDDC-4C29-90F2-183931E536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3CC7-09C2-48AA-8662-27182D0CFC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593-A483-445C-84F7-B8502EA91B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F037-9185-4B16-8E14-4465DA3527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E673-41A8-43F9-A965-5289C8D66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7196-9B68-4A34-A6D1-8EF8401A1A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E92C-4158-4281-BB8B-913CDF8692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81FE-8241-4F49-AA22-D029DB6E49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A84-E70F-4B0F-96FC-0DD8F64A2A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2006-A900-4019-B9B3-04F0D8F545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CED7-5310-4067-AB61-EBBD6DE4EF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F8F-5EEE-4D82-80EF-45A5D2BA16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F6A-ED7B-4A31-A08F-B8DFFCF06D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47D-C8EE-4B15-8A4C-1FA79780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496-D858-451C-9804-D7F8026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FA-FF66-4AA5-A05D-9B0BD9E8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069-5371-4EC1-BE0C-92901E78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8B7-BE1D-4F2A-BA54-0475E01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4FD-F348-41FE-9F80-420C7F48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C47-F6C3-447D-BD0C-502112D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489-7757-41BE-9820-1B8985A3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D7A-F37A-4F4D-BEB2-6DC74DB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A59-4AB5-411D-BD78-5A4C231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9FB-2750-4F3A-B5F6-B21DDCC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015-20D2-4CFC-9934-A262D69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727E-49D2-4B28-B851-5F02E9F5CA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418-7970-40B3-966F-4B576E87B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2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5" descr=""/>
          <p:cNvPicPr/>
          <p:nvPr/>
        </p:nvPicPr>
        <p:blipFill>
          <a:blip r:embed="rId2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à coins arrondis 6"/>
          <p:cNvSpPr/>
          <p:nvPr/>
        </p:nvSpPr>
        <p:spPr>
          <a:xfrm>
            <a:off x="611280" y="2852640"/>
            <a:ext cx="252072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Picture 4" descr=""/>
          <p:cNvPicPr/>
          <p:nvPr/>
        </p:nvPicPr>
        <p:blipFill>
          <a:blip r:embed="rId2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5508720" y="3500280"/>
            <a:ext cx="2519280" cy="10083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à coins arrondis 7"/>
          <p:cNvSpPr/>
          <p:nvPr/>
        </p:nvSpPr>
        <p:spPr>
          <a:xfrm>
            <a:off x="5508720" y="227664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  <p:sp>
        <p:nvSpPr>
          <p:cNvPr id="111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6"/>
          <p:cNvSpPr/>
          <p:nvPr/>
        </p:nvSpPr>
        <p:spPr>
          <a:xfrm>
            <a:off x="5724360" y="260280"/>
            <a:ext cx="280836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  <p:sp>
        <p:nvSpPr>
          <p:cNvPr id="11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à coins arrondis 6"/>
          <p:cNvSpPr/>
          <p:nvPr/>
        </p:nvSpPr>
        <p:spPr>
          <a:xfrm>
            <a:off x="5796000" y="981000"/>
            <a:ext cx="327672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1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  <p:sp>
        <p:nvSpPr>
          <p:cNvPr id="12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4"/>
          <p:cNvSpPr/>
          <p:nvPr/>
        </p:nvSpPr>
        <p:spPr>
          <a:xfrm>
            <a:off x="5508720" y="299736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6"/>
          <p:cNvSpPr/>
          <p:nvPr/>
        </p:nvSpPr>
        <p:spPr>
          <a:xfrm>
            <a:off x="2195640" y="765000"/>
            <a:ext cx="302400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à coins arrondis 4"/>
          <p:cNvSpPr/>
          <p:nvPr/>
        </p:nvSpPr>
        <p:spPr>
          <a:xfrm>
            <a:off x="1295280" y="400536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à coins arrondis 6"/>
          <p:cNvSpPr/>
          <p:nvPr/>
        </p:nvSpPr>
        <p:spPr>
          <a:xfrm>
            <a:off x="5867280" y="44280"/>
            <a:ext cx="194472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755640" y="2781360"/>
            <a:ext cx="25210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6"/>
          <p:cNvSpPr/>
          <p:nvPr/>
        </p:nvSpPr>
        <p:spPr>
          <a:xfrm>
            <a:off x="5796000" y="44280"/>
            <a:ext cx="3024000" cy="119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5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" name="Picture 3" descr=""/>
          <p:cNvPicPr/>
          <p:nvPr/>
        </p:nvPicPr>
        <p:blipFill>
          <a:blip r:embed="rId1"/>
          <a:srcRect l="38980" t="0" r="0" b="0"/>
          <a:stretch/>
        </p:blipFill>
        <p:spPr>
          <a:xfrm>
            <a:off x="0" y="1206360"/>
            <a:ext cx="9144000" cy="56786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9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1:38Z</dcterms:modified>
  <cp:revision>263</cp:revision>
  <dc:subject/>
  <dc:title>Diapositive 0</dc:title>
</cp:coreProperties>
</file>