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02F3-2ACB-4F0B-9F72-20B4264728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0BDF-FB73-4C06-9190-488B3A81AD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B703-7674-4F8B-A603-A907D01FFB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806D-5A3F-4E7D-866C-28AB2F7387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E7F4-84E9-47B1-8B9D-FDD778D418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483E-75B4-48D0-8DC5-482FFCBCC4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D250-1294-407A-B748-90B5A45674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EBA-80E9-4B54-8E3B-8B1B3E719B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E933-0193-42F0-914A-B8BE4D61A1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1212-AF4E-49B3-AF33-E1F0F2BC9D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3C23-DFFA-4F65-9676-9F581A918B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84F7-0046-4547-A449-811B5B9800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11D3-3F5A-43FB-993C-ADA13523C4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6CE2-D32F-49E1-A3BD-F5EC753CB3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73FB-6AEC-4539-9AAD-8017EA963B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5A5D-F95D-4D06-ABA4-9EC46EBF5E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94BD-6CF5-4E7C-BD75-CD8A5A18E7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F232-D331-4242-AE48-15134690AA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873B-9FBF-4E71-BC12-7A880817C0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50ED-7CBA-4986-A40F-76C722D81E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70FC-CEA4-4336-9FCE-9487D997FA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22A5-75A3-4D4E-AAB3-EF743240CB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C99F-4615-4881-B75E-73F058CCC9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C34C-01A0-41E4-88F0-25974FC1CC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DCE1-DF5E-46D5-AEFA-F8A053BDF9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867D-CD51-41AA-A385-5FEF4DC677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736-351F-440B-B2CC-CEB072F2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72D-4A2F-45AE-8D3D-7DF64E27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A57-2094-4615-BE6D-9BC04F00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DCB-51D4-4706-9DFF-9A674125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C0B-2C5D-4B9D-838E-FA253174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B59-3427-4DA7-BC0B-8CD61BF1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835-83A6-41EE-8FE1-65D13FA7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E57-9129-4F6E-BCBB-DBCE39C8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57F-04D6-44E7-BB0F-342A58F3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CAC-6F4B-4F81-94AB-B2FFB911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C67-CBB2-41ED-B9CA-A8A01C1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0F2-E697-4F83-A1B0-97A37636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48EB-2AB9-4E84-841E-D0608999170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1FCE-E893-4CE5-80CA-52DA69DB8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11"/>
          <p:cNvSpPr/>
          <p:nvPr/>
        </p:nvSpPr>
        <p:spPr>
          <a:xfrm>
            <a:off x="0" y="40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4)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71640" y="31698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3 est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9"/>
              <p:cNvSpPr txBox="1"/>
              <p:nvPr/>
            </p:nvSpPr>
            <p:spPr>
              <a:xfrm>
                <a:off x="1882800" y="1987560"/>
                <a:ext cx="51372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1 est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9"/>
              <p:cNvSpPr txBox="1"/>
              <p:nvPr/>
            </p:nvSpPr>
            <p:spPr>
              <a:xfrm>
                <a:off x="1504800" y="1989000"/>
                <a:ext cx="565956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1"/>
          <p:cNvSpPr/>
          <p:nvPr/>
        </p:nvSpPr>
        <p:spPr>
          <a:xfrm>
            <a:off x="0" y="4933800"/>
            <a:ext cx="680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3) = 2</a:t>
            </a:r>
            <a:r>
              <a:rPr b="0" lang="fr-FR" sz="58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² – 1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2</a:t>
            </a:r>
            <a:r>
              <a:rPr b="0" lang="fr-FR" sz="58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 – 1 = 17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9"/>
              <p:cNvSpPr txBox="1"/>
              <p:nvPr/>
            </p:nvSpPr>
            <p:spPr>
              <a:xfrm>
                <a:off x="1967040" y="1987560"/>
                <a:ext cx="49086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7 a pour antécédent 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>
            <a:off x="0" y="49338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1) = 2</a:t>
            </a:r>
            <a:r>
              <a:rPr b="0" lang="fr-FR" sz="60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 + 5 =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9"/>
              <p:cNvSpPr txBox="1"/>
              <p:nvPr/>
            </p:nvSpPr>
            <p:spPr>
              <a:xfrm>
                <a:off x="2282760" y="2095560"/>
                <a:ext cx="45212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1"/>
          <p:cNvSpPr/>
          <p:nvPr/>
        </p:nvSpPr>
        <p:spPr>
          <a:xfrm>
            <a:off x="0" y="4941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5) = [2</a:t>
            </a:r>
            <a:r>
              <a:rPr b="0" lang="fr-FR" sz="60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 + 5] / 5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15/5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3 est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1"/>
          <p:cNvSpPr/>
          <p:nvPr/>
        </p:nvSpPr>
        <p:spPr>
          <a:xfrm>
            <a:off x="0" y="4941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1) = [2</a:t>
            </a:r>
            <a:r>
              <a:rPr b="0" lang="fr-FR" sz="54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(–1) + 5]/(–1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3/(– 1) = –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,5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0" y="5084640"/>
            <a:ext cx="824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0) = [2</a:t>
            </a:r>
            <a:r>
              <a:rPr b="0" lang="fr-FR" sz="36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 + 5] / 0 : c’est impossible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10"/>
          <p:cNvSpPr/>
          <p:nvPr/>
        </p:nvSpPr>
        <p:spPr>
          <a:xfrm>
            <a:off x="1403280" y="4221000"/>
            <a:ext cx="633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À partir de la forme explicite d’une fonction </a:t>
            </a:r>
            <a:r>
              <a:rPr b="0" i="1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f,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 répondre aux questions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par VRAI ou FAUX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1"/>
          <p:cNvSpPr/>
          <p:nvPr/>
        </p:nvSpPr>
        <p:spPr>
          <a:xfrm>
            <a:off x="0" y="494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3) =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9"/>
              <p:cNvSpPr txBox="1"/>
              <p:nvPr/>
            </p:nvSpPr>
            <p:spPr>
              <a:xfrm>
                <a:off x="1797120" y="1987560"/>
                <a:ext cx="5367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0" y="3780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1"/>
          <p:cNvSpPr/>
          <p:nvPr/>
        </p:nvSpPr>
        <p:spPr>
          <a:xfrm>
            <a:off x="36360" y="5675400"/>
            <a:ext cx="63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4)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4)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0" y="4724280"/>
            <a:ext cx="70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 4)² – 12 = 16 – 12 = 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t </a:t>
            </a: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 4)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71640" y="31428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3 est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>
            <a:off x="0" y="4933800"/>
            <a:ext cx="601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3) = (2</a:t>
            </a:r>
            <a:r>
              <a:rPr b="0" lang="fr-FR" sz="58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)² – 1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6² – 1 = 35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9"/>
          <p:cNvSpPr/>
          <p:nvPr/>
        </p:nvSpPr>
        <p:spPr>
          <a:xfrm>
            <a:off x="1332000" y="4292640"/>
            <a:ext cx="611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9"/>
              <p:cNvSpPr txBox="1"/>
              <p:nvPr/>
            </p:nvSpPr>
            <p:spPr>
              <a:xfrm>
                <a:off x="1882800" y="1987560"/>
                <a:ext cx="51372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1 est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11"/>
          <p:cNvSpPr/>
          <p:nvPr/>
        </p:nvSpPr>
        <p:spPr>
          <a:xfrm>
            <a:off x="71280" y="4797360"/>
            <a:ext cx="889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0) = 1 : 0 n’est pas un antécédent de –1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nnecteur droit 7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9"/>
              <p:cNvSpPr txBox="1"/>
              <p:nvPr/>
            </p:nvSpPr>
            <p:spPr>
              <a:xfrm>
                <a:off x="1504800" y="1989000"/>
                <a:ext cx="565956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1922400" y="2095560"/>
                <a:ext cx="48816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ZoneTexte 11"/>
          <p:cNvSpPr/>
          <p:nvPr/>
        </p:nvSpPr>
        <p:spPr>
          <a:xfrm>
            <a:off x="0" y="49338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5) = 2</a:t>
            </a:r>
            <a:r>
              <a:rPr b="0" lang="fr-FR" sz="60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 – 9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71640" y="31428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9"/>
              <p:cNvSpPr txBox="1"/>
              <p:nvPr/>
            </p:nvSpPr>
            <p:spPr>
              <a:xfrm>
                <a:off x="1967040" y="1987560"/>
                <a:ext cx="49086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7 a pour antécédent 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2282760" y="2095560"/>
                <a:ext cx="45212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3 est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,5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1797120" y="1987560"/>
                <a:ext cx="5367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5:16Z</dcterms:modified>
  <cp:revision>244</cp:revision>
  <dc:subject/>
  <dc:title>Diapositive 0</dc:title>
</cp:coreProperties>
</file>