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09CD-D86D-4D01-9864-0235E5864B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DEB5-81EC-4E65-ACBA-3CB51F0866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1F88-0B3E-40D4-A9F3-A3731F3853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E1E1-2CAD-4615-9976-1052B748F4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E88D-C7AB-47FA-8EDA-6FD1EA2EF2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638B-DEC0-41F0-8181-05F64C768B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95D1-CF22-4E9D-A2C6-E688FDB4866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F3D1-97C6-4F02-9021-A117DE6138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F4A8-37C6-48C4-B2E6-5FC0A644D06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83FE-8CA8-4E55-AEE0-AAD2A5D196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0BC6-C523-45CB-8F5D-DDDEED3C24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6EEE-CAAA-4049-B377-605EFC9D5F0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66D7-45F9-4D6A-838A-4C13457B8E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E7EC-4DED-4761-92A4-BD2D8D2845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7EB6-7061-47CE-B096-83896FA27C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D929-1BBB-4382-9C20-4A9DD67BCA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326C-487A-46B4-8183-68261D8C35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E311-A624-4E04-93E3-41A06768AE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0EB7-975E-4EF9-AD00-7E557C1C10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8003-83BF-4269-86D6-C581E2E2B1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8CD8-4A9E-4303-A139-72186516B6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4B65-5E96-4912-9774-FE13C26C21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9D3D-66B6-41EE-826C-791C27F82D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AE01-674D-47E9-A160-8CFD2B70BD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EA0C-03A1-462A-9FB1-EE0FA05E79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1BC6-8B25-42F3-8C98-295AB64741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8017-0F0F-47D7-A627-5ADEED99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1CFB-A7BD-4D7D-8B21-271416B4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842B-4204-4261-BC59-3F2017CF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D8A-FA49-4C29-87B8-C7DD7F0D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2BF5-FB99-4FDC-A917-7E84A11F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947-C00C-437C-A12A-C13A1F52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87E-80EE-4E00-9DAF-F74A02CE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FB91-A16D-4747-A484-38384EFB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B075-BB51-4611-9268-47040FF1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8FF4-24EA-4CB8-8CFA-7207F327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7F80-8614-469E-886C-6C990787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6F5-E43B-4B2F-B664-8ECFD183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B0DA-2BC3-4EAF-9D77-ED3663D0D44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FB5A-7C7D-4ED6-892D-E0C4B0557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NOTION DE FONCTION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es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décroissante sur [–10 ; 5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sp>
        <p:nvSpPr>
          <p:cNvPr id="82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0 a un antécédent positif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change de signe sur [–9 ; –4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10 a une image positiv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11"/>
          <p:cNvSpPr/>
          <p:nvPr/>
        </p:nvSpPr>
        <p:spPr>
          <a:xfrm>
            <a:off x="0" y="3645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es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décroissante sur [–8 ; 0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Connecteur droit avec flèche 7"/>
          <p:cNvCxnSpPr/>
          <p:nvPr/>
        </p:nvCxnSpPr>
        <p:spPr>
          <a:xfrm>
            <a:off x="1907640" y="2133360"/>
            <a:ext cx="1080" cy="432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94" name="Ellipse 8"/>
          <p:cNvSpPr/>
          <p:nvPr/>
        </p:nvSpPr>
        <p:spPr>
          <a:xfrm flipV="1" rot="10800000">
            <a:off x="1618920" y="1619280"/>
            <a:ext cx="53964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Connecteur droit avec flèche 9"/>
          <p:cNvCxnSpPr/>
          <p:nvPr/>
        </p:nvCxnSpPr>
        <p:spPr>
          <a:xfrm>
            <a:off x="2916000" y="2141280"/>
            <a:ext cx="1080" cy="927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96" name="Ellipse 10"/>
          <p:cNvSpPr/>
          <p:nvPr/>
        </p:nvSpPr>
        <p:spPr>
          <a:xfrm flipV="1" rot="10800000">
            <a:off x="2626920" y="1628640"/>
            <a:ext cx="539640" cy="540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Connecteur droit avec flèche 13"/>
          <p:cNvCxnSpPr/>
          <p:nvPr/>
        </p:nvCxnSpPr>
        <p:spPr>
          <a:xfrm>
            <a:off x="1834920" y="2637000"/>
            <a:ext cx="1081800" cy="5054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98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oneTexte 11"/>
          <p:cNvSpPr/>
          <p:nvPr/>
        </p:nvSpPr>
        <p:spPr>
          <a:xfrm>
            <a:off x="0" y="378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4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est croissante sur [–3 ; 8]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sp>
        <p:nvSpPr>
          <p:cNvPr id="102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est croissante sur [5 ; 12]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7"/>
          <p:cNvSpPr/>
          <p:nvPr/>
        </p:nvSpPr>
        <p:spPr>
          <a:xfrm flipV="1">
            <a:off x="6012000" y="3105000"/>
            <a:ext cx="541080" cy="540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llipse 8"/>
          <p:cNvSpPr/>
          <p:nvPr/>
        </p:nvSpPr>
        <p:spPr>
          <a:xfrm flipV="1">
            <a:off x="8352000" y="2086920"/>
            <a:ext cx="541080" cy="539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Connecteur droit avec flèche 9"/>
          <p:cNvCxnSpPr/>
          <p:nvPr/>
        </p:nvCxnSpPr>
        <p:spPr>
          <a:xfrm flipV="1">
            <a:off x="6659640" y="2420640"/>
            <a:ext cx="1729440" cy="792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06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lipse 17"/>
          <p:cNvSpPr/>
          <p:nvPr/>
        </p:nvSpPr>
        <p:spPr>
          <a:xfrm flipV="1">
            <a:off x="5975280" y="1619280"/>
            <a:ext cx="54144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lipse 18"/>
          <p:cNvSpPr/>
          <p:nvPr/>
        </p:nvSpPr>
        <p:spPr>
          <a:xfrm flipV="1">
            <a:off x="8352000" y="1619280"/>
            <a:ext cx="54108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onnecteur droit 22"/>
          <p:cNvSpPr/>
          <p:nvPr/>
        </p:nvSpPr>
        <p:spPr>
          <a:xfrm>
            <a:off x="6156360" y="4149720"/>
            <a:ext cx="237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2 n’a pas d’imag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sp>
        <p:nvSpPr>
          <p:cNvPr id="113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8"/>
          <p:cNvSpPr/>
          <p:nvPr/>
        </p:nvSpPr>
        <p:spPr>
          <a:xfrm flipV="1" rot="10800000">
            <a:off x="3347640" y="1619280"/>
            <a:ext cx="53964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llipse 9"/>
          <p:cNvSpPr/>
          <p:nvPr/>
        </p:nvSpPr>
        <p:spPr>
          <a:xfrm flipV="1" rot="10800000">
            <a:off x="3384360" y="2132640"/>
            <a:ext cx="539640" cy="1439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oneTexte 11"/>
          <p:cNvSpPr/>
          <p:nvPr/>
        </p:nvSpPr>
        <p:spPr>
          <a:xfrm>
            <a:off x="0" y="3645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positiv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[8 ; 11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cxnSp>
        <p:nvCxnSpPr>
          <p:cNvPr id="119" name="Connecteur droit avec flèche 11"/>
          <p:cNvCxnSpPr/>
          <p:nvPr/>
        </p:nvCxnSpPr>
        <p:spPr>
          <a:xfrm>
            <a:off x="6984720" y="2133720"/>
            <a:ext cx="1080" cy="8992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0" name="Ellipse 12"/>
          <p:cNvSpPr/>
          <p:nvPr/>
        </p:nvSpPr>
        <p:spPr>
          <a:xfrm flipV="1" rot="10800000">
            <a:off x="6696000" y="1619280"/>
            <a:ext cx="54000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Connecteur droit avec flèche 13"/>
          <p:cNvCxnSpPr/>
          <p:nvPr/>
        </p:nvCxnSpPr>
        <p:spPr>
          <a:xfrm>
            <a:off x="7992720" y="2141280"/>
            <a:ext cx="1080" cy="469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2" name="Ellipse 14"/>
          <p:cNvSpPr/>
          <p:nvPr/>
        </p:nvSpPr>
        <p:spPr>
          <a:xfrm flipV="1" rot="10800000">
            <a:off x="7704000" y="1628640"/>
            <a:ext cx="540000" cy="540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11"/>
          <p:cNvSpPr/>
          <p:nvPr/>
        </p:nvSpPr>
        <p:spPr>
          <a:xfrm rot="21317400">
            <a:off x="2723760" y="5803560"/>
            <a:ext cx="6595920" cy="855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ne peut pas savoir.</a:t>
            </a: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–2 est négativ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cxnSp>
        <p:nvCxnSpPr>
          <p:cNvPr id="127" name="Connecteur droit avec flèche 6"/>
          <p:cNvCxnSpPr/>
          <p:nvPr/>
        </p:nvCxnSpPr>
        <p:spPr>
          <a:xfrm>
            <a:off x="2987280" y="2133720"/>
            <a:ext cx="1080" cy="972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8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llipse 8"/>
          <p:cNvSpPr/>
          <p:nvPr/>
        </p:nvSpPr>
        <p:spPr>
          <a:xfrm flipV="1" rot="10800000">
            <a:off x="2700000" y="1619280"/>
            <a:ext cx="53964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re 1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Voici le tableau des variations d’une fonct</a:t>
            </a: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ion</a:t>
            </a: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 </a:t>
            </a:r>
            <a:r>
              <a:rPr b="0" i="1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f </a:t>
            </a: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définie sur [–10 ; 2[</a:t>
            </a:r>
            <a:r>
              <a:rPr b="0" lang="fr-FR" sz="4000" spc="-1" strike="noStrike">
                <a:solidFill>
                  <a:srgbClr val="005bd3"/>
                </a:solidFill>
                <a:latin typeface="OpenSymbol"/>
                <a:ea typeface="Times New Roman"/>
              </a:rPr>
              <a:t>∪</a:t>
            </a: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]2 ;12]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re 1"/>
          <p:cNvSpPr/>
          <p:nvPr/>
        </p:nvSpPr>
        <p:spPr>
          <a:xfrm>
            <a:off x="0" y="458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Répondre par « VRAI » ou « FAUX » ou « ON NE PEUT PAS SAVOIR 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aux 10 questions qui suiv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979640"/>
            <a:ext cx="8774280" cy="2016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oneTexte 11"/>
          <p:cNvSpPr/>
          <p:nvPr/>
        </p:nvSpPr>
        <p:spPr>
          <a:xfrm>
            <a:off x="0" y="36496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négativ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[3 ; 5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cxnSp>
        <p:nvCxnSpPr>
          <p:cNvPr id="133" name="Connecteur droit avec flèche 6"/>
          <p:cNvCxnSpPr/>
          <p:nvPr/>
        </p:nvCxnSpPr>
        <p:spPr>
          <a:xfrm>
            <a:off x="5256000" y="2133360"/>
            <a:ext cx="1080" cy="75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4" name="Ellipse 7"/>
          <p:cNvSpPr/>
          <p:nvPr/>
        </p:nvSpPr>
        <p:spPr>
          <a:xfrm flipV="1" rot="10800000">
            <a:off x="4968720" y="1619280"/>
            <a:ext cx="54000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Connecteur droit avec flèche 8"/>
          <p:cNvCxnSpPr/>
          <p:nvPr/>
        </p:nvCxnSpPr>
        <p:spPr>
          <a:xfrm>
            <a:off x="6264000" y="2141280"/>
            <a:ext cx="1080" cy="927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6" name="Ellipse 9"/>
          <p:cNvSpPr/>
          <p:nvPr/>
        </p:nvSpPr>
        <p:spPr>
          <a:xfrm flipV="1" rot="10800000">
            <a:off x="5976720" y="1628640"/>
            <a:ext cx="539640" cy="540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1"/>
          <p:cNvSpPr/>
          <p:nvPr/>
        </p:nvSpPr>
        <p:spPr>
          <a:xfrm rot="21317400">
            <a:off x="2723760" y="5803560"/>
            <a:ext cx="6595920" cy="855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ne peut pas savoir.</a:t>
            </a: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ZoneTexte 11"/>
          <p:cNvSpPr/>
          <p:nvPr/>
        </p:nvSpPr>
        <p:spPr>
          <a:xfrm>
            <a:off x="0" y="3728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4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est décroissante sur [–10 ; 5]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sp>
        <p:nvSpPr>
          <p:cNvPr id="141" name="Ellipse 6"/>
          <p:cNvSpPr/>
          <p:nvPr/>
        </p:nvSpPr>
        <p:spPr>
          <a:xfrm flipV="1" rot="10800000">
            <a:off x="3384360" y="2132640"/>
            <a:ext cx="539640" cy="1439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est décroissante sur [–10 ; 2[ et sur ]2 ; 5]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necteur droit 9"/>
          <p:cNvSpPr/>
          <p:nvPr/>
        </p:nvSpPr>
        <p:spPr>
          <a:xfrm>
            <a:off x="6300720" y="4149720"/>
            <a:ext cx="251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Connecteur droit avec flèche 10"/>
          <p:cNvCxnSpPr/>
          <p:nvPr/>
        </p:nvCxnSpPr>
        <p:spPr>
          <a:xfrm>
            <a:off x="1402920" y="2421000"/>
            <a:ext cx="2017080" cy="9374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46" name="Connecteur droit avec flèche 14"/>
          <p:cNvCxnSpPr/>
          <p:nvPr/>
        </p:nvCxnSpPr>
        <p:spPr>
          <a:xfrm>
            <a:off x="3995280" y="2349360"/>
            <a:ext cx="2017080" cy="936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47" name="Ellipse 15"/>
          <p:cNvSpPr/>
          <p:nvPr/>
        </p:nvSpPr>
        <p:spPr>
          <a:xfrm flipV="1" rot="10800000">
            <a:off x="1115640" y="1663560"/>
            <a:ext cx="57636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llipse 16"/>
          <p:cNvSpPr/>
          <p:nvPr/>
        </p:nvSpPr>
        <p:spPr>
          <a:xfrm flipV="1" rot="10800000">
            <a:off x="3347640" y="1628640"/>
            <a:ext cx="57636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llipse 17"/>
          <p:cNvSpPr/>
          <p:nvPr/>
        </p:nvSpPr>
        <p:spPr>
          <a:xfrm flipV="1" rot="10800000">
            <a:off x="5940000" y="1628640"/>
            <a:ext cx="57636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50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cxnSp>
        <p:nvCxnSpPr>
          <p:cNvPr id="152" name="Connecteur droit avec flèche 6"/>
          <p:cNvCxnSpPr/>
          <p:nvPr/>
        </p:nvCxnSpPr>
        <p:spPr>
          <a:xfrm flipV="1">
            <a:off x="7451280" y="1988640"/>
            <a:ext cx="1080" cy="612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3" name="Ellipse 7"/>
          <p:cNvSpPr/>
          <p:nvPr/>
        </p:nvSpPr>
        <p:spPr>
          <a:xfrm flipV="1" rot="10800000">
            <a:off x="7164000" y="2600280"/>
            <a:ext cx="53964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0 a un antécédent positif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ZoneTexte 11"/>
          <p:cNvSpPr/>
          <p:nvPr/>
        </p:nvSpPr>
        <p:spPr>
          <a:xfrm>
            <a:off x="0" y="4149720"/>
            <a:ext cx="81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change de signe sur [–9 ; –4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cxnSp>
        <p:nvCxnSpPr>
          <p:cNvPr id="159" name="Connecteur droit avec flèche 14"/>
          <p:cNvCxnSpPr/>
          <p:nvPr/>
        </p:nvCxnSpPr>
        <p:spPr>
          <a:xfrm>
            <a:off x="1942920" y="2141280"/>
            <a:ext cx="1080" cy="432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0" name="Ellipse 15"/>
          <p:cNvSpPr/>
          <p:nvPr/>
        </p:nvSpPr>
        <p:spPr>
          <a:xfrm flipV="1" rot="10800000">
            <a:off x="1655640" y="1628640"/>
            <a:ext cx="540000" cy="540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Connecteur droit avec flèche 16"/>
          <p:cNvCxnSpPr/>
          <p:nvPr/>
        </p:nvCxnSpPr>
        <p:spPr>
          <a:xfrm>
            <a:off x="3058920" y="2133360"/>
            <a:ext cx="1080" cy="10069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2" name="Ellipse 17"/>
          <p:cNvSpPr/>
          <p:nvPr/>
        </p:nvSpPr>
        <p:spPr>
          <a:xfrm flipV="1" rot="10800000">
            <a:off x="2771640" y="1637280"/>
            <a:ext cx="540000" cy="539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ZoneTexte 11"/>
          <p:cNvSpPr/>
          <p:nvPr/>
        </p:nvSpPr>
        <p:spPr>
          <a:xfrm>
            <a:off x="0" y="4149720"/>
            <a:ext cx="914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10 a une image positive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cxnSp>
        <p:nvCxnSpPr>
          <p:cNvPr id="167" name="Connecteur droit avec flèche 6"/>
          <p:cNvCxnSpPr/>
          <p:nvPr/>
        </p:nvCxnSpPr>
        <p:spPr>
          <a:xfrm>
            <a:off x="7380000" y="2133360"/>
            <a:ext cx="1080" cy="75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8" name="ZoneTexte 11"/>
          <p:cNvSpPr/>
          <p:nvPr/>
        </p:nvSpPr>
        <p:spPr>
          <a:xfrm rot="21317400">
            <a:off x="2723760" y="5803560"/>
            <a:ext cx="6595920" cy="855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ne peut pas savoir.</a:t>
            </a: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llipse 8"/>
          <p:cNvSpPr/>
          <p:nvPr/>
        </p:nvSpPr>
        <p:spPr>
          <a:xfrm flipV="1" rot="10800000">
            <a:off x="7127640" y="1619280"/>
            <a:ext cx="53964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7) est positif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cxnSp>
        <p:nvCxnSpPr>
          <p:cNvPr id="56" name="Connecteur droit avec flèche 4"/>
          <p:cNvCxnSpPr/>
          <p:nvPr/>
        </p:nvCxnSpPr>
        <p:spPr>
          <a:xfrm>
            <a:off x="1907640" y="2133360"/>
            <a:ext cx="1080" cy="432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7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8"/>
          <p:cNvSpPr/>
          <p:nvPr/>
        </p:nvSpPr>
        <p:spPr>
          <a:xfrm flipV="1" rot="10800000">
            <a:off x="1618920" y="1619280"/>
            <a:ext cx="53964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es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décroissante sur [–8 ; 0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es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croissante sur [–3 ; 8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2 n’a pas d’imag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positiv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[8 ; 11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–2 est négativ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négativ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[3 ; 5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3T09:51:17Z</dcterms:modified>
  <cp:revision>254</cp:revision>
  <dc:subject/>
  <dc:title>Diapositive 0</dc:title>
</cp:coreProperties>
</file>