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05AC-19DB-4F35-9332-D4AEE7FE5CD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9486-DF2B-480C-A3D7-D3E3CD10250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3CE6-8991-4A44-A396-A11B21946A5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018A-9094-4458-8D6A-C202055E10E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1081-2ECC-4215-862A-D5A21D4C285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8D23-0C07-4996-BBA7-134A38F1717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E01C-89ED-4C08-9597-1295CE76243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EEF6-9861-48F6-B980-FB275E6DC1D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2CEC-0985-409F-9B4D-4226CC2715B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3CCA-83BD-4C73-8AC7-EC5B54BB6D1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30D7-DA22-4506-9AD7-6ECA4F30FDB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8558-5331-4AFB-8DF2-8FC6093D305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AAAE-2C40-49A5-942A-596C75A0AD2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FF0E-608D-4BC4-88AD-38979EE5B82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7450-AE74-470A-B5EA-32CB5DC7354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185E-4E34-447F-9CCF-29845AF93A1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38AD-0EE3-4B17-A2B5-E5E5CDF7F0A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2E65-8C9F-4758-B840-FC987995C1B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C714-EB22-47F6-8BD5-AFEF323E18C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576A-E39D-4CDB-BEAA-ED0F081E363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D10E-D9CF-4D3F-BDB9-82D833AF7DD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1859-D4E1-44E0-A93B-12735973C58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2330-C873-4E9A-8431-CB68CECA6FC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CFA2-7A08-4A89-9B99-D80A25F17C3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847E-6DDC-454A-8F3D-1E26D1229FF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5683-5D22-4D4F-BE32-EE77DFDE5FC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B32F-743F-467A-8BD5-C44F0F435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43EC-DE71-4CC8-A97A-0E288FFD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31D1-D6CF-4452-B03C-A99359A41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AF5E-C4A1-4C0B-A33F-C6C12B456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A9C1-C0E8-4329-A8FE-BEEB4D1C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362B-E954-4845-A112-39AA36B7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7E2E-8926-43C1-8BD2-74B38573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2EAA-1074-4D05-9097-29EDAD60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6635-3CC0-47C0-A6D0-C95B7F1B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32D4-63F1-4B3D-9271-AB4605BD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5A64-EAF3-47CB-83B2-93D74CBB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A6C6-1482-48FB-B57A-E3DA8A5F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0AE6-8F97-4EB5-AE8F-08A0D06B85F7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43F0-DD36-4853-A24F-C340C00CB9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42c8"/>
                </a:solidFill>
                <a:latin typeface="Georgia"/>
              </a:rPr>
              <a:t>FONCTIONS AFFINES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2"/>
              <p:cNvSpPr txBox="1"/>
              <p:nvPr/>
            </p:nvSpPr>
            <p:spPr>
              <a:xfrm>
                <a:off x="1725480" y="2714760"/>
                <a:ext cx="567216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2"/>
              <p:cNvSpPr txBox="1"/>
              <p:nvPr/>
            </p:nvSpPr>
            <p:spPr>
              <a:xfrm>
                <a:off x="2284560" y="2346480"/>
                <a:ext cx="4554360" cy="19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2"/>
              <p:cNvSpPr txBox="1"/>
              <p:nvPr/>
            </p:nvSpPr>
            <p:spPr>
              <a:xfrm>
                <a:off x="2363760" y="2714760"/>
                <a:ext cx="439416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2"/>
              <p:cNvSpPr txBox="1"/>
              <p:nvPr/>
            </p:nvSpPr>
            <p:spPr>
              <a:xfrm>
                <a:off x="1685880" y="2714760"/>
                <a:ext cx="5550120" cy="12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42c8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ZoneTexte 11"/>
          <p:cNvSpPr/>
          <p:nvPr/>
        </p:nvSpPr>
        <p:spPr>
          <a:xfrm rot="884400">
            <a:off x="6674400" y="1411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2"/>
              <p:cNvSpPr txBox="1"/>
              <p:nvPr/>
            </p:nvSpPr>
            <p:spPr>
              <a:xfrm>
                <a:off x="25560" y="1125360"/>
                <a:ext cx="5194080" cy="194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3"/>
              <p:cNvSpPr txBox="1"/>
              <p:nvPr/>
            </p:nvSpPr>
            <p:spPr>
              <a:xfrm>
                <a:off x="5076720" y="1125360"/>
                <a:ext cx="3435480" cy="19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ZoneTexte 7"/>
          <p:cNvSpPr/>
          <p:nvPr/>
        </p:nvSpPr>
        <p:spPr>
          <a:xfrm>
            <a:off x="0" y="3141720"/>
            <a:ext cx="914400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1835280" y="5373720"/>
            <a:ext cx="5400720" cy="86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13"/>
          <p:cNvSpPr/>
          <p:nvPr/>
        </p:nvSpPr>
        <p:spPr>
          <a:xfrm>
            <a:off x="0" y="3141720"/>
            <a:ext cx="91440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f 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(</a:t>
            </a: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x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) est de la form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« </a:t>
            </a: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x + b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 » :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</a:t>
            </a:r>
            <a:r>
              <a:rPr b="0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= 2/3 et </a:t>
            </a:r>
            <a:r>
              <a:rPr b="0" i="1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b</a:t>
            </a:r>
            <a:r>
              <a:rPr b="0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= –2/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ZoneTexte 15"/>
          <p:cNvSpPr/>
          <p:nvPr/>
        </p:nvSpPr>
        <p:spPr>
          <a:xfrm>
            <a:off x="0" y="3141720"/>
            <a:ext cx="91440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f 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(</a:t>
            </a: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x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) est de la form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« </a:t>
            </a: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x + b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 » :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</a:t>
            </a:r>
            <a:r>
              <a:rPr b="0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= 0 et </a:t>
            </a:r>
            <a:r>
              <a:rPr b="0" i="1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b</a:t>
            </a:r>
            <a:r>
              <a:rPr b="0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=       </a:t>
            </a:r>
            <a:r>
              <a:rPr b="0" lang="fr-FR" sz="5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2050920" y="4869000"/>
            <a:ext cx="4969080" cy="172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2"/>
              <p:cNvSpPr txBox="1"/>
              <p:nvPr/>
            </p:nvSpPr>
            <p:spPr>
              <a:xfrm>
                <a:off x="-36360" y="1058760"/>
                <a:ext cx="4794120" cy="20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ZoneTexte 11"/>
          <p:cNvSpPr/>
          <p:nvPr/>
        </p:nvSpPr>
        <p:spPr>
          <a:xfrm rot="884400">
            <a:off x="6674400" y="1411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3"/>
              <p:cNvSpPr txBox="1"/>
              <p:nvPr/>
            </p:nvSpPr>
            <p:spPr>
              <a:xfrm>
                <a:off x="4500720" y="1047600"/>
                <a:ext cx="4120920" cy="209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2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5"/>
          <p:cNvSpPr/>
          <p:nvPr/>
        </p:nvSpPr>
        <p:spPr>
          <a:xfrm>
            <a:off x="0" y="196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8"/>
          <p:cNvSpPr/>
          <p:nvPr/>
        </p:nvSpPr>
        <p:spPr>
          <a:xfrm>
            <a:off x="0" y="196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9" descr=""/>
          <p:cNvPicPr/>
          <p:nvPr/>
        </p:nvPicPr>
        <p:blipFill>
          <a:blip r:embed="rId1"/>
          <a:stretch/>
        </p:blipFill>
        <p:spPr>
          <a:xfrm>
            <a:off x="5637240" y="4921200"/>
            <a:ext cx="1166760" cy="1603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2"/>
              <p:cNvSpPr txBox="1"/>
              <p:nvPr/>
            </p:nvSpPr>
            <p:spPr>
              <a:xfrm>
                <a:off x="1087560" y="1230480"/>
                <a:ext cx="695484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02" name="Picture 3" descr=""/>
          <p:cNvPicPr/>
          <p:nvPr/>
        </p:nvPicPr>
        <p:blipFill>
          <a:blip r:embed="rId1"/>
          <a:srcRect l="15616" t="15321" r="15616" b="15321"/>
          <a:stretch/>
        </p:blipFill>
        <p:spPr>
          <a:xfrm>
            <a:off x="5508720" y="3141720"/>
            <a:ext cx="3552840" cy="3651120"/>
          </a:xfrm>
          <a:prstGeom prst="rect">
            <a:avLst/>
          </a:prstGeom>
          <a:ln w="0">
            <a:noFill/>
          </a:ln>
        </p:spPr>
      </p:pic>
      <p:sp>
        <p:nvSpPr>
          <p:cNvPr id="103" name="ZoneTexte 11"/>
          <p:cNvSpPr/>
          <p:nvPr/>
        </p:nvSpPr>
        <p:spPr>
          <a:xfrm rot="884400">
            <a:off x="6674760" y="1411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3"/>
              <p:cNvSpPr txBox="1"/>
              <p:nvPr/>
            </p:nvSpPr>
            <p:spPr>
              <a:xfrm>
                <a:off x="1116000" y="1916280"/>
                <a:ext cx="479592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ZoneTexte 7"/>
          <p:cNvSpPr/>
          <p:nvPr/>
        </p:nvSpPr>
        <p:spPr>
          <a:xfrm>
            <a:off x="0" y="3284640"/>
            <a:ext cx="558000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f 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(</a:t>
            </a: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) n’est pas de la for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« </a:t>
            </a: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x + b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 » avec </a:t>
            </a: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et </a:t>
            </a: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b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deux ré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Représentation graphique de </a:t>
            </a: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f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2"/>
              <p:cNvSpPr txBox="1"/>
              <p:nvPr/>
            </p:nvSpPr>
            <p:spPr>
              <a:xfrm>
                <a:off x="1725480" y="1557360"/>
                <a:ext cx="567396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8" name="ZoneTexte 11"/>
          <p:cNvSpPr/>
          <p:nvPr/>
        </p:nvSpPr>
        <p:spPr>
          <a:xfrm rot="884400">
            <a:off x="6674760" y="1411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rcRect l="31222" t="0" r="0" b="30633"/>
          <a:stretch/>
        </p:blipFill>
        <p:spPr>
          <a:xfrm>
            <a:off x="5554800" y="3160800"/>
            <a:ext cx="3554280" cy="3652920"/>
          </a:xfrm>
          <a:prstGeom prst="rect">
            <a:avLst/>
          </a:prstGeom>
          <a:ln w="0">
            <a:noFill/>
          </a:ln>
        </p:spPr>
      </p:pic>
      <p:sp>
        <p:nvSpPr>
          <p:cNvPr id="110" name="ZoneTexte 6"/>
          <p:cNvSpPr/>
          <p:nvPr/>
        </p:nvSpPr>
        <p:spPr>
          <a:xfrm>
            <a:off x="0" y="3284640"/>
            <a:ext cx="558000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f 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(</a:t>
            </a: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) n’est pas de la for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« </a:t>
            </a: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x + b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 » avec </a:t>
            </a: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et </a:t>
            </a: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b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deux réels et </a:t>
            </a: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f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n’est pas définie sur </a:t>
            </a:r>
            <a:r>
              <a:rPr b="0" lang="fr-FR" sz="3200" spc="-1" strike="noStrike">
                <a:solidFill>
                  <a:srgbClr val="0042c8"/>
                </a:solidFill>
                <a:latin typeface="OpenSymbol"/>
                <a:ea typeface="OpenSymbol"/>
              </a:rPr>
              <a:t>ℝ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Représentation graphique de </a:t>
            </a: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f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ZoneTexte 11"/>
          <p:cNvSpPr/>
          <p:nvPr/>
        </p:nvSpPr>
        <p:spPr>
          <a:xfrm>
            <a:off x="0" y="3141720"/>
            <a:ext cx="91440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f 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(</a:t>
            </a: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x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) est de la form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« </a:t>
            </a: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x + b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 » :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</a:t>
            </a:r>
            <a:r>
              <a:rPr b="0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=      et </a:t>
            </a:r>
            <a:r>
              <a:rPr b="0" i="1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b</a:t>
            </a:r>
            <a:r>
              <a:rPr b="0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=     </a:t>
            </a:r>
            <a:r>
              <a:rPr b="0" lang="fr-FR" sz="5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2"/>
              <p:cNvSpPr txBox="1"/>
              <p:nvPr/>
            </p:nvSpPr>
            <p:spPr>
              <a:xfrm>
                <a:off x="684360" y="981000"/>
                <a:ext cx="615456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4" name="ZoneTexte 11"/>
          <p:cNvSpPr/>
          <p:nvPr/>
        </p:nvSpPr>
        <p:spPr>
          <a:xfrm rot="884400">
            <a:off x="6674400" y="1411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3"/>
              <p:cNvSpPr txBox="1"/>
              <p:nvPr/>
            </p:nvSpPr>
            <p:spPr>
              <a:xfrm>
                <a:off x="684360" y="1916280"/>
                <a:ext cx="6715080" cy="12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"/>
          <p:cNvPicPr/>
          <p:nvPr/>
        </p:nvPicPr>
        <p:blipFill>
          <a:blip r:embed="rId1"/>
          <a:stretch/>
        </p:blipFill>
        <p:spPr>
          <a:xfrm>
            <a:off x="3132000" y="5361120"/>
            <a:ext cx="747720" cy="9475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2" descr=""/>
          <p:cNvPicPr/>
          <p:nvPr/>
        </p:nvPicPr>
        <p:blipFill>
          <a:blip r:embed="rId2"/>
          <a:stretch/>
        </p:blipFill>
        <p:spPr>
          <a:xfrm>
            <a:off x="5724360" y="5300640"/>
            <a:ext cx="1511640" cy="927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2"/>
          <p:cNvSpPr/>
          <p:nvPr/>
        </p:nvSpPr>
        <p:spPr>
          <a:xfrm>
            <a:off x="1908000" y="5013360"/>
            <a:ext cx="5472360" cy="1584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42c8"/>
                </a:solidFill>
                <a:latin typeface="Georgia"/>
                <a:ea typeface="Times New Roman"/>
              </a:rPr>
              <a:t>Pour chacune des fonctions proposées, indiquer s’il s’agit d’une fonction affine en répondant par VRAI ou FAUX. 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42c8"/>
                </a:solidFill>
                <a:latin typeface="Georgia"/>
                <a:ea typeface="Times New Roman"/>
              </a:rPr>
              <a:t>Si la réponse est vraie, donner le coefficient directeur « </a:t>
            </a:r>
            <a:r>
              <a:rPr b="0" i="1" lang="fr-FR" sz="4000" spc="-1" strike="noStrike">
                <a:solidFill>
                  <a:srgbClr val="0042c8"/>
                </a:solidFill>
                <a:latin typeface="Georgia"/>
                <a:ea typeface="Times New Roman"/>
              </a:rPr>
              <a:t>a</a:t>
            </a:r>
            <a:r>
              <a:rPr b="0" lang="fr-FR" sz="4000" spc="-1" strike="noStrike">
                <a:solidFill>
                  <a:srgbClr val="0042c8"/>
                </a:solidFill>
                <a:latin typeface="Georgia"/>
                <a:ea typeface="Times New Roman"/>
              </a:rPr>
              <a:t> » et l’ordonnée à l’origine « </a:t>
            </a:r>
            <a:r>
              <a:rPr b="0" i="1" lang="fr-FR" sz="4000" spc="-1" strike="noStrike">
                <a:solidFill>
                  <a:srgbClr val="0042c8"/>
                </a:solidFill>
                <a:latin typeface="Georgia"/>
                <a:ea typeface="Times New Roman"/>
              </a:rPr>
              <a:t>b</a:t>
            </a:r>
            <a:r>
              <a:rPr b="0" lang="fr-FR" sz="4000" spc="-1" strike="noStrike">
                <a:solidFill>
                  <a:srgbClr val="0042c8"/>
                </a:solidFill>
                <a:latin typeface="Georgia"/>
                <a:ea typeface="Times New Roman"/>
              </a:rPr>
              <a:t> » de la droite représentant la fonctio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2"/>
              <p:cNvSpPr txBox="1"/>
              <p:nvPr/>
            </p:nvSpPr>
            <p:spPr>
              <a:xfrm>
                <a:off x="73080" y="836640"/>
                <a:ext cx="68752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4" name="ZoneTexte 11"/>
          <p:cNvSpPr/>
          <p:nvPr/>
        </p:nvSpPr>
        <p:spPr>
          <a:xfrm rot="884400">
            <a:off x="6674400" y="1411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3"/>
              <p:cNvSpPr txBox="1"/>
              <p:nvPr/>
            </p:nvSpPr>
            <p:spPr>
              <a:xfrm>
                <a:off x="88920" y="1557360"/>
                <a:ext cx="81550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79200" y="2492280"/>
                <a:ext cx="53564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ZoneTexte 8"/>
          <p:cNvSpPr/>
          <p:nvPr/>
        </p:nvSpPr>
        <p:spPr>
          <a:xfrm>
            <a:off x="0" y="3357720"/>
            <a:ext cx="91440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oneTexte 7"/>
          <p:cNvSpPr/>
          <p:nvPr/>
        </p:nvSpPr>
        <p:spPr>
          <a:xfrm>
            <a:off x="0" y="3141720"/>
            <a:ext cx="91440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f 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(</a:t>
            </a: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x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) est de la form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« </a:t>
            </a: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x + b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 » :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</a:t>
            </a:r>
            <a:r>
              <a:rPr b="0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= –2 et </a:t>
            </a:r>
            <a:r>
              <a:rPr b="0" i="1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b</a:t>
            </a:r>
            <a:r>
              <a:rPr b="0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=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2268360" y="5229360"/>
            <a:ext cx="4607280" cy="1152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ZoneTexte 11"/>
          <p:cNvSpPr/>
          <p:nvPr/>
        </p:nvSpPr>
        <p:spPr>
          <a:xfrm>
            <a:off x="0" y="3141720"/>
            <a:ext cx="91440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f 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(</a:t>
            </a: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x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) est de la form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« </a:t>
            </a: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x + b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 » :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</a:t>
            </a:r>
            <a:r>
              <a:rPr b="0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= – 4 et </a:t>
            </a:r>
            <a:r>
              <a:rPr b="0" i="1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b</a:t>
            </a:r>
            <a:r>
              <a:rPr b="0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=  </a:t>
            </a:r>
            <a:r>
              <a:rPr b="0" lang="fr-FR" sz="5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2195640" y="5229360"/>
            <a:ext cx="5184720" cy="107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2"/>
              <p:cNvSpPr txBox="1"/>
              <p:nvPr/>
            </p:nvSpPr>
            <p:spPr>
              <a:xfrm>
                <a:off x="1725480" y="1052640"/>
                <a:ext cx="567216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ZoneTexte 11"/>
          <p:cNvSpPr/>
          <p:nvPr/>
        </p:nvSpPr>
        <p:spPr>
          <a:xfrm rot="884400">
            <a:off x="6674400" y="1411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"/>
          <p:cNvPicPr/>
          <p:nvPr/>
        </p:nvPicPr>
        <p:blipFill>
          <a:blip r:embed="rId1"/>
          <a:stretch/>
        </p:blipFill>
        <p:spPr>
          <a:xfrm>
            <a:off x="6272280" y="5300640"/>
            <a:ext cx="747720" cy="938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Object 3"/>
              <p:cNvSpPr txBox="1"/>
              <p:nvPr/>
            </p:nvSpPr>
            <p:spPr>
              <a:xfrm>
                <a:off x="1692360" y="1859040"/>
                <a:ext cx="590076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"/>
              <p:cNvSpPr txBox="1"/>
              <p:nvPr/>
            </p:nvSpPr>
            <p:spPr>
              <a:xfrm>
                <a:off x="88920" y="1125360"/>
                <a:ext cx="4554360" cy="194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3"/>
              <p:cNvSpPr txBox="1"/>
              <p:nvPr/>
            </p:nvSpPr>
            <p:spPr>
              <a:xfrm>
                <a:off x="4518000" y="1125360"/>
                <a:ext cx="2718000" cy="194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" name="ZoneTexte 11"/>
          <p:cNvSpPr/>
          <p:nvPr/>
        </p:nvSpPr>
        <p:spPr>
          <a:xfrm rot="884400">
            <a:off x="6674760" y="1411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rcRect l="15616" t="15321" r="15616" b="15321"/>
          <a:stretch/>
        </p:blipFill>
        <p:spPr>
          <a:xfrm>
            <a:off x="5554800" y="3160800"/>
            <a:ext cx="3554280" cy="3652920"/>
          </a:xfrm>
          <a:prstGeom prst="rect">
            <a:avLst/>
          </a:prstGeom>
          <a:ln w="0">
            <a:noFill/>
          </a:ln>
        </p:spPr>
      </p:pic>
      <p:sp>
        <p:nvSpPr>
          <p:cNvPr id="143" name="ZoneTexte 8"/>
          <p:cNvSpPr/>
          <p:nvPr/>
        </p:nvSpPr>
        <p:spPr>
          <a:xfrm>
            <a:off x="0" y="3284640"/>
            <a:ext cx="558000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f 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(</a:t>
            </a: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) n’est pas de la for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« </a:t>
            </a: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x + b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 » avec </a:t>
            </a: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et </a:t>
            </a: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b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deux ré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et </a:t>
            </a: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f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n’est pas définie sur </a:t>
            </a:r>
            <a:r>
              <a:rPr b="0" lang="fr-FR" sz="3200" spc="-1" strike="noStrike">
                <a:solidFill>
                  <a:srgbClr val="0042c8"/>
                </a:solidFill>
                <a:latin typeface="OpenSymbol"/>
                <a:ea typeface="OpenSymbol"/>
              </a:rPr>
              <a:t>ℝ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Représentation graphique de </a:t>
            </a: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f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0"/>
                            </p:stCondLst>
                            <p:childTnLst>
                              <p:par>
                                <p:cTn id="2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6000"/>
                            </p:stCondLst>
                            <p:childTnLst>
                              <p:par>
                                <p:cTn id="2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2365200" y="1125360"/>
                <a:ext cx="4395960" cy="12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ZoneTexte 11"/>
          <p:cNvSpPr/>
          <p:nvPr/>
        </p:nvSpPr>
        <p:spPr>
          <a:xfrm rot="884400">
            <a:off x="6674400" y="1411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3"/>
              <p:cNvSpPr txBox="1"/>
              <p:nvPr/>
            </p:nvSpPr>
            <p:spPr>
              <a:xfrm>
                <a:off x="1781280" y="2133720"/>
                <a:ext cx="55148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ZoneTexte 7"/>
          <p:cNvSpPr/>
          <p:nvPr/>
        </p:nvSpPr>
        <p:spPr>
          <a:xfrm>
            <a:off x="0" y="3141720"/>
            <a:ext cx="91440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f 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(</a:t>
            </a: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x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) est de la form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« </a:t>
            </a: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x + b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 » :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</a:t>
            </a:r>
            <a:r>
              <a:rPr b="0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= –16 et </a:t>
            </a:r>
            <a:r>
              <a:rPr b="0" i="1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b</a:t>
            </a:r>
            <a:r>
              <a:rPr b="0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= 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2195640" y="5229360"/>
            <a:ext cx="4752720" cy="1152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ZoneTexte 7"/>
          <p:cNvSpPr/>
          <p:nvPr/>
        </p:nvSpPr>
        <p:spPr>
          <a:xfrm>
            <a:off x="0" y="3141720"/>
            <a:ext cx="91440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f 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(</a:t>
            </a: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x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) est de la form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« </a:t>
            </a: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x + b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 » :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</a:t>
            </a:r>
            <a:r>
              <a:rPr b="0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=            et </a:t>
            </a:r>
            <a:r>
              <a:rPr b="0" i="1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b</a:t>
            </a:r>
            <a:r>
              <a:rPr b="0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= 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1908000" y="5229360"/>
            <a:ext cx="5256360" cy="1152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ZoneTexte 11"/>
          <p:cNvSpPr/>
          <p:nvPr/>
        </p:nvSpPr>
        <p:spPr>
          <a:xfrm rot="884400">
            <a:off x="6674400" y="1411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2"/>
              <p:cNvSpPr txBox="1"/>
              <p:nvPr/>
            </p:nvSpPr>
            <p:spPr>
              <a:xfrm>
                <a:off x="1685880" y="1052640"/>
                <a:ext cx="5550120" cy="12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"/>
          <p:cNvPicPr/>
          <p:nvPr/>
        </p:nvPicPr>
        <p:blipFill>
          <a:blip r:embed="rId1"/>
          <a:stretch/>
        </p:blipFill>
        <p:spPr>
          <a:xfrm>
            <a:off x="3059280" y="5373720"/>
            <a:ext cx="1788840" cy="919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7" name="Object 3"/>
              <p:cNvSpPr txBox="1"/>
              <p:nvPr/>
            </p:nvSpPr>
            <p:spPr>
              <a:xfrm>
                <a:off x="1106640" y="2077920"/>
                <a:ext cx="670536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2050920" y="5373720"/>
            <a:ext cx="4969080" cy="86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11"/>
          <p:cNvSpPr/>
          <p:nvPr/>
        </p:nvSpPr>
        <p:spPr>
          <a:xfrm rot="884400">
            <a:off x="6674400" y="1411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2"/>
              <p:cNvSpPr txBox="1"/>
              <p:nvPr/>
            </p:nvSpPr>
            <p:spPr>
              <a:xfrm>
                <a:off x="34920" y="1060560"/>
                <a:ext cx="4718160" cy="19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" name="ZoneTexte 17"/>
          <p:cNvSpPr/>
          <p:nvPr/>
        </p:nvSpPr>
        <p:spPr>
          <a:xfrm>
            <a:off x="0" y="3141720"/>
            <a:ext cx="91440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f 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(</a:t>
            </a: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x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) est de la form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« </a:t>
            </a: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x + b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 » :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</a:t>
            </a:r>
            <a:r>
              <a:rPr b="0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= 2 et </a:t>
            </a:r>
            <a:r>
              <a:rPr b="0" i="1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b</a:t>
            </a:r>
            <a:r>
              <a:rPr b="0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= –2/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3"/>
              <p:cNvSpPr txBox="1"/>
              <p:nvPr/>
            </p:nvSpPr>
            <p:spPr>
              <a:xfrm>
                <a:off x="4645080" y="1052640"/>
                <a:ext cx="3598920" cy="19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2"/>
              <p:cNvSpPr txBox="1"/>
              <p:nvPr/>
            </p:nvSpPr>
            <p:spPr>
              <a:xfrm>
                <a:off x="1965240" y="2346480"/>
                <a:ext cx="5194440" cy="19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2"/>
              <p:cNvSpPr txBox="1"/>
              <p:nvPr/>
            </p:nvSpPr>
            <p:spPr>
              <a:xfrm>
                <a:off x="2166840" y="2278080"/>
                <a:ext cx="4794480" cy="20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2"/>
              <p:cNvSpPr txBox="1"/>
              <p:nvPr/>
            </p:nvSpPr>
            <p:spPr>
              <a:xfrm>
                <a:off x="1087560" y="2781360"/>
                <a:ext cx="695484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2"/>
              <p:cNvSpPr txBox="1"/>
              <p:nvPr/>
            </p:nvSpPr>
            <p:spPr>
              <a:xfrm>
                <a:off x="1725480" y="2714760"/>
                <a:ext cx="5673960" cy="12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2"/>
              <p:cNvSpPr txBox="1"/>
              <p:nvPr/>
            </p:nvSpPr>
            <p:spPr>
              <a:xfrm>
                <a:off x="1484280" y="2714760"/>
                <a:ext cx="6154920" cy="12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2"/>
              <p:cNvSpPr txBox="1"/>
              <p:nvPr/>
            </p:nvSpPr>
            <p:spPr>
              <a:xfrm>
                <a:off x="1127160" y="2714760"/>
                <a:ext cx="68752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Marielle Séguy</cp:lastModifiedBy>
  <dcterms:modified xsi:type="dcterms:W3CDTF">2015-01-11T21:03:52Z</dcterms:modified>
  <cp:revision>257</cp:revision>
  <dc:subject/>
  <dc:title>Diapositive 0</dc:title>
</cp:coreProperties>
</file>