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DCBD-6353-41C4-8368-1CBD1090C2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0889-D99F-410B-AEE0-7D4B12A822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541B-C4D6-4A35-9D79-F94F217BEF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E417-BC79-4F45-AB73-BE90C3EB28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4808-EF2E-4BF9-B436-034EFCF0E5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47C2-F2B3-4774-8CE7-6706B23DB4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47DA-1D90-4AAE-9261-DD285CF054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73C3-0C68-4D4B-8E0B-43DB93B4B7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B084-4580-451A-91C6-C2426CAA82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4F56-2081-4F56-95A3-5FA8EFA0E7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C15F-1879-4782-9BDA-7B165F1EAC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E82E-B24F-4A09-8AC9-C8848DCE8D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3B76-1AF1-4116-A085-E208F4D311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41A9-5525-4844-9D57-0A180CF0ED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3859-28A7-4400-9DE7-6550C2DB1E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AFA5-FD47-4253-A35A-6DCE32D1C3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5B80-2E94-40BC-BADC-977CE7D491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FE8A-1915-4733-A165-3A84BD4F32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EB9C-D391-4B73-9587-2DAFFA0A10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9E81-A5EB-4A9F-A584-761BF593B7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BE1F-DDC4-4DCA-B90F-4229BE55B4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11A0-8CE1-4F6F-91E3-539E164ADC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74DF-2059-4231-B768-8499991E91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389-F251-4356-858F-9BDFC912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93D-7C19-4B74-A01D-84800C70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EF3-23BB-4921-9E3C-47B7B83F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593-8AF1-4099-9A9B-1DA80871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0A2-AE25-4560-834D-CB50ECF7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307-95AF-4382-ACEF-89A50A4B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3173-5E17-476B-82F6-A67FBD30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86B-ED5F-40D9-B4F3-CD8386CF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AFB-79F8-47FC-9B5F-7C61F638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76F-F5A4-4AE7-AD19-F4E9FF55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72C-2C7E-42F7-BC44-0EA3DA8D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C08-296F-42EB-9ED2-725A5FD1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9827-1E98-4D7B-AC67-AEFE3B7E5EDF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90BE-1C81-49AC-B7F8-76DEA2B01B2B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4"/>
          <p:cNvSpPr/>
          <p:nvPr/>
        </p:nvSpPr>
        <p:spPr>
          <a:xfrm>
            <a:off x="250920" y="1628640"/>
            <a:ext cx="86421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ECHANTILLONNAGE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re 1"/>
          <p:cNvSpPr/>
          <p:nvPr/>
        </p:nvSpPr>
        <p:spPr>
          <a:xfrm>
            <a:off x="0" y="4292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’équipe de campagne de Madame V a-t-elle raison d’être confiant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adame V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onsieur Z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tre 1"/>
          <p:cNvSpPr/>
          <p:nvPr/>
        </p:nvSpPr>
        <p:spPr>
          <a:xfrm>
            <a:off x="0" y="4292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alculer 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é à ce sond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onsieur Z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0" y="4292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’équipe de campagne de Monsieur Z a-t-elle raison d’être confiant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re 1"/>
          <p:cNvSpPr/>
          <p:nvPr/>
        </p:nvSpPr>
        <p:spPr>
          <a:xfrm>
            <a:off x="0" y="278136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fluctuation au seuil de 95 % est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    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re 1"/>
          <p:cNvSpPr/>
          <p:nvPr/>
        </p:nvSpPr>
        <p:spPr>
          <a:xfrm>
            <a:off x="0" y="907920"/>
            <a:ext cx="91440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onsidère l’intervalle de fluctuation au seuil de 95%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0,55 ; 0,65]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re 1" descr=""/>
          <p:cNvPicPr/>
          <p:nvPr/>
        </p:nvPicPr>
        <p:blipFill>
          <a:blip r:embed="rId1"/>
          <a:stretch/>
        </p:blipFill>
        <p:spPr>
          <a:xfrm>
            <a:off x="-19080" y="4456080"/>
            <a:ext cx="9156600" cy="1427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3132000" y="3406680"/>
            <a:ext cx="283860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re 1"/>
          <p:cNvSpPr/>
          <p:nvPr/>
        </p:nvSpPr>
        <p:spPr>
          <a:xfrm>
            <a:off x="0" y="468000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Ici, l’intervalle de fluctuation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pour le numéro « 3 » est [0,15 ; 0,35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692280"/>
            <a:ext cx="9144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numéroté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t on obti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re 1"/>
          <p:cNvSpPr/>
          <p:nvPr/>
        </p:nvSpPr>
        <p:spPr>
          <a:xfrm>
            <a:off x="0" y="278136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fluctuation au seuil de 95 % est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    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3132000" y="3406680"/>
            <a:ext cx="283860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et on obtient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omme </a:t>
            </a: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f =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0,18 </a:t>
            </a:r>
            <a:r>
              <a:rPr b="1" lang="fr-FR" sz="3000" spc="-1" strike="noStrike">
                <a:solidFill>
                  <a:srgbClr val="008a3e"/>
                </a:solidFill>
                <a:latin typeface="Cambria Math"/>
                <a:ea typeface="Cambria Math"/>
              </a:rPr>
              <a:t>∈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[0,15 ; 0,35], alors on peut pens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que ce dé n’est pas truqu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ce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et on obtient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omme </a:t>
            </a: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f =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0,32 </a:t>
            </a:r>
            <a:r>
              <a:rPr b="1" lang="fr-FR" sz="3000" spc="-1" strike="noStrike">
                <a:solidFill>
                  <a:srgbClr val="008a3e"/>
                </a:solidFill>
                <a:latin typeface="Cambria Math"/>
                <a:ea typeface="Cambria Math"/>
              </a:rPr>
              <a:t>∈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[0,15 ; 0,35], alors on peut toujours penser que ce dé n’est pas truqu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tre 1"/>
          <p:cNvSpPr/>
          <p:nvPr/>
        </p:nvSpPr>
        <p:spPr>
          <a:xfrm>
            <a:off x="0" y="1197000"/>
            <a:ext cx="9144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 répartition des groupes sanguins dans le monde est donnée dans le tableau ci-dessou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un groupe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ersonn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èv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8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 du groupe 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re 1"/>
          <p:cNvSpPr/>
          <p:nvPr/>
        </p:nvSpPr>
        <p:spPr>
          <a:xfrm>
            <a:off x="0" y="486900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fluctuation au seuil de 95 % pour le groupe sanguin « A » est [0,35 ; 0,45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ableau 10" descr=""/>
          <p:cNvPicPr/>
          <p:nvPr/>
        </p:nvPicPr>
        <p:blipFill>
          <a:blip r:embed="rId1"/>
          <a:stretch/>
        </p:blipFill>
        <p:spPr>
          <a:xfrm>
            <a:off x="396720" y="2419200"/>
            <a:ext cx="8498160" cy="1268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re 1"/>
          <p:cNvSpPr/>
          <p:nvPr/>
        </p:nvSpPr>
        <p:spPr>
          <a:xfrm>
            <a:off x="0" y="1197000"/>
            <a:ext cx="9144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 répartition des groupes sanguins dans le monde est donnée dans le tableau ci-dessou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un groupe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ersonn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èv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8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 du groupe 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ableau 11" descr=""/>
          <p:cNvPicPr/>
          <p:nvPr/>
        </p:nvPicPr>
        <p:blipFill>
          <a:blip r:embed="rId1"/>
          <a:stretch/>
        </p:blipFill>
        <p:spPr>
          <a:xfrm>
            <a:off x="396720" y="2419200"/>
            <a:ext cx="8498160" cy="1268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tre 1"/>
          <p:cNvSpPr/>
          <p:nvPr/>
        </p:nvSpPr>
        <p:spPr>
          <a:xfrm>
            <a:off x="0" y="5040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omme </a:t>
            </a:r>
            <a:r>
              <a:rPr b="1" i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f =              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      </a:t>
            </a:r>
            <a:r>
              <a:rPr b="1" lang="fr-FR" sz="3000" spc="-1" strike="noStrike">
                <a:solidFill>
                  <a:srgbClr val="008a3e"/>
                </a:solidFill>
                <a:latin typeface="Cambria Math"/>
                <a:ea typeface="Cambria Math"/>
              </a:rPr>
              <a:t>∈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[0,35 ; 0,45], alors on peut estimer que l’échantillon est conforme à la répartition mondiale du groupe « A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4" descr=""/>
          <p:cNvPicPr/>
          <p:nvPr/>
        </p:nvPicPr>
        <p:blipFill>
          <a:blip r:embed="rId2"/>
          <a:stretch/>
        </p:blipFill>
        <p:spPr>
          <a:xfrm>
            <a:off x="2268360" y="4724280"/>
            <a:ext cx="1952640" cy="800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  <a:ea typeface="Arial"/>
              </a:rPr>
              <a:t>Répondre aux questions. </a:t>
            </a:r>
            <a:br>
              <a:rPr sz="8000"/>
            </a:br>
            <a:br>
              <a:rPr sz="4000"/>
            </a:br>
            <a:r>
              <a:rPr b="0" i="1" lang="fr-FR" sz="4000" spc="-1" strike="noStrike">
                <a:solidFill>
                  <a:srgbClr val="0042c8"/>
                </a:solidFill>
                <a:latin typeface="Georgia"/>
                <a:ea typeface="Arial"/>
              </a:rPr>
              <a:t>La calculatrice est autorisé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4581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Ici, 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ié à ce sondage est [0,493 ; 0,567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tre 1"/>
          <p:cNvSpPr/>
          <p:nvPr/>
        </p:nvSpPr>
        <p:spPr>
          <a:xfrm>
            <a:off x="0" y="112536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adame V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tre 1"/>
          <p:cNvSpPr/>
          <p:nvPr/>
        </p:nvSpPr>
        <p:spPr>
          <a:xfrm>
            <a:off x="0" y="3168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confiance au seuil de 95 % est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    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3203640" y="3716280"/>
            <a:ext cx="279072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0" y="450864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omme la borne inférieure de l’intervalle 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« 0,493 », il y a un risque que Madame 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n’obtienne pas plus de 50 % des voi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itre 1"/>
          <p:cNvSpPr/>
          <p:nvPr/>
        </p:nvSpPr>
        <p:spPr>
          <a:xfrm>
            <a:off x="0" y="3141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ié à ce sondage est [0,493 ; 0,567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re 1"/>
          <p:cNvSpPr/>
          <p:nvPr/>
        </p:nvSpPr>
        <p:spPr>
          <a:xfrm>
            <a:off x="0" y="112536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adame V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0" y="4581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Ici, 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ié à ce sondage est [0,501 ; 0,559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tre 1"/>
          <p:cNvSpPr/>
          <p:nvPr/>
        </p:nvSpPr>
        <p:spPr>
          <a:xfrm>
            <a:off x="0" y="112536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onsieur Z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itre 1"/>
          <p:cNvSpPr/>
          <p:nvPr/>
        </p:nvSpPr>
        <p:spPr>
          <a:xfrm>
            <a:off x="0" y="3168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confiance au seuil de 95 % est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    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3203640" y="3716280"/>
            <a:ext cx="2790720" cy="8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re 1"/>
          <p:cNvSpPr/>
          <p:nvPr/>
        </p:nvSpPr>
        <p:spPr>
          <a:xfrm>
            <a:off x="0" y="450864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Comme la borne inférieure de l’intervalle 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 </a:t>
            </a: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« 0,501 » supérieure à 50 %, l’équipe de campagne de Monsieur Z a de bonnes raisons d’être confia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itre 1"/>
          <p:cNvSpPr/>
          <p:nvPr/>
        </p:nvSpPr>
        <p:spPr>
          <a:xfrm>
            <a:off x="0" y="314172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lié à ce sondage est [0,501 ; 0,559]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re 1"/>
          <p:cNvSpPr/>
          <p:nvPr/>
        </p:nvSpPr>
        <p:spPr>
          <a:xfrm>
            <a:off x="0" y="112536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onsieur Z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considère l’intervalle de fluctuation au seuil de 95 %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0,55 ; 0,65]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éterminer la proportion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 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e la valeur du caractère étudié et la taille </a:t>
            </a:r>
            <a:r>
              <a:rPr b="1" i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n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de l’échantill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numéroté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t on obti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éterminer l’intervalle de fluctuation au seuil de 95 % pour le numéro « 3 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un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numéroté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t on obti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 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Que peut-on penser de ce dé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1125360"/>
            <a:ext cx="914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anc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ce dé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aces numérotées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à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t on obtient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fois le numéro « 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re 1"/>
          <p:cNvSpPr/>
          <p:nvPr/>
        </p:nvSpPr>
        <p:spPr>
          <a:xfrm>
            <a:off x="0" y="396072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Que peut-on alors penser de ce dé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re 1"/>
          <p:cNvSpPr/>
          <p:nvPr/>
        </p:nvSpPr>
        <p:spPr>
          <a:xfrm>
            <a:off x="0" y="1197000"/>
            <a:ext cx="9144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 répartition des groupes sanguins dans le monde est donnée dans le tableau ci-dessou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un groupe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ersonn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èv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8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 du groupe 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0" y="4797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Quel est l’intervalle de fluctuation au seuil de 95 % pour le groupe sanguin « A »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.  [0,39 ; 0,49]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b. [0,35 ; 0,45]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Tableau 10" descr=""/>
          <p:cNvPicPr/>
          <p:nvPr/>
        </p:nvPicPr>
        <p:blipFill>
          <a:blip r:embed="rId1"/>
          <a:stretch/>
        </p:blipFill>
        <p:spPr>
          <a:xfrm>
            <a:off x="396720" y="2419200"/>
            <a:ext cx="8498160" cy="1268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re 1"/>
          <p:cNvSpPr/>
          <p:nvPr/>
        </p:nvSpPr>
        <p:spPr>
          <a:xfrm>
            <a:off x="0" y="1197000"/>
            <a:ext cx="91440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 répartition des groupes sanguins dans le monde est donnée dans le tableau ci-dessou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ns un groupe d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00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personn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relève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8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 du groupe 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4869000"/>
            <a:ext cx="91440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-ce un échantillon confor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à la répartition mondiale 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ableau 11" descr=""/>
          <p:cNvPicPr/>
          <p:nvPr/>
        </p:nvPicPr>
        <p:blipFill>
          <a:blip r:embed="rId1"/>
          <a:stretch/>
        </p:blipFill>
        <p:spPr>
          <a:xfrm>
            <a:off x="396720" y="2419200"/>
            <a:ext cx="8498160" cy="1268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1"/>
          <p:cNvSpPr/>
          <p:nvPr/>
        </p:nvSpPr>
        <p:spPr>
          <a:xfrm>
            <a:off x="0" y="429264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alculer l’intervalle de confiance au seuil de 95 %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ié à ce sond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re 1"/>
          <p:cNvSpPr/>
          <p:nvPr/>
        </p:nvSpPr>
        <p:spPr>
          <a:xfrm>
            <a:off x="0" y="1125360"/>
            <a:ext cx="9144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rs d’un sondage effectué sur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52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ndividus, </a:t>
            </a:r>
            <a:r>
              <a:rPr b="1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3</a:t>
            </a:r>
            <a:r>
              <a:rPr b="0" lang="fr-FR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% répondent qu’ils vont voter pour Madame V aux prochaines él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PC-MS</cp:lastModifiedBy>
  <dcterms:modified xsi:type="dcterms:W3CDTF">2016-06-23T15:05:31Z</dcterms:modified>
  <cp:revision>304</cp:revision>
  <dc:subject/>
  <dc:title>Diapositive 0</dc:title>
</cp:coreProperties>
</file>