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EBD-E392-4C09-A20B-D1E376B2F2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D5C7-FF5D-4603-BE02-46AD75A378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CDB-FD81-4454-8A65-CAB28E9486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49B0-D77A-422F-94D5-71206114EC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1DD-CF4D-470D-B9D2-095BB18A00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831-C47E-411D-8DC4-E9A494E53C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2BA2-4448-414D-AF5F-EE4AE92BC5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C92-94E0-4F1F-AF4B-3A33F9278F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98D7-06EB-42E7-8C3F-5236DA863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9947-7514-4541-980A-613B41B7E0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04FD-BD1A-4DC5-8319-916DF4FD95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4E6D-517C-4573-8019-50171391D3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AB5-37AC-48DD-B544-E7FA9BFB28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507F-B3CA-446A-9266-A07EE034DE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B5B3-9E38-4587-A342-CCACC9BB42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FB41-7AE2-4ADD-85F8-7F1599EAE9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23E-0315-4A88-8C60-8667822A17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20EC-585C-4FC8-A4C4-FB430D0153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3FC-6811-4B9B-87C0-1EABBFA1B1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1F2-3B80-44FB-A3DC-27CF9B67D5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D243-ADCD-4F3B-9B7E-73EC8A6514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934-D474-46D2-ABF2-A617C3C23E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D0F-2DEA-4CBA-8250-1C5799DC0E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139C-A30B-4B89-BC12-9BBE6FCF5B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5C1-27D8-435E-9C6B-ECAF51827F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B96D-845E-4838-92B3-63F27F07CE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0D2-2C24-4A6B-8238-0B35B5E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643-447D-40C4-B173-93B8B83E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2A0-16BC-4CF7-B91F-66EE50BB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BB0-3090-4B38-911D-65C9BD81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ED5-7693-4F4C-8C9A-D43F5418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EA9-5314-4848-B4BD-E07C6E5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41C-3F93-4B12-8929-49F3EA4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06E-AE05-4F6A-850B-F0973E28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300-7408-4463-983B-7CD22646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C41-BB19-46EC-8BA1-E2E8ECC3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853-BBE8-4D93-BC17-CAA9363D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1B3-C578-468E-AB7D-5583A46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D945-B886-4A92-A19B-1EAC913F1940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4680-C2BC-4DA2-B50B-31DE1E6D015F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250920" y="1628640"/>
            <a:ext cx="86421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ÉCHANTILLONNAGE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peut-on calculer la proportion théorique de jetons noirs ou une fréquence observé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ut-on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utant de jetons noirs que de jetons blanc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eut-on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lus de jetons noirs que de jetons blanc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000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55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53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proportion théoriqu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9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re 1"/>
          <p:cNvSpPr/>
          <p:nvPr/>
        </p:nvSpPr>
        <p:spPr>
          <a:xfrm>
            <a:off x="0" y="5084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fréquence observé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 =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427640" y="5499000"/>
            <a:ext cx="63792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3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proportion théoriqu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0,1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étude statistique, on note :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aille de l’échantillon étudié ;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proportion théorique ou la probabilité connue ;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a fréquence observée de l’échantil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fréquence observée 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=             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4140360" y="5111640"/>
            <a:ext cx="1130040" cy="8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la taille de l’échantillon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= 10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Dans cette étude, on ne peut calcul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qu’une fréquence observé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4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On ne peut pas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autant de jetons noirs que de jetons blanc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’est seulement un échanti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ispose d’une urne conten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s jetons blancs et noi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hoisit au hasard un jeton, on note sa couleur puis on le remet dans l’urne : on fai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0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tte expérie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dénombre alors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55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jeton no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On ne peut pas affirmer que l’urne cont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lus de jetons noirs que de jetons blanc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’est seulement un échantil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Répondre aux questions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proportion théoriqu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485928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fréquence observé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entreprise souhaite savoir si une de ses machines dose correctement des bouteill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ur cela, le responsable qualité prélève un lot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6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et constate qu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02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ont confor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ne machine est considérée correcte si au mo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7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uteilles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contiennent exactem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 cl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proportion théoriqu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0" y="4500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ans cette étude, quelle est la fréquence observé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f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le monde, il y a environ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%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veut savoir si une classe de 2</a:t>
            </a:r>
            <a:r>
              <a:rPr b="0" lang="fr-FR" sz="3000" spc="-1" strike="noStrike" baseline="30000">
                <a:solidFill>
                  <a:srgbClr val="002060"/>
                </a:solidFill>
                <a:latin typeface="Times New Roman"/>
                <a:ea typeface="Times New Roman"/>
              </a:rPr>
              <a:t>nde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lèves est conforme à la proportion de gauc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interroge les élèves :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écrivent de la main dro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6-23T14:22:10Z</dcterms:modified>
  <cp:revision>266</cp:revision>
  <dc:subject/>
  <dc:title>Diapositive 0</dc:title>
</cp:coreProperties>
</file>