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13932-31D5-4C92-9C71-CF7F755A729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7A55-A66F-4440-BF27-A155E2A8920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4F38-3392-4EC9-8927-5B1B5795E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EAE2-05C5-485F-BE2B-27C3E5426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4F10-3858-4D50-A362-EDC7BF3F0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DCB0-AE77-4975-83E7-E3E2B3E9C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C71B-132A-4F67-AB08-B1CD943A3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74CC-E15D-446E-98BC-1020071E6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4125-ACBD-459D-885B-D02EBCB86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7DAB-E91E-4A55-875E-E0863C358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D97E-5C4B-49FD-A93D-0A11511F4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54DA-5678-4413-87D1-CDF3E5AF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E029-13DF-4236-933E-19D88A53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8E5D-3B5B-4217-A5B6-2876553B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6275C-6BBF-47CF-B425-A7BE8C7108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770040" y="1353960"/>
            <a:ext cx="7601040" cy="1587600"/>
          </a:xfrm>
          <a:prstGeom prst="rect">
            <a:avLst/>
          </a:prstGeom>
          <a:solidFill>
            <a:srgbClr val="595959">
              <a:alpha val="60000"/>
            </a:srgbClr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70c0"/>
                </a:solidFill>
                <a:latin typeface="Georgia"/>
                <a:ea typeface="Arial"/>
              </a:rPr>
              <a:t>PROBABILITÉS</a:t>
            </a:r>
            <a:br>
              <a:rPr sz="6000"/>
            </a:br>
            <a:r>
              <a:rPr b="1" lang="fr-FR" sz="6000" spc="-1" strike="noStrike">
                <a:solidFill>
                  <a:srgbClr val="0070c0"/>
                </a:solidFill>
                <a:latin typeface="Georgia"/>
                <a:ea typeface="Arial"/>
              </a:rPr>
              <a:t>SÉRIE 6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itre 1"/>
          <p:cNvSpPr/>
          <p:nvPr/>
        </p:nvSpPr>
        <p:spPr>
          <a:xfrm>
            <a:off x="0" y="4390920"/>
            <a:ext cx="914400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42920" y="1628640"/>
            <a:ext cx="73454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A : « la pièce présente le défaut a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B : « la pièce présente le défaut b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oneTexte 4"/>
          <p:cNvSpPr/>
          <p:nvPr/>
        </p:nvSpPr>
        <p:spPr>
          <a:xfrm>
            <a:off x="0" y="350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mbria"/>
              </a:rPr>
              <a:t>La pièce présente un seul défau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042920" y="1628640"/>
            <a:ext cx="73454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A : « la pièce présente le défaut a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B : « la pièce présente le défaut b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oneTexte 4"/>
          <p:cNvSpPr/>
          <p:nvPr/>
        </p:nvSpPr>
        <p:spPr>
          <a:xfrm>
            <a:off x="0" y="350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mbria"/>
              </a:rPr>
              <a:t>La pièce présente au plus un défau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70c0"/>
                </a:solidFill>
                <a:latin typeface="Georgia"/>
              </a:rPr>
              <a:t>CORRIGÉ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042920" y="1628640"/>
            <a:ext cx="73454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A : « la pièce présente le défaut a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B : « la pièce présente le défaut b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ZoneTexte 3" descr=""/>
          <p:cNvPicPr/>
          <p:nvPr/>
        </p:nvPicPr>
        <p:blipFill>
          <a:blip r:embed="rId1"/>
          <a:stretch/>
        </p:blipFill>
        <p:spPr>
          <a:xfrm>
            <a:off x="1438200" y="4572000"/>
            <a:ext cx="6340680" cy="858960"/>
          </a:xfrm>
          <a:prstGeom prst="rect">
            <a:avLst/>
          </a:prstGeom>
          <a:ln w="0">
            <a:noFill/>
          </a:ln>
        </p:spPr>
      </p:pic>
      <p:sp>
        <p:nvSpPr>
          <p:cNvPr id="84" name="ZoneTexte 4"/>
          <p:cNvSpPr/>
          <p:nvPr/>
        </p:nvSpPr>
        <p:spPr>
          <a:xfrm>
            <a:off x="0" y="350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mbria"/>
              </a:rPr>
              <a:t>La pièce présente les deux défau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042920" y="1628640"/>
            <a:ext cx="73454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A : « la pièce présente le défaut a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B : « la pièce présente le défaut b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ZoneTexte 3" descr=""/>
          <p:cNvPicPr/>
          <p:nvPr/>
        </p:nvPicPr>
        <p:blipFill>
          <a:blip r:embed="rId1"/>
          <a:stretch/>
        </p:blipFill>
        <p:spPr>
          <a:xfrm>
            <a:off x="1438200" y="4572000"/>
            <a:ext cx="6340680" cy="858960"/>
          </a:xfrm>
          <a:prstGeom prst="rect">
            <a:avLst/>
          </a:prstGeom>
          <a:ln w="0">
            <a:noFill/>
          </a:ln>
        </p:spPr>
      </p:pic>
      <p:sp>
        <p:nvSpPr>
          <p:cNvPr id="88" name="ZoneTexte 4"/>
          <p:cNvSpPr/>
          <p:nvPr/>
        </p:nvSpPr>
        <p:spPr>
          <a:xfrm>
            <a:off x="0" y="350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mbria"/>
              </a:rPr>
              <a:t>La pièce ne présente pas le défaut 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42920" y="1628640"/>
            <a:ext cx="73454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A : « la pièce présente le défaut a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B : « la pièce présente le défaut b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ZoneTexte 3" descr=""/>
          <p:cNvPicPr/>
          <p:nvPr/>
        </p:nvPicPr>
        <p:blipFill>
          <a:blip r:embed="rId1"/>
          <a:stretch/>
        </p:blipFill>
        <p:spPr>
          <a:xfrm>
            <a:off x="1438200" y="4572000"/>
            <a:ext cx="6340680" cy="858960"/>
          </a:xfrm>
          <a:prstGeom prst="rect">
            <a:avLst/>
          </a:prstGeom>
          <a:ln w="0">
            <a:noFill/>
          </a:ln>
        </p:spPr>
      </p:pic>
      <p:sp>
        <p:nvSpPr>
          <p:cNvPr id="92" name="ZoneTexte 4"/>
          <p:cNvSpPr/>
          <p:nvPr/>
        </p:nvSpPr>
        <p:spPr>
          <a:xfrm>
            <a:off x="0" y="350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mbria"/>
              </a:rPr>
              <a:t>La pièce présente au moins un défau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042920" y="1628640"/>
            <a:ext cx="73454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A : « la pièce présente le défaut a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B : « la pièce présente le défaut b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ZoneTexte 3" descr=""/>
          <p:cNvPicPr/>
          <p:nvPr/>
        </p:nvPicPr>
        <p:blipFill>
          <a:blip r:embed="rId1"/>
          <a:stretch/>
        </p:blipFill>
        <p:spPr>
          <a:xfrm>
            <a:off x="1438200" y="4572000"/>
            <a:ext cx="6340680" cy="858960"/>
          </a:xfrm>
          <a:prstGeom prst="rect">
            <a:avLst/>
          </a:prstGeom>
          <a:ln w="0">
            <a:noFill/>
          </a:ln>
        </p:spPr>
      </p:pic>
      <p:sp>
        <p:nvSpPr>
          <p:cNvPr id="96" name="ZoneTexte 4"/>
          <p:cNvSpPr/>
          <p:nvPr/>
        </p:nvSpPr>
        <p:spPr>
          <a:xfrm>
            <a:off x="0" y="350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mbria"/>
              </a:rPr>
              <a:t>La pièce ne présente que le défaut 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042920" y="1628640"/>
            <a:ext cx="73454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A : « la pièce présente le défaut a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B : « la pièce présente le défaut b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ZoneTexte 3" descr=""/>
          <p:cNvPicPr/>
          <p:nvPr/>
        </p:nvPicPr>
        <p:blipFill>
          <a:blip r:embed="rId1"/>
          <a:stretch/>
        </p:blipFill>
        <p:spPr>
          <a:xfrm>
            <a:off x="1438200" y="4572000"/>
            <a:ext cx="6340680" cy="858960"/>
          </a:xfrm>
          <a:prstGeom prst="rect">
            <a:avLst/>
          </a:prstGeom>
          <a:ln w="0">
            <a:noFill/>
          </a:ln>
        </p:spPr>
      </p:pic>
      <p:sp>
        <p:nvSpPr>
          <p:cNvPr id="100" name="ZoneTexte 4"/>
          <p:cNvSpPr/>
          <p:nvPr/>
        </p:nvSpPr>
        <p:spPr>
          <a:xfrm>
            <a:off x="0" y="350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mbria"/>
              </a:rPr>
              <a:t>La pièce ne présente aucun défau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ZoneTexte 5" descr=""/>
          <p:cNvPicPr/>
          <p:nvPr/>
        </p:nvPicPr>
        <p:blipFill>
          <a:blip r:embed="rId2"/>
          <a:stretch/>
        </p:blipFill>
        <p:spPr>
          <a:xfrm>
            <a:off x="1438200" y="5310360"/>
            <a:ext cx="6340680" cy="85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042920" y="1628640"/>
            <a:ext cx="73454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A : « la pièce présente le défaut a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B : « la pièce présente le défaut b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ZoneTexte 3" descr=""/>
          <p:cNvPicPr/>
          <p:nvPr/>
        </p:nvPicPr>
        <p:blipFill>
          <a:blip r:embed="rId1"/>
          <a:stretch/>
        </p:blipFill>
        <p:spPr>
          <a:xfrm>
            <a:off x="1438200" y="4572000"/>
            <a:ext cx="6340680" cy="858960"/>
          </a:xfrm>
          <a:prstGeom prst="rect">
            <a:avLst/>
          </a:prstGeom>
          <a:ln w="0">
            <a:noFill/>
          </a:ln>
        </p:spPr>
      </p:pic>
      <p:sp>
        <p:nvSpPr>
          <p:cNvPr id="105" name="ZoneTexte 4"/>
          <p:cNvSpPr/>
          <p:nvPr/>
        </p:nvSpPr>
        <p:spPr>
          <a:xfrm>
            <a:off x="0" y="350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mbria"/>
              </a:rPr>
              <a:t>La pièce ne présente que le défaut 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042920" y="1628640"/>
            <a:ext cx="73454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A : « la pièce présente le défaut a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B : « la pièce présente le défaut b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ZoneTexte 3" descr=""/>
          <p:cNvPicPr/>
          <p:nvPr/>
        </p:nvPicPr>
        <p:blipFill>
          <a:blip r:embed="rId1"/>
          <a:stretch/>
        </p:blipFill>
        <p:spPr>
          <a:xfrm>
            <a:off x="1359000" y="4627440"/>
            <a:ext cx="6595920" cy="858960"/>
          </a:xfrm>
          <a:prstGeom prst="rect">
            <a:avLst/>
          </a:prstGeom>
          <a:ln w="0">
            <a:noFill/>
          </a:ln>
        </p:spPr>
      </p:pic>
      <p:sp>
        <p:nvSpPr>
          <p:cNvPr id="109" name="ZoneTexte 4"/>
          <p:cNvSpPr/>
          <p:nvPr/>
        </p:nvSpPr>
        <p:spPr>
          <a:xfrm>
            <a:off x="0" y="350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mbria"/>
              </a:rPr>
              <a:t>La pièce présente un seul défau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87120" y="476280"/>
            <a:ext cx="87850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mbria"/>
              </a:rPr>
              <a:t>Une machine fabrique des pièces métalliques. Deux défauts notés a et b peuvent être présents dans ces pièces. On tire au hasard une piè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mbria"/>
              </a:rPr>
              <a:t>On considère les évènements suivant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A : « la pièce présente le défaut a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B : « la pièce présente le défaut b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ZoneTexte 3" descr=""/>
          <p:cNvPicPr/>
          <p:nvPr/>
        </p:nvPicPr>
        <p:blipFill>
          <a:blip r:embed="rId1"/>
          <a:stretch/>
        </p:blipFill>
        <p:spPr>
          <a:xfrm>
            <a:off x="0" y="4614840"/>
            <a:ext cx="9144000" cy="135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042920" y="1628640"/>
            <a:ext cx="73454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A : « la pièce présente le défaut a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B : « la pièce présente le défaut b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ZoneTexte 3" descr=""/>
          <p:cNvPicPr/>
          <p:nvPr/>
        </p:nvPicPr>
        <p:blipFill>
          <a:blip r:embed="rId1"/>
          <a:stretch/>
        </p:blipFill>
        <p:spPr>
          <a:xfrm>
            <a:off x="1438200" y="4572000"/>
            <a:ext cx="6516720" cy="858960"/>
          </a:xfrm>
          <a:prstGeom prst="rect">
            <a:avLst/>
          </a:prstGeom>
          <a:ln w="0">
            <a:noFill/>
          </a:ln>
        </p:spPr>
      </p:pic>
      <p:sp>
        <p:nvSpPr>
          <p:cNvPr id="113" name="ZoneTexte 4"/>
          <p:cNvSpPr/>
          <p:nvPr/>
        </p:nvSpPr>
        <p:spPr>
          <a:xfrm>
            <a:off x="0" y="350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mbria"/>
              </a:rPr>
              <a:t>La pièce présente au plus un défau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ZoneTexte 5" descr=""/>
          <p:cNvPicPr/>
          <p:nvPr/>
        </p:nvPicPr>
        <p:blipFill>
          <a:blip r:embed="rId2"/>
          <a:stretch/>
        </p:blipFill>
        <p:spPr>
          <a:xfrm>
            <a:off x="1468440" y="5340240"/>
            <a:ext cx="648648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70c0"/>
                </a:solidFill>
                <a:latin typeface="Georgia"/>
              </a:rPr>
              <a:t>FI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42920" y="1628640"/>
            <a:ext cx="73454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A : « la pièce présente le défaut a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B : « la pièce présente le défaut b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ZoneTexte 3" descr=""/>
          <p:cNvPicPr/>
          <p:nvPr/>
        </p:nvPicPr>
        <p:blipFill>
          <a:blip r:embed="rId1"/>
          <a:stretch/>
        </p:blipFill>
        <p:spPr>
          <a:xfrm>
            <a:off x="1438200" y="4627440"/>
            <a:ext cx="6340680" cy="858960"/>
          </a:xfrm>
          <a:prstGeom prst="rect">
            <a:avLst/>
          </a:prstGeom>
          <a:ln w="0">
            <a:noFill/>
          </a:ln>
        </p:spPr>
      </p:pic>
      <p:sp>
        <p:nvSpPr>
          <p:cNvPr id="55" name="ZoneTexte 4"/>
          <p:cNvSpPr/>
          <p:nvPr/>
        </p:nvSpPr>
        <p:spPr>
          <a:xfrm>
            <a:off x="0" y="350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mbria"/>
              </a:rPr>
              <a:t>La pièce ne présente pas le défaut 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042920" y="1628640"/>
            <a:ext cx="73454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A : « la pièce présente le défaut a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B : « la pièce présente le défaut b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ZoneTexte 4"/>
          <p:cNvSpPr/>
          <p:nvPr/>
        </p:nvSpPr>
        <p:spPr>
          <a:xfrm>
            <a:off x="0" y="350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mbria"/>
              </a:rPr>
              <a:t>La pièce présente les deux défau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042920" y="1628640"/>
            <a:ext cx="73454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A : « la pièce présente le défaut a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B : « la pièce présente le défaut b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ZoneTexte 4"/>
          <p:cNvSpPr/>
          <p:nvPr/>
        </p:nvSpPr>
        <p:spPr>
          <a:xfrm>
            <a:off x="0" y="350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mbria"/>
              </a:rPr>
              <a:t>La pièce ne présente pas le défaut 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042920" y="1628640"/>
            <a:ext cx="73454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A : « la pièce présente le défaut a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B : « la pièce présente le défaut b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ZoneTexte 4"/>
          <p:cNvSpPr/>
          <p:nvPr/>
        </p:nvSpPr>
        <p:spPr>
          <a:xfrm>
            <a:off x="0" y="350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mbria"/>
              </a:rPr>
              <a:t>La pièce présente au moins un défau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42920" y="1628640"/>
            <a:ext cx="73454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A : « la pièce présente le défaut a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B : « la pièce présente le défaut b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ZoneTexte 4"/>
          <p:cNvSpPr/>
          <p:nvPr/>
        </p:nvSpPr>
        <p:spPr>
          <a:xfrm>
            <a:off x="0" y="350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mbria"/>
              </a:rPr>
              <a:t>La pièce ne présente que le défaut 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042920" y="1628640"/>
            <a:ext cx="73454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A : « la pièce présente le défaut a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B : « la pièce présente le défaut b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ZoneTexte 4"/>
          <p:cNvSpPr/>
          <p:nvPr/>
        </p:nvSpPr>
        <p:spPr>
          <a:xfrm>
            <a:off x="0" y="350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mbria"/>
              </a:rPr>
              <a:t>La pièce ne présente aucun défau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042920" y="1628640"/>
            <a:ext cx="73454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A : « la pièce présente le défaut a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B : « la pièce présente le défaut b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oneTexte 4"/>
          <p:cNvSpPr/>
          <p:nvPr/>
        </p:nvSpPr>
        <p:spPr>
          <a:xfrm>
            <a:off x="0" y="350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mbria"/>
              </a:rPr>
              <a:t>La pièce ne présente que le défaut b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3T15:29:22Z</dcterms:created>
  <dc:creator>deletombe</dc:creator>
  <dc:description/>
  <dc:language>en-US</dc:language>
  <cp:lastModifiedBy>auderi</cp:lastModifiedBy>
  <dcterms:modified xsi:type="dcterms:W3CDTF">2016-07-04T14:55:20Z</dcterms:modified>
  <cp:revision>47</cp:revision>
  <dc:subject/>
  <dc:title>PROBABILITES Série 1</dc:title>
</cp:coreProperties>
</file>