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2C29-EEA6-4981-ABF5-36A73BE4C1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84AF-7B2A-4970-A14A-510167BD7C8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AA5-621B-42F1-A834-A621D1996278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5B87-B888-4EC6-9B81-0C311CA30C17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D39E-AB82-4759-8481-2E9C427DA8D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904F-5846-4534-A7C2-8C7C4E5D95A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6025-DD8B-47B0-813C-D38D53FCA50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F58-3346-4A10-B972-3583604A14B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D4E0-C969-4F6E-951B-54DF55C56A3A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Grossir les roues. Ne pas mettre la pointe sur un rayon. Texte modifi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5732-CC4F-4087-A570-001802119C45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E18-8FC8-4D44-8B30-BF89E5D1ECFE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4614-F05C-4E8C-93A1-64562EE684ED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4470-C397-4DC6-82F3-EA174CC7156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743-8DA8-4C75-9C7C-851CCE23284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670A-798E-4D13-A0AF-D5CC3D369EB4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44C1-E690-4C9A-AE87-03708C5D342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5777-9DFD-4719-8FC5-CC9FBD5CBDC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0BCD-5BD5-40C2-8476-BC121BE6096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9758-AAE0-42EE-9F11-AFBE71D7CCB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D58-D834-43A2-8B37-F1387D4C15FC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1A4E-DD3A-4B6B-AAFE-24CBD4C59FE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BCBB-3F32-423E-B02F-F53A8623B8F9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ABF-028F-42D8-94C3-DB456B39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201-DF32-4771-968C-5369339A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8A4-F8DE-4AAA-8198-634A235D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E6B-500B-40C8-A1C2-B6D215DC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229-C560-4AEE-8384-3F958EE1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67C-20C6-491F-8154-936B058B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83D-8831-493A-89D1-D3B6965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333-A50E-455F-9E53-EC6E9141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C4B-1300-4A04-B608-116CB1F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ABD-B934-4A24-91EB-4B367980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BB2-B67F-464C-B6D8-4C8FC80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4F2-CE39-4610-BDF2-637555F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762-8093-4443-A995-4F602B15163E}" type="datetime">
              <a:rPr b="0" lang="fr-FR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847E-D7AB-46D9-B01B-006207AEB76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468440"/>
            <a:ext cx="7601040" cy="1587600"/>
          </a:xfrm>
          <a:prstGeom prst="rect">
            <a:avLst/>
          </a:prstGeom>
          <a:solidFill>
            <a:srgbClr val="7f7f7f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0000"/>
                </a:solidFill>
                <a:latin typeface="Georgia"/>
              </a:rPr>
              <a:t>PROBABILITÉS</a:t>
            </a:r>
            <a:br>
              <a:rPr sz="5400"/>
            </a:b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0" y="1292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0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strictement inférieur à 5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2924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premier, c’est-à-dire un entier naturel ayant exactement deux diviseur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575400" y="2838600"/>
            <a:ext cx="2556000" cy="2751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xplication géné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1314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que la flèche indique un  s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est proportionnelle à l’angle du sect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298296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s secteurs 1 et 2 ont un angle de 90°, soit chacun un quart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 secteur 4 a un angle représentant le tiers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Le secteur 3, par soustraction a un angle de 60°, soit le sixième de 3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1 est 9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est 9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3 est 6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3 est 6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1"/>
          <p:cNvSpPr/>
          <p:nvPr/>
        </p:nvSpPr>
        <p:spPr>
          <a:xfrm>
            <a:off x="0" y="119700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4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0" y="21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’angle du secteur 4 est 12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4 est 120/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oit 1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1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impa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270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6 = 5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409920" y="4254480"/>
            <a:ext cx="2324160" cy="250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0" y="134136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e ne 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0" y="2205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Ne pas obtenir 1 » est l’évènement contraire de l’évènement « obtenir 1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e ne pas obtenir 1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 – 1/4 = 3/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8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e roue de loterie est partagée 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atre secteurs numérotés 1, 2, 3 et 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n fait tourner la roue et on note le secteur indiqué par la flèche lorsqu’elle s’arrê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3278160" cy="352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multiple de 2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0" y="2708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2 ou 4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3 = 7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re 1"/>
          <p:cNvSpPr/>
          <p:nvPr/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inférieur ou égal à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22510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1 ou 2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4 + 1/6 = 8/12 =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u bien la probabilité de ne pas obtenir 4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 – 1/3 = 2/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409920" y="4254480"/>
            <a:ext cx="2324160" cy="250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re 1"/>
          <p:cNvSpPr/>
          <p:nvPr/>
        </p:nvSpPr>
        <p:spPr>
          <a:xfrm>
            <a:off x="0" y="105264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0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0" y="24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Obtenir 0 » est un évènement im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0 est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1"/>
          <p:cNvSpPr/>
          <p:nvPr/>
        </p:nvSpPr>
        <p:spPr>
          <a:xfrm>
            <a:off x="0" y="126828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strictement inférieur à 5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249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« Obtenir un nombre strictement inférieur à 5 » est un évènement cer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Sa probabilité est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re 1"/>
          <p:cNvSpPr/>
          <p:nvPr/>
        </p:nvSpPr>
        <p:spPr>
          <a:xfrm>
            <a:off x="0" y="105264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probabilité d’obtenir un nombre premi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24210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es nombres premiers sont 2 et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La probabilité d’obtenir 2 ou 3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1/4 + 1/6 = 5/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2323800" cy="250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f000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278160" cy="3527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0" y="1308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4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0" y="1308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impai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e ne 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btenir 1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multiple de 2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2960640" y="2997360"/>
            <a:ext cx="327816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1292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lle est la probabilité d’obtenir un nombre inférieur ou égal à 3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7-04T13:34:46Z</dcterms:modified>
  <cp:revision>247</cp:revision>
  <dc:subject/>
  <dc:title>Diapositive 0</dc:title>
</cp:coreProperties>
</file>