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9F9-711C-4DC1-BBAA-DB8B0FEA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0EC-438D-4476-8407-E6B5E77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405-6D4B-4ED9-B3F2-B60FD458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478-7F68-4514-BAC7-9F5E23F4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558C-61B2-46AD-AC44-3751D22A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C7E1-F6E5-48B2-9D86-A18B34E7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DE4-658F-4C17-93EF-4605C40A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96E-957D-4CF9-901B-34F83BB4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F7BC-8F1C-4F7A-94AB-803A0E6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3F6D-04B2-4F28-8213-E12BF79B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354A-8A0B-4E75-86D6-25893C6C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DA0-6C50-4677-851A-AF46542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36E-199D-4C12-B027-5DC720F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2849-CB34-4EE1-9CF1-4D23F14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DA9C-B5D2-42E4-AE41-AE71BA3A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5C4F-4790-48E8-9CF2-8997606D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E38-33C0-4533-AB6B-AF730EE6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3ED9-ED12-4B6B-BAE5-97AF9543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E9A5-0F65-420A-95A2-3F23BCFB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CFE4-F08F-4B7A-B4B7-7E66C6F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7236-54CF-4ADF-BB80-7DC89BDE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8E44-767A-4177-A7F1-12C807D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406-A8A9-4FD6-BC9A-FB33D6A2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0032-8D48-4504-B507-E1433D3E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F1DE-6083-456D-A80F-ADEC93F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2A51-EFBF-478D-8E3A-03F0C458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A725-D011-4BB2-B98F-E4E0D07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C48A0-3809-4726-88CA-667FDD88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6A2A-1A3A-48D8-8F3C-5EAE940E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E905-33DD-48FB-AA88-62B47421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3BBF-65E3-4BA7-B2FC-20B55482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59FE-268E-4636-A6B1-5517B49B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FC88-7EDC-4ABC-93B1-C3066110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594-A112-43DE-9BC5-71489EE6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4C23-5210-45BA-97B1-51CB3B53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66A4-CB52-4C80-9994-CA258574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3A63-88C9-4847-8BFC-773EE69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BEF3A-14A7-46EE-82DE-AC9D2A6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2991-00E7-4FA9-9F24-BAB667B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2DE79-51D5-414E-ADB5-021DD00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F672-2021-4BFC-AD00-62002DD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D39D-DA56-4C65-AF10-4A89B002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D8D4E-FB4D-4034-9F9A-A667E49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50F-B721-4C34-B051-9FCF2F91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56D-71AC-42EE-911B-036C3DE7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865-72EC-43DA-8B41-12EEF3C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6B9-CB22-4F44-8E1B-6A759B5E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CEC-68EE-4DFB-86F3-3850483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EE26-72F3-401B-A9F3-7B7E0F53DF7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F9C-A3F5-4CE9-888A-595C9E491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A24-6AF6-4B8E-981F-1C8C86AF002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5EB-FEE2-45A3-909A-A35702DAF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D188-7B67-47EE-8475-387ED9CB28F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823-5E21-4996-9D43-7EBD87AF1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DEE-438A-4A0F-A28E-D69632EB32B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C20-34A5-40D9-9852-88F251C6D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197-A788-46AB-BF9F-736896688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3A1-5338-4F95-9CD8-E5DDB70AC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Statistiques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0" y="443700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53735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30B8-82CC-49CE-82F1-E7A1DCCC0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Voici le diagramme en bâtons des effectifs</a:t>
            </a:r>
            <a:br>
              <a:rPr sz="3600"/>
            </a:br>
            <a:r>
              <a:rPr b="0" lang="fr-FR" sz="3600" spc="-1" strike="noStrike">
                <a:solidFill>
                  <a:srgbClr val="c0504d"/>
                </a:solidFill>
                <a:latin typeface="Calibri"/>
              </a:rPr>
              <a:t>d’une série statistiqu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476360" y="1413000"/>
          <a:ext cx="6129360" cy="31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13000"/>
                    <a:ext cx="612936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2050920" y="4653000"/>
            <a:ext cx="70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Effectif total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od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Arial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4E14-A2D1-4597-B799-1BD0D8A6B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boîte à moustache représentant le temps de lecture hebdomadaire d’une classe de 36 élè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Object 2"/>
          <p:cNvGraphicFramePr/>
          <p:nvPr/>
        </p:nvGraphicFramePr>
        <p:xfrm>
          <a:off x="2195640" y="1341360"/>
          <a:ext cx="4967280" cy="30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341360"/>
                    <a:ext cx="496728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407628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1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2200" spc="-1" strike="noStrike" baseline="-25000">
                <a:solidFill>
                  <a:srgbClr val="77933c"/>
                </a:solidFill>
                <a:latin typeface="Calibri"/>
              </a:rPr>
              <a:t>3 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=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Quelle est l’étendue de la série 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50% des élèves lisent entre 2 et 5h par semaine :   OUI       N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Au moins 18 élèves lisent 3h par semaine ou moins :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2200" spc="-1" strike="noStrike">
                <a:solidFill>
                  <a:srgbClr val="77933c"/>
                </a:solidFill>
                <a:latin typeface="Calibri"/>
              </a:rPr>
              <a:t>              OUI        NON</a:t>
            </a:r>
            <a:r>
              <a:rPr b="1" lang="fr-FR" sz="13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1F65-F14E-4DCC-8583-3C821C5B1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A340-FECC-4885-B063-DF7DC527F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a répartition des élèves d’une classe de 2nde selon leur âg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43280" y="3938760"/>
            <a:ext cx="63007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b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c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d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71680" y="1714680"/>
          <a:ext cx="8001000" cy="1809720"/>
        </p:xfrm>
        <a:graphic>
          <a:graphicData uri="http://schemas.openxmlformats.org/drawingml/2006/table">
            <a:tbl>
              <a:tblPr/>
              <a:tblGrid>
                <a:gridCol w="1912680"/>
                <a:gridCol w="1511280"/>
                <a:gridCol w="1584360"/>
                <a:gridCol w="1392480"/>
                <a:gridCol w="16002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77933c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DF7-41C6-4977-B54D-D99113C4D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Cette série statistique est représentée pa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7868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         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a)                        b)                             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6000" y="1268280"/>
          <a:ext cx="6840720" cy="1513080"/>
        </p:xfrm>
        <a:graphic>
          <a:graphicData uri="http://schemas.openxmlformats.org/drawingml/2006/table">
            <a:tbl>
              <a:tblPr/>
              <a:tblGrid>
                <a:gridCol w="2359080"/>
                <a:gridCol w="971640"/>
                <a:gridCol w="795240"/>
                <a:gridCol w="795240"/>
                <a:gridCol w="714600"/>
                <a:gridCol w="617400"/>
                <a:gridCol w="58752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20" name="Graphique 10" descr=""/>
          <p:cNvPicPr/>
          <p:nvPr/>
        </p:nvPicPr>
        <p:blipFill>
          <a:blip r:embed="rId1"/>
          <a:stretch/>
        </p:blipFill>
        <p:spPr>
          <a:xfrm>
            <a:off x="2987640" y="3213000"/>
            <a:ext cx="2846520" cy="2230560"/>
          </a:xfrm>
          <a:prstGeom prst="rect">
            <a:avLst/>
          </a:prstGeom>
          <a:ln w="0">
            <a:noFill/>
          </a:ln>
        </p:spPr>
      </p:pic>
      <p:pic>
        <p:nvPicPr>
          <p:cNvPr id="221" name="Graphique 11" descr=""/>
          <p:cNvPicPr/>
          <p:nvPr/>
        </p:nvPicPr>
        <p:blipFill>
          <a:blip r:embed="rId2"/>
          <a:stretch/>
        </p:blipFill>
        <p:spPr>
          <a:xfrm>
            <a:off x="103320" y="3352680"/>
            <a:ext cx="29574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Graphique 12" descr=""/>
          <p:cNvPicPr/>
          <p:nvPr/>
        </p:nvPicPr>
        <p:blipFill>
          <a:blip r:embed="rId3"/>
          <a:stretch/>
        </p:blipFill>
        <p:spPr>
          <a:xfrm>
            <a:off x="5791320" y="3425760"/>
            <a:ext cx="30286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0693-E4D5-4AE1-A46D-4FFED4BE4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Le diagramme suivant correspond-t-il à l’écran</a:t>
            </a:r>
            <a:br>
              <a:rPr sz="3200"/>
            </a:br>
            <a:r>
              <a:rPr b="0" lang="fr-FR" sz="3200" spc="-1" strike="noStrike">
                <a:solidFill>
                  <a:srgbClr val="953735"/>
                </a:solidFill>
                <a:latin typeface="Calibri"/>
              </a:rPr>
              <a:t>de la calculatric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Espace réservé du contenu 3" descr=""/>
          <p:cNvPicPr/>
          <p:nvPr/>
        </p:nvPicPr>
        <p:blipFill>
          <a:blip r:embed="rId1"/>
          <a:stretch/>
        </p:blipFill>
        <p:spPr>
          <a:xfrm>
            <a:off x="176040" y="695160"/>
            <a:ext cx="5548320" cy="5973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42483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F4CF-826F-4CD7-BFBB-963B6556E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4605-9875-471E-9885-5794660D4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2492280"/>
            <a:ext cx="91440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A la calculatrice, éditer cette séri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785880"/>
          <a:ext cx="8215200" cy="1457280"/>
        </p:xfrm>
        <a:graphic>
          <a:graphicData uri="http://schemas.openxmlformats.org/drawingml/2006/table">
            <a:tbl>
              <a:tblPr/>
              <a:tblGrid>
                <a:gridCol w="1335240"/>
                <a:gridCol w="1012680"/>
                <a:gridCol w="1173240"/>
                <a:gridCol w="1173240"/>
                <a:gridCol w="1172880"/>
                <a:gridCol w="1175040"/>
                <a:gridCol w="117288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Rectangle 3"/>
          <p:cNvSpPr/>
          <p:nvPr/>
        </p:nvSpPr>
        <p:spPr>
          <a:xfrm>
            <a:off x="2987640" y="2924280"/>
            <a:ext cx="6156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1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 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Q3 = ? </a:t>
            </a: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………</a:t>
            </a: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CCAC-D9F1-40A3-9607-D1362512F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7E9-6179-40AC-8DED-81425E730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953735"/>
                </a:solidFill>
                <a:latin typeface="Calibri"/>
              </a:rPr>
              <a:t>Fin</a:t>
            </a:r>
            <a:r>
              <a:rPr b="1" lang="fr-FR" sz="72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BD00-A251-4EA2-AD14-7EDEA3DD9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EBE-4AEC-4BE5-A028-EA48D5433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40716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00000" y="1628640"/>
          <a:ext cx="7358040" cy="1584360"/>
        </p:xfrm>
        <a:graphic>
          <a:graphicData uri="http://schemas.openxmlformats.org/drawingml/2006/table">
            <a:tbl>
              <a:tblPr/>
              <a:tblGrid>
                <a:gridCol w="1838520"/>
                <a:gridCol w="1839960"/>
                <a:gridCol w="1839960"/>
                <a:gridCol w="183960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5C3-8480-45EE-9118-00288BC27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78F3-0111-4548-A545-8F586F9B3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4005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755640" y="1557360"/>
          <a:ext cx="7786800" cy="1566720"/>
        </p:xfrm>
        <a:graphic>
          <a:graphicData uri="http://schemas.openxmlformats.org/drawingml/2006/table">
            <a:tbl>
              <a:tblPr/>
              <a:tblGrid>
                <a:gridCol w="1946160"/>
                <a:gridCol w="1946520"/>
                <a:gridCol w="1947600"/>
                <a:gridCol w="194652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é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785-CDC7-451A-85B6-8F0A3FE59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047-FC94-4665-B871-C2C4D79D4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84000" y="2997000"/>
            <a:ext cx="66596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d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Étendu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oyen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1125360"/>
          <a:ext cx="7429320" cy="1384560"/>
        </p:xfrm>
        <a:graphic>
          <a:graphicData uri="http://schemas.openxmlformats.org/drawingml/2006/table">
            <a:tbl>
              <a:tblPr/>
              <a:tblGrid>
                <a:gridCol w="1857240"/>
                <a:gridCol w="1857600"/>
                <a:gridCol w="1857240"/>
                <a:gridCol w="1857240"/>
              </a:tblGrid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35B-A868-4B93-9DA3-542588003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D7F0-137E-4633-8018-CB03E30A9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53735"/>
                </a:solidFill>
                <a:latin typeface="Calibri"/>
              </a:rPr>
              <a:t>Dans une école maternelle, 3 filles et 2 garçons jouent avec de la pâte à mode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4f81bd"/>
                </a:solidFill>
                <a:latin typeface="Calibri"/>
              </a:rPr>
              <a:t>La taille moyenne des 3 filles est 1 m et celle des 2 garçons 1,1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La taille moyenne des 5 enfants est </a:t>
            </a:r>
            <a:r>
              <a:rPr b="1" lang="fr-FR" sz="5400" spc="-1" strike="noStrike">
                <a:solidFill>
                  <a:srgbClr val="77933c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33BF-E37E-485F-9BBE-503AB3F1C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Voici le </a:t>
            </a:r>
            <a:r>
              <a:rPr b="1" lang="fr-FR" sz="3000" spc="-1" strike="noStrike">
                <a:solidFill>
                  <a:srgbClr val="953735"/>
                </a:solidFill>
                <a:latin typeface="Calibri"/>
              </a:rPr>
              <a:t>nombre</a:t>
            </a:r>
            <a:r>
              <a:rPr b="1" lang="fr-FR" sz="2900" spc="-1" strike="noStrike">
                <a:solidFill>
                  <a:srgbClr val="953735"/>
                </a:solidFill>
                <a:latin typeface="Calibri"/>
              </a:rPr>
              <a:t> de SMS reçus par jour par un groupe d’amis</a:t>
            </a:r>
            <a:br>
              <a:rPr sz="29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413000"/>
          <a:ext cx="7561440" cy="1728720"/>
        </p:xfrm>
        <a:graphic>
          <a:graphicData uri="http://schemas.openxmlformats.org/drawingml/2006/table">
            <a:tbl>
              <a:tblPr/>
              <a:tblGrid>
                <a:gridCol w="2378160"/>
                <a:gridCol w="1360440"/>
                <a:gridCol w="1274760"/>
                <a:gridCol w="1273320"/>
                <a:gridCol w="1274760"/>
              </a:tblGrid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 de 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3430440"/>
            <a:ext cx="896472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e nombre moyen de SMS reçus par jour est 5,5 :   OUI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L’étendue de cette série est égale à 7 :    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80% des amis ont reçu moins de 8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7933c"/>
                </a:solidFill>
                <a:latin typeface="Calibri"/>
              </a:rPr>
              <a:t>50% des amis ont reçu au moins 5 SMS :                   OUI         N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D60A-6D71-4ADF-A223-5978B58B4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73B-5550-44BF-90E9-6274AC7EF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Voici le polygone des effectifs cumulés croissants d’une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série comprenant 3 classes [0 ; 3 [, [3 ; 6 [ et [6 ; 9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485928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’effectif de la classe [6 ; 9] 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La fréquence de la classe [0 ; 3 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f81bd"/>
                </a:solidFill>
                <a:latin typeface="Calibri"/>
              </a:rPr>
              <a:t>es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Médiane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1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Q</a:t>
            </a:r>
            <a:r>
              <a:rPr b="1" lang="fr-FR" sz="3200" spc="-1" strike="noStrike" baseline="-25000">
                <a:solidFill>
                  <a:srgbClr val="77933c"/>
                </a:solidFill>
                <a:latin typeface="Calibri"/>
              </a:rPr>
              <a:t>3</a:t>
            </a:r>
            <a:r>
              <a:rPr b="1" lang="fr-FR" sz="3200" spc="-1" strike="noStrike">
                <a:solidFill>
                  <a:srgbClr val="77933c"/>
                </a:solidFill>
                <a:latin typeface="Calibri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4680000" y="1649520"/>
          <a:ext cx="4500360" cy="415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1649520"/>
                    <a:ext cx="450036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F0B8-2CCC-4B04-A51A-8AC3D5961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D09-0234-4FA1-89B6-14CD8DA5B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8000" y="980640"/>
            <a:ext cx="90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− </a:t>
            </a:r>
            <a:r>
              <a:rPr b="1" lang="fr-FR" sz="3600" spc="-1" strike="noStrike">
                <a:solidFill>
                  <a:srgbClr val="953735"/>
                </a:solidFill>
                <a:latin typeface="Calibri"/>
              </a:rPr>
              <a:t>5    ;   − 4   ; − 2   ;   1    ;    6    ;   10   est 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La moyenne de la série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77933c"/>
                </a:solidFill>
                <a:latin typeface="Calibri"/>
              </a:rPr>
              <a:t>	</a:t>
            </a:r>
            <a:r>
              <a:rPr b="1" lang="fr-FR" sz="3600" spc="-1" strike="noStrike">
                <a:solidFill>
                  <a:srgbClr val="77933c"/>
                </a:solidFill>
                <a:latin typeface="Calibri"/>
              </a:rPr>
              <a:t>2005 ; 2006 ; 2008 ; 2011 ; 2016 ; 2020 es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8AB6-6E5E-414A-8C76-7DB56A76F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Le personnel soignant d’une clinique, constitué de 200</a:t>
            </a:r>
            <a:br>
              <a:rPr sz="2800"/>
            </a:br>
            <a:r>
              <a:rPr b="1" lang="fr-FR" sz="2800" spc="-1" strike="noStrike">
                <a:solidFill>
                  <a:srgbClr val="953735"/>
                </a:solidFill>
                <a:latin typeface="Calibri"/>
              </a:rPr>
              <a:t> personnes, reçoit une prime de fin d’anné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3357360"/>
            <a:ext cx="8893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La fréquence qu’une personne ait une prime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fr-FR" sz="2800" spc="-1" strike="noStrike">
                <a:solidFill>
                  <a:srgbClr val="0066ff"/>
                </a:solidFill>
                <a:latin typeface="Calibri"/>
              </a:rPr>
              <a:t>300 €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1er quartil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e la médiane es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7933c"/>
                </a:solidFill>
                <a:latin typeface="Calibri"/>
              </a:rPr>
              <a:t>La valeur du 3ème quartile ?</a:t>
            </a:r>
            <a:r>
              <a:rPr b="1" lang="fr-FR" sz="3200" spc="-1" strike="noStrike">
                <a:solidFill>
                  <a:srgbClr val="ff993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341360"/>
          <a:ext cx="7786440" cy="1836720"/>
        </p:xfrm>
        <a:graphic>
          <a:graphicData uri="http://schemas.openxmlformats.org/drawingml/2006/table">
            <a:tbl>
              <a:tblPr/>
              <a:tblGrid>
                <a:gridCol w="3406680"/>
                <a:gridCol w="903240"/>
                <a:gridCol w="905040"/>
                <a:gridCol w="903240"/>
                <a:gridCol w="833400"/>
                <a:gridCol w="834840"/>
              </a:tblGrid>
              <a:tr h="13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ntant de la prime en eu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1:31:38Z</dcterms:created>
  <dc:creator>Imbert-Lemoine</dc:creator>
  <dc:description/>
  <dc:language>en-US</dc:language>
  <cp:lastModifiedBy>auderi</cp:lastModifiedBy>
  <dcterms:modified xsi:type="dcterms:W3CDTF">2016-07-12T11:16:03Z</dcterms:modified>
  <cp:revision>85</cp:revision>
  <dc:subject/>
  <dc:title>Statistiques</dc:title>
</cp:coreProperties>
</file>