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4AF-86D2-43E1-8276-B34BD643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421-91E1-42E9-ACAF-D77EDBF2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C47-BAEF-44FF-ACAA-6470A481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FC4-4A53-4AF3-9420-76081407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A675-30CF-4368-8E17-B09817D6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F610-8480-4CDD-A224-D1C6F8B4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07FF-902C-4F71-B634-D01A834C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BFF4-9185-4019-A032-CB031B82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0D63-9443-4E4F-B427-7A803121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8D85-8760-414A-A073-69A3C47B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65B8-0E4D-483E-873F-3D62FF65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4CF-C271-4B8F-BAFC-2E61E07F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148D-9D46-434F-85E7-3AE8D18A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A250-CCF3-41AF-A659-A45332F0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747F-0BA3-40B0-8D57-BFA5FCDC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C2BE-4C6B-4157-933A-D290428A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B07C-D283-44AD-9D55-0C26B3A4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3C4-9211-47A2-AB24-5EC4553A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E22-1758-4F6C-B420-B7E8A8B4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278-42FA-448C-8919-1AA7CE4D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F4A-1ED3-49CA-95EF-1AB9D783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A03-7709-458D-908D-172BA985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D78-EDCE-45D8-B0E9-9E0B43EE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06D-46FC-4EA8-8303-90454834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C5CF-6ED6-4628-A5BA-4207BAC7B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9913-7090-4B64-AF92-3017773C5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8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Intervalles</a:t>
            </a:r>
            <a:br>
              <a:rPr sz="7200"/>
            </a:b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Série 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re 1"/>
          <p:cNvSpPr/>
          <p:nvPr/>
        </p:nvSpPr>
        <p:spPr>
          <a:xfrm>
            <a:off x="0" y="458136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2419200"/>
            <a:ext cx="8791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2419200"/>
            <a:ext cx="8791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2494080"/>
            <a:ext cx="91440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2494080"/>
            <a:ext cx="91440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5998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122" name="Connecteur droit 4"/>
          <p:cNvSpPr/>
          <p:nvPr/>
        </p:nvSpPr>
        <p:spPr>
          <a:xfrm>
            <a:off x="20520" y="4005360"/>
            <a:ext cx="524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arenthèse fermante 9"/>
          <p:cNvSpPr/>
          <p:nvPr/>
        </p:nvSpPr>
        <p:spPr>
          <a:xfrm>
            <a:off x="5148360" y="3854520"/>
            <a:ext cx="117360" cy="301680"/>
          </a:xfrm>
          <a:custGeom>
            <a:avLst/>
            <a:gdLst>
              <a:gd name="textAreaLeft" fmla="*/ 0 w 117360"/>
              <a:gd name="textAreaRight" fmla="*/ 82440 w 117360"/>
              <a:gd name="textAreaTop" fmla="*/ 4680 h 301680"/>
              <a:gd name="textAreaBottom" fmla="*/ 29700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1"/>
                  <a:pt x="21600" y="702"/>
                </a:cubicBezTo>
                <a:lnTo>
                  <a:pt x="21600" y="20898"/>
                </a:lnTo>
                <a:cubicBezTo>
                  <a:pt x="21600" y="2124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necteur droit 11"/>
          <p:cNvSpPr/>
          <p:nvPr/>
        </p:nvSpPr>
        <p:spPr>
          <a:xfrm>
            <a:off x="4759200" y="3776760"/>
            <a:ext cx="43848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arenthèse ouvrante 12"/>
          <p:cNvSpPr/>
          <p:nvPr/>
        </p:nvSpPr>
        <p:spPr>
          <a:xfrm flipH="1">
            <a:off x="4656240" y="3586320"/>
            <a:ext cx="102960" cy="382320"/>
          </a:xfrm>
          <a:custGeom>
            <a:avLst/>
            <a:gdLst>
              <a:gd name="textAreaLeft" fmla="*/ 30600 w 102960"/>
              <a:gd name="textAreaRight" fmla="*/ 103680 w 102960"/>
              <a:gd name="textAreaTop" fmla="*/ 3960 h 382320"/>
              <a:gd name="textAreaBottom" fmla="*/ 378360 h 38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3"/>
                  <a:pt x="0" y="486"/>
                </a:cubicBezTo>
                <a:lnTo>
                  <a:pt x="0" y="21114"/>
                </a:lnTo>
                <a:cubicBezTo>
                  <a:pt x="0" y="2135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onnecteur droit 14"/>
          <p:cNvSpPr/>
          <p:nvPr/>
        </p:nvSpPr>
        <p:spPr>
          <a:xfrm>
            <a:off x="4759200" y="4508640"/>
            <a:ext cx="506520" cy="612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arenthèse fermante 16"/>
          <p:cNvSpPr/>
          <p:nvPr/>
        </p:nvSpPr>
        <p:spPr>
          <a:xfrm>
            <a:off x="5203800" y="432900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arenthèse ouvrante 17"/>
          <p:cNvSpPr/>
          <p:nvPr/>
        </p:nvSpPr>
        <p:spPr>
          <a:xfrm flipH="1">
            <a:off x="4656240" y="4329000"/>
            <a:ext cx="79200" cy="357480"/>
          </a:xfrm>
          <a:custGeom>
            <a:avLst/>
            <a:gdLst>
              <a:gd name="textAreaLeft" fmla="*/ 23400 w 79200"/>
              <a:gd name="textAreaRight" fmla="*/ 79920 w 79200"/>
              <a:gd name="textAreaTop" fmla="*/ 3240 h 357480"/>
              <a:gd name="textAreaBottom" fmla="*/ 35424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8"/>
                  <a:pt x="0" y="396"/>
                </a:cubicBezTo>
                <a:lnTo>
                  <a:pt x="0" y="21204"/>
                </a:lnTo>
                <a:cubicBezTo>
                  <a:pt x="0" y="21402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30" name="Bulle ronde 5"/>
          <p:cNvSpPr/>
          <p:nvPr/>
        </p:nvSpPr>
        <p:spPr>
          <a:xfrm>
            <a:off x="2476440" y="2635200"/>
            <a:ext cx="1212840" cy="1000080"/>
          </a:xfrm>
          <a:prstGeom prst="wedgeEllipseCallout">
            <a:avLst>
              <a:gd name="adj1" fmla="val 172916"/>
              <a:gd name="adj2" fmla="val 8602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7"/>
          <p:cNvSpPr/>
          <p:nvPr/>
        </p:nvSpPr>
        <p:spPr>
          <a:xfrm>
            <a:off x="2562120" y="2781360"/>
            <a:ext cx="10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geogebra"/>
          <p:cNvPicPr/>
          <p:nvPr/>
        </p:nvPicPr>
        <p:blipFill>
          <a:blip r:embed="rId3"/>
          <a:stretch/>
        </p:blipFill>
        <p:spPr>
          <a:xfrm>
            <a:off x="-104760" y="3586320"/>
            <a:ext cx="91263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135" name="Connecteur droit 4"/>
          <p:cNvSpPr/>
          <p:nvPr/>
        </p:nvSpPr>
        <p:spPr>
          <a:xfrm>
            <a:off x="20520" y="4005360"/>
            <a:ext cx="524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arenthèse fermante 9"/>
          <p:cNvSpPr/>
          <p:nvPr/>
        </p:nvSpPr>
        <p:spPr>
          <a:xfrm>
            <a:off x="5148360" y="3854520"/>
            <a:ext cx="117360" cy="301680"/>
          </a:xfrm>
          <a:custGeom>
            <a:avLst/>
            <a:gdLst>
              <a:gd name="textAreaLeft" fmla="*/ 0 w 117360"/>
              <a:gd name="textAreaRight" fmla="*/ 82440 w 117360"/>
              <a:gd name="textAreaTop" fmla="*/ 4680 h 301680"/>
              <a:gd name="textAreaBottom" fmla="*/ 29700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1"/>
                  <a:pt x="21600" y="702"/>
                </a:cubicBezTo>
                <a:lnTo>
                  <a:pt x="21600" y="20898"/>
                </a:lnTo>
                <a:cubicBezTo>
                  <a:pt x="21600" y="2124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onnecteur droit 11"/>
          <p:cNvSpPr/>
          <p:nvPr/>
        </p:nvSpPr>
        <p:spPr>
          <a:xfrm>
            <a:off x="4759200" y="3776760"/>
            <a:ext cx="43848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arenthèse ouvrante 12"/>
          <p:cNvSpPr/>
          <p:nvPr/>
        </p:nvSpPr>
        <p:spPr>
          <a:xfrm flipH="1">
            <a:off x="4656240" y="3586320"/>
            <a:ext cx="102960" cy="382320"/>
          </a:xfrm>
          <a:custGeom>
            <a:avLst/>
            <a:gdLst>
              <a:gd name="textAreaLeft" fmla="*/ 30600 w 102960"/>
              <a:gd name="textAreaRight" fmla="*/ 103680 w 102960"/>
              <a:gd name="textAreaTop" fmla="*/ 3960 h 382320"/>
              <a:gd name="textAreaBottom" fmla="*/ 378360 h 38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3"/>
                  <a:pt x="0" y="486"/>
                </a:cubicBezTo>
                <a:lnTo>
                  <a:pt x="0" y="21114"/>
                </a:lnTo>
                <a:cubicBezTo>
                  <a:pt x="0" y="2135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Connecteur droit 14"/>
          <p:cNvSpPr/>
          <p:nvPr/>
        </p:nvSpPr>
        <p:spPr>
          <a:xfrm>
            <a:off x="20520" y="4437000"/>
            <a:ext cx="912348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41" name="Bulle ronde 5"/>
          <p:cNvSpPr/>
          <p:nvPr/>
        </p:nvSpPr>
        <p:spPr>
          <a:xfrm>
            <a:off x="2476440" y="2635200"/>
            <a:ext cx="1212840" cy="1000080"/>
          </a:xfrm>
          <a:prstGeom prst="wedgeEllipseCallout">
            <a:avLst>
              <a:gd name="adj1" fmla="val 172916"/>
              <a:gd name="adj2" fmla="val 8602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oneTexte 7"/>
          <p:cNvSpPr/>
          <p:nvPr/>
        </p:nvSpPr>
        <p:spPr>
          <a:xfrm>
            <a:off x="2562120" y="2781360"/>
            <a:ext cx="10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geogebra"/>
          <p:cNvPicPr/>
          <p:nvPr/>
        </p:nvPicPr>
        <p:blipFill>
          <a:blip r:embed="rId3"/>
          <a:stretch/>
        </p:blipFill>
        <p:spPr>
          <a:xfrm>
            <a:off x="-125280" y="3586320"/>
            <a:ext cx="91263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341360"/>
            <a:ext cx="9083520" cy="1365480"/>
          </a:xfrm>
          <a:prstGeom prst="rect">
            <a:avLst/>
          </a:prstGeom>
          <a:ln w="0">
            <a:noFill/>
          </a:ln>
        </p:spPr>
      </p:pic>
      <p:sp>
        <p:nvSpPr>
          <p:cNvPr id="146" name="Connecteur droit 4"/>
          <p:cNvSpPr/>
          <p:nvPr/>
        </p:nvSpPr>
        <p:spPr>
          <a:xfrm flipV="1">
            <a:off x="395280" y="3995640"/>
            <a:ext cx="4624560" cy="28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arenthèse fermante 9"/>
          <p:cNvSpPr/>
          <p:nvPr/>
        </p:nvSpPr>
        <p:spPr>
          <a:xfrm>
            <a:off x="496728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necteur droit 11"/>
          <p:cNvSpPr/>
          <p:nvPr/>
        </p:nvSpPr>
        <p:spPr>
          <a:xfrm flipV="1">
            <a:off x="501480" y="3807000"/>
            <a:ext cx="3854520" cy="3960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arenthèse ouvrante 12"/>
          <p:cNvSpPr/>
          <p:nvPr/>
        </p:nvSpPr>
        <p:spPr>
          <a:xfrm>
            <a:off x="407880" y="3629160"/>
            <a:ext cx="93600" cy="38088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1"/>
                </a:cubicBezTo>
                <a:lnTo>
                  <a:pt x="0" y="21159"/>
                </a:lnTo>
                <a:cubicBezTo>
                  <a:pt x="0" y="2138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Connecteur droit 14"/>
          <p:cNvSpPr/>
          <p:nvPr/>
        </p:nvSpPr>
        <p:spPr>
          <a:xfrm flipV="1">
            <a:off x="401760" y="4452480"/>
            <a:ext cx="3949560" cy="255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arenthèse fermante 16"/>
          <p:cNvSpPr/>
          <p:nvPr/>
        </p:nvSpPr>
        <p:spPr>
          <a:xfrm>
            <a:off x="4211640" y="4273560"/>
            <a:ext cx="139680" cy="357120"/>
          </a:xfrm>
          <a:custGeom>
            <a:avLst/>
            <a:gdLst>
              <a:gd name="textAreaLeft" fmla="*/ 0 w 139680"/>
              <a:gd name="textAreaRight" fmla="*/ 97920 w 139680"/>
              <a:gd name="textAreaTop" fmla="*/ 5760 h 357120"/>
              <a:gd name="textAreaBottom" fmla="*/ 3513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3"/>
                  <a:pt x="21600" y="706"/>
                </a:cubicBezTo>
                <a:lnTo>
                  <a:pt x="21600" y="20894"/>
                </a:lnTo>
                <a:cubicBezTo>
                  <a:pt x="21600" y="2124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arenthèse ouvrante 17"/>
          <p:cNvSpPr/>
          <p:nvPr/>
        </p:nvSpPr>
        <p:spPr>
          <a:xfrm>
            <a:off x="401760" y="42991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arenthèse ouvrante 20"/>
          <p:cNvSpPr/>
          <p:nvPr/>
        </p:nvSpPr>
        <p:spPr>
          <a:xfrm>
            <a:off x="395280" y="3846600"/>
            <a:ext cx="106200" cy="357120"/>
          </a:xfrm>
          <a:custGeom>
            <a:avLst/>
            <a:gdLst>
              <a:gd name="textAreaLeft" fmla="*/ 31320 w 106200"/>
              <a:gd name="textAreaRight" fmla="*/ 106560 w 1062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55" name="Parenthèse fermante 15"/>
          <p:cNvSpPr/>
          <p:nvPr/>
        </p:nvSpPr>
        <p:spPr>
          <a:xfrm>
            <a:off x="4211640" y="3629160"/>
            <a:ext cx="144360" cy="35712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357120"/>
              <a:gd name="textAreaBottom" fmla="*/ 3513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63"/>
                  <a:pt x="21600" y="726"/>
                </a:cubicBezTo>
                <a:lnTo>
                  <a:pt x="21600" y="20874"/>
                </a:lnTo>
                <a:cubicBezTo>
                  <a:pt x="21600" y="2123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Bulle ronde 24"/>
          <p:cNvSpPr/>
          <p:nvPr/>
        </p:nvSpPr>
        <p:spPr>
          <a:xfrm>
            <a:off x="5715000" y="2395440"/>
            <a:ext cx="2160720" cy="1368360"/>
          </a:xfrm>
          <a:prstGeom prst="wedgeEllipseCallout">
            <a:avLst>
              <a:gd name="adj1" fmla="val -78990"/>
              <a:gd name="adj2" fmla="val 63921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ZoneTexte 25" descr=""/>
          <p:cNvPicPr/>
          <p:nvPr/>
        </p:nvPicPr>
        <p:blipFill>
          <a:blip r:embed="rId3"/>
          <a:stretch/>
        </p:blipFill>
        <p:spPr>
          <a:xfrm>
            <a:off x="5962680" y="2554200"/>
            <a:ext cx="1663560" cy="102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geogebra"/>
          <p:cNvPicPr/>
          <p:nvPr/>
        </p:nvPicPr>
        <p:blipFill>
          <a:blip r:embed="rId4"/>
          <a:stretch/>
        </p:blipFill>
        <p:spPr>
          <a:xfrm>
            <a:off x="66600" y="3579840"/>
            <a:ext cx="9096480" cy="1152360"/>
          </a:xfrm>
          <a:prstGeom prst="rect">
            <a:avLst/>
          </a:prstGeom>
          <a:ln w="0">
            <a:noFill/>
          </a:ln>
        </p:spPr>
      </p:pic>
      <p:sp>
        <p:nvSpPr>
          <p:cNvPr id="159" name="Bulle ronde 3"/>
          <p:cNvSpPr/>
          <p:nvPr/>
        </p:nvSpPr>
        <p:spPr>
          <a:xfrm>
            <a:off x="1592280" y="4782960"/>
            <a:ext cx="2332080" cy="1382760"/>
          </a:xfrm>
          <a:prstGeom prst="wedgeEllipseCallout">
            <a:avLst>
              <a:gd name="adj1" fmla="val 67615"/>
              <a:gd name="adj2" fmla="val -10153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ZoneTexte 5" descr=""/>
          <p:cNvPicPr/>
          <p:nvPr/>
        </p:nvPicPr>
        <p:blipFill>
          <a:blip r:embed="rId5"/>
          <a:stretch/>
        </p:blipFill>
        <p:spPr>
          <a:xfrm>
            <a:off x="1835280" y="4962600"/>
            <a:ext cx="18414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341360"/>
            <a:ext cx="9083520" cy="1365480"/>
          </a:xfrm>
          <a:prstGeom prst="rect">
            <a:avLst/>
          </a:prstGeom>
          <a:ln w="0">
            <a:noFill/>
          </a:ln>
        </p:spPr>
      </p:pic>
      <p:sp>
        <p:nvSpPr>
          <p:cNvPr id="163" name="Connecteur droit 4"/>
          <p:cNvSpPr/>
          <p:nvPr/>
        </p:nvSpPr>
        <p:spPr>
          <a:xfrm flipV="1">
            <a:off x="395280" y="3995640"/>
            <a:ext cx="4624560" cy="28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arenthèse fermante 9"/>
          <p:cNvSpPr/>
          <p:nvPr/>
        </p:nvSpPr>
        <p:spPr>
          <a:xfrm>
            <a:off x="496728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onnecteur droit 11"/>
          <p:cNvSpPr/>
          <p:nvPr/>
        </p:nvSpPr>
        <p:spPr>
          <a:xfrm flipV="1">
            <a:off x="501480" y="3807000"/>
            <a:ext cx="3854520" cy="3960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arenthèse ouvrante 12"/>
          <p:cNvSpPr/>
          <p:nvPr/>
        </p:nvSpPr>
        <p:spPr>
          <a:xfrm>
            <a:off x="407880" y="3629160"/>
            <a:ext cx="93600" cy="38088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1"/>
                </a:cubicBezTo>
                <a:lnTo>
                  <a:pt x="0" y="21159"/>
                </a:lnTo>
                <a:cubicBezTo>
                  <a:pt x="0" y="2138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Connecteur droit 14"/>
          <p:cNvSpPr/>
          <p:nvPr/>
        </p:nvSpPr>
        <p:spPr>
          <a:xfrm flipV="1">
            <a:off x="401760" y="4462560"/>
            <a:ext cx="4611600" cy="158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arenthèse fermante 16"/>
          <p:cNvSpPr/>
          <p:nvPr/>
        </p:nvSpPr>
        <p:spPr>
          <a:xfrm>
            <a:off x="4873680" y="4284720"/>
            <a:ext cx="139680" cy="357120"/>
          </a:xfrm>
          <a:custGeom>
            <a:avLst/>
            <a:gdLst>
              <a:gd name="textAreaLeft" fmla="*/ 0 w 139680"/>
              <a:gd name="textAreaRight" fmla="*/ 97920 w 139680"/>
              <a:gd name="textAreaTop" fmla="*/ 5760 h 357120"/>
              <a:gd name="textAreaBottom" fmla="*/ 3513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3"/>
                  <a:pt x="21600" y="706"/>
                </a:cubicBezTo>
                <a:lnTo>
                  <a:pt x="21600" y="20894"/>
                </a:lnTo>
                <a:cubicBezTo>
                  <a:pt x="21600" y="2124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arenthèse ouvrante 17"/>
          <p:cNvSpPr/>
          <p:nvPr/>
        </p:nvSpPr>
        <p:spPr>
          <a:xfrm>
            <a:off x="401760" y="42991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arenthèse ouvrante 20"/>
          <p:cNvSpPr/>
          <p:nvPr/>
        </p:nvSpPr>
        <p:spPr>
          <a:xfrm>
            <a:off x="395280" y="3846600"/>
            <a:ext cx="106200" cy="357120"/>
          </a:xfrm>
          <a:custGeom>
            <a:avLst/>
            <a:gdLst>
              <a:gd name="textAreaLeft" fmla="*/ 31320 w 106200"/>
              <a:gd name="textAreaRight" fmla="*/ 106560 w 1062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72" name="Parenthèse fermante 15"/>
          <p:cNvSpPr/>
          <p:nvPr/>
        </p:nvSpPr>
        <p:spPr>
          <a:xfrm>
            <a:off x="4211640" y="3629160"/>
            <a:ext cx="144360" cy="35712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357120"/>
              <a:gd name="textAreaBottom" fmla="*/ 3513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63"/>
                  <a:pt x="21600" y="726"/>
                </a:cubicBezTo>
                <a:lnTo>
                  <a:pt x="21600" y="20874"/>
                </a:lnTo>
                <a:cubicBezTo>
                  <a:pt x="21600" y="2123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Bulle ronde 24"/>
          <p:cNvSpPr/>
          <p:nvPr/>
        </p:nvSpPr>
        <p:spPr>
          <a:xfrm>
            <a:off x="5715000" y="2395440"/>
            <a:ext cx="2160720" cy="1368360"/>
          </a:xfrm>
          <a:prstGeom prst="wedgeEllipseCallout">
            <a:avLst>
              <a:gd name="adj1" fmla="val -78990"/>
              <a:gd name="adj2" fmla="val 63921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ZoneTexte 25" descr=""/>
          <p:cNvPicPr/>
          <p:nvPr/>
        </p:nvPicPr>
        <p:blipFill>
          <a:blip r:embed="rId3"/>
          <a:stretch/>
        </p:blipFill>
        <p:spPr>
          <a:xfrm>
            <a:off x="5962680" y="2554200"/>
            <a:ext cx="1663560" cy="1024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geogebra"/>
          <p:cNvPicPr/>
          <p:nvPr/>
        </p:nvPicPr>
        <p:blipFill>
          <a:blip r:embed="rId4"/>
          <a:stretch/>
        </p:blipFill>
        <p:spPr>
          <a:xfrm>
            <a:off x="47520" y="3579840"/>
            <a:ext cx="9096480" cy="1152360"/>
          </a:xfrm>
          <a:prstGeom prst="rect">
            <a:avLst/>
          </a:prstGeom>
          <a:ln w="0">
            <a:noFill/>
          </a:ln>
        </p:spPr>
      </p:pic>
      <p:sp>
        <p:nvSpPr>
          <p:cNvPr id="176" name="Bulle ronde 3"/>
          <p:cNvSpPr/>
          <p:nvPr/>
        </p:nvSpPr>
        <p:spPr>
          <a:xfrm>
            <a:off x="1592280" y="4782960"/>
            <a:ext cx="2332080" cy="1382760"/>
          </a:xfrm>
          <a:prstGeom prst="wedgeEllipseCallout">
            <a:avLst>
              <a:gd name="adj1" fmla="val 67615"/>
              <a:gd name="adj2" fmla="val -10153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ZoneTexte 5" descr=""/>
          <p:cNvPicPr/>
          <p:nvPr/>
        </p:nvPicPr>
        <p:blipFill>
          <a:blip r:embed="rId5"/>
          <a:stretch/>
        </p:blipFill>
        <p:spPr>
          <a:xfrm>
            <a:off x="1835280" y="4962600"/>
            <a:ext cx="18414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implifier les intersections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 et réunions d’intervalles suivantes, lorsque c’est possibl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sp>
        <p:nvSpPr>
          <p:cNvPr id="180" name="Connecteur droit 4"/>
          <p:cNvSpPr/>
          <p:nvPr/>
        </p:nvSpPr>
        <p:spPr>
          <a:xfrm>
            <a:off x="1801800" y="4051440"/>
            <a:ext cx="1747800" cy="7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arenthèse fermante 9"/>
          <p:cNvSpPr/>
          <p:nvPr/>
        </p:nvSpPr>
        <p:spPr>
          <a:xfrm>
            <a:off x="3479760" y="3873600"/>
            <a:ext cx="65160" cy="357120"/>
          </a:xfrm>
          <a:custGeom>
            <a:avLst/>
            <a:gdLst>
              <a:gd name="textAreaLeft" fmla="*/ 0 w 65160"/>
              <a:gd name="textAreaRight" fmla="*/ 45720 w 65160"/>
              <a:gd name="textAreaTop" fmla="*/ 2520 h 357120"/>
              <a:gd name="textAreaBottom" fmla="*/ 3546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63"/>
                  <a:pt x="21600" y="326"/>
                </a:cubicBezTo>
                <a:lnTo>
                  <a:pt x="21600" y="21274"/>
                </a:lnTo>
                <a:cubicBezTo>
                  <a:pt x="21600" y="2143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11"/>
          <p:cNvSpPr/>
          <p:nvPr/>
        </p:nvSpPr>
        <p:spPr>
          <a:xfrm>
            <a:off x="3768840" y="4051440"/>
            <a:ext cx="3467160" cy="792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arenthèse ouvrante 12"/>
          <p:cNvSpPr/>
          <p:nvPr/>
        </p:nvSpPr>
        <p:spPr>
          <a:xfrm flipH="1">
            <a:off x="3683160" y="386064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arenthèse ouvrante 20"/>
          <p:cNvSpPr/>
          <p:nvPr/>
        </p:nvSpPr>
        <p:spPr>
          <a:xfrm flipH="1">
            <a:off x="1692360" y="3873600"/>
            <a:ext cx="109440" cy="357120"/>
          </a:xfrm>
          <a:custGeom>
            <a:avLst/>
            <a:gdLst>
              <a:gd name="textAreaLeft" fmla="*/ 32040 w 109440"/>
              <a:gd name="textAreaRight" fmla="*/ 10980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79"/>
                  <a:pt x="0" y="558"/>
                </a:cubicBezTo>
                <a:lnTo>
                  <a:pt x="0" y="21042"/>
                </a:lnTo>
                <a:cubicBezTo>
                  <a:pt x="0" y="21321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ZoneTexte 6" descr=""/>
          <p:cNvPicPr/>
          <p:nvPr/>
        </p:nvPicPr>
        <p:blipFill>
          <a:blip r:embed="rId2"/>
          <a:stretch/>
        </p:blipFill>
        <p:spPr>
          <a:xfrm>
            <a:off x="5583240" y="5194440"/>
            <a:ext cx="3305160" cy="1614240"/>
          </a:xfrm>
          <a:prstGeom prst="rect">
            <a:avLst/>
          </a:prstGeom>
          <a:ln w="0">
            <a:noFill/>
          </a:ln>
        </p:spPr>
      </p:pic>
      <p:sp>
        <p:nvSpPr>
          <p:cNvPr id="186" name="Parenthèse fermante 15"/>
          <p:cNvSpPr/>
          <p:nvPr/>
        </p:nvSpPr>
        <p:spPr>
          <a:xfrm flipH="1">
            <a:off x="7236000" y="3881520"/>
            <a:ext cx="72720" cy="357120"/>
          </a:xfrm>
          <a:custGeom>
            <a:avLst/>
            <a:gdLst>
              <a:gd name="textAreaLeft" fmla="*/ 0 w 72720"/>
              <a:gd name="textAreaRight" fmla="*/ 51120 w 7272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2"/>
                  <a:pt x="21600" y="363"/>
                </a:cubicBezTo>
                <a:lnTo>
                  <a:pt x="21600" y="21237"/>
                </a:lnTo>
                <a:cubicBezTo>
                  <a:pt x="21600" y="2141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Bulle ronde 24"/>
          <p:cNvSpPr/>
          <p:nvPr/>
        </p:nvSpPr>
        <p:spPr>
          <a:xfrm>
            <a:off x="826920" y="4941720"/>
            <a:ext cx="2435400" cy="1366920"/>
          </a:xfrm>
          <a:prstGeom prst="wedgeEllipseCallout">
            <a:avLst>
              <a:gd name="adj1" fmla="val 58277"/>
              <a:gd name="adj2" fmla="val -111847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ZoneTexte 25" descr=""/>
          <p:cNvPicPr/>
          <p:nvPr/>
        </p:nvPicPr>
        <p:blipFill>
          <a:blip r:embed="rId3"/>
          <a:stretch/>
        </p:blipFill>
        <p:spPr>
          <a:xfrm>
            <a:off x="804960" y="5200560"/>
            <a:ext cx="2455920" cy="955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geogebra"/>
          <p:cNvPicPr/>
          <p:nvPr/>
        </p:nvPicPr>
        <p:blipFill>
          <a:blip r:embed="rId4"/>
          <a:stretch/>
        </p:blipFill>
        <p:spPr>
          <a:xfrm>
            <a:off x="23760" y="3321000"/>
            <a:ext cx="8999640" cy="730440"/>
          </a:xfrm>
          <a:prstGeom prst="rect">
            <a:avLst/>
          </a:prstGeom>
          <a:ln w="0">
            <a:noFill/>
          </a:ln>
        </p:spPr>
      </p:pic>
      <p:sp>
        <p:nvSpPr>
          <p:cNvPr id="190" name="Bulle ronde 32"/>
          <p:cNvSpPr/>
          <p:nvPr/>
        </p:nvSpPr>
        <p:spPr>
          <a:xfrm>
            <a:off x="3726000" y="4365720"/>
            <a:ext cx="2070000" cy="1258920"/>
          </a:xfrm>
          <a:prstGeom prst="wedgeEllipseCallout">
            <a:avLst>
              <a:gd name="adj1" fmla="val -45740"/>
              <a:gd name="adj2" fmla="val -7008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ZoneTexte 36" descr=""/>
          <p:cNvPicPr/>
          <p:nvPr/>
        </p:nvPicPr>
        <p:blipFill>
          <a:blip r:embed="rId5"/>
          <a:stretch/>
        </p:blipFill>
        <p:spPr>
          <a:xfrm>
            <a:off x="3475080" y="4516560"/>
            <a:ext cx="24620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sp>
        <p:nvSpPr>
          <p:cNvPr id="194" name="Connecteur droit 4"/>
          <p:cNvSpPr/>
          <p:nvPr/>
        </p:nvSpPr>
        <p:spPr>
          <a:xfrm>
            <a:off x="1801800" y="4051440"/>
            <a:ext cx="1747800" cy="7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arenthèse fermante 9"/>
          <p:cNvSpPr/>
          <p:nvPr/>
        </p:nvSpPr>
        <p:spPr>
          <a:xfrm>
            <a:off x="3479760" y="3873600"/>
            <a:ext cx="65160" cy="357120"/>
          </a:xfrm>
          <a:custGeom>
            <a:avLst/>
            <a:gdLst>
              <a:gd name="textAreaLeft" fmla="*/ 0 w 65160"/>
              <a:gd name="textAreaRight" fmla="*/ 45720 w 65160"/>
              <a:gd name="textAreaTop" fmla="*/ 2520 h 357120"/>
              <a:gd name="textAreaBottom" fmla="*/ 3546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63"/>
                  <a:pt x="21600" y="326"/>
                </a:cubicBezTo>
                <a:lnTo>
                  <a:pt x="21600" y="21274"/>
                </a:lnTo>
                <a:cubicBezTo>
                  <a:pt x="21600" y="2143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Connecteur droit 11"/>
          <p:cNvSpPr/>
          <p:nvPr/>
        </p:nvSpPr>
        <p:spPr>
          <a:xfrm>
            <a:off x="3768840" y="4051440"/>
            <a:ext cx="3467160" cy="792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arenthèse ouvrante 12"/>
          <p:cNvSpPr/>
          <p:nvPr/>
        </p:nvSpPr>
        <p:spPr>
          <a:xfrm flipH="1">
            <a:off x="3683160" y="386064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Connecteur droit 14"/>
          <p:cNvSpPr/>
          <p:nvPr/>
        </p:nvSpPr>
        <p:spPr>
          <a:xfrm>
            <a:off x="1832040" y="4602240"/>
            <a:ext cx="1730160" cy="468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arenthèse fermante 16"/>
          <p:cNvSpPr/>
          <p:nvPr/>
        </p:nvSpPr>
        <p:spPr>
          <a:xfrm>
            <a:off x="3460680" y="4421160"/>
            <a:ext cx="101520" cy="357120"/>
          </a:xfrm>
          <a:custGeom>
            <a:avLst/>
            <a:gdLst>
              <a:gd name="textAreaLeft" fmla="*/ 0 w 101520"/>
              <a:gd name="textAreaRight" fmla="*/ 71280 w 101520"/>
              <a:gd name="textAreaTop" fmla="*/ 3960 h 357120"/>
              <a:gd name="textAreaBottom" fmla="*/ 3531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"/>
                  <a:pt x="21600" y="509"/>
                </a:cubicBezTo>
                <a:lnTo>
                  <a:pt x="21600" y="21091"/>
                </a:lnTo>
                <a:cubicBezTo>
                  <a:pt x="21600" y="2134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arenthèse ouvrante 17"/>
          <p:cNvSpPr/>
          <p:nvPr/>
        </p:nvSpPr>
        <p:spPr>
          <a:xfrm flipH="1">
            <a:off x="1716120" y="4373640"/>
            <a:ext cx="85680" cy="35712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8"/>
                  <a:pt x="0" y="435"/>
                </a:cubicBezTo>
                <a:lnTo>
                  <a:pt x="0" y="21165"/>
                </a:lnTo>
                <a:cubicBezTo>
                  <a:pt x="0" y="2138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arenthèse ouvrante 20"/>
          <p:cNvSpPr/>
          <p:nvPr/>
        </p:nvSpPr>
        <p:spPr>
          <a:xfrm flipH="1">
            <a:off x="1692360" y="3873600"/>
            <a:ext cx="109440" cy="357120"/>
          </a:xfrm>
          <a:custGeom>
            <a:avLst/>
            <a:gdLst>
              <a:gd name="textAreaLeft" fmla="*/ 32040 w 109440"/>
              <a:gd name="textAreaRight" fmla="*/ 10980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79"/>
                  <a:pt x="0" y="558"/>
                </a:cubicBezTo>
                <a:lnTo>
                  <a:pt x="0" y="21042"/>
                </a:lnTo>
                <a:cubicBezTo>
                  <a:pt x="0" y="21321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ZoneTexte 6" descr=""/>
          <p:cNvPicPr/>
          <p:nvPr/>
        </p:nvPicPr>
        <p:blipFill>
          <a:blip r:embed="rId2"/>
          <a:stretch/>
        </p:blipFill>
        <p:spPr>
          <a:xfrm>
            <a:off x="3706920" y="4595760"/>
            <a:ext cx="5437080" cy="2262240"/>
          </a:xfrm>
          <a:prstGeom prst="rect">
            <a:avLst/>
          </a:prstGeom>
          <a:ln w="0">
            <a:noFill/>
          </a:ln>
        </p:spPr>
      </p:pic>
      <p:sp>
        <p:nvSpPr>
          <p:cNvPr id="203" name="Parenthèse fermante 15"/>
          <p:cNvSpPr/>
          <p:nvPr/>
        </p:nvSpPr>
        <p:spPr>
          <a:xfrm flipH="1">
            <a:off x="7236000" y="3881520"/>
            <a:ext cx="72720" cy="357120"/>
          </a:xfrm>
          <a:custGeom>
            <a:avLst/>
            <a:gdLst>
              <a:gd name="textAreaLeft" fmla="*/ 0 w 72720"/>
              <a:gd name="textAreaRight" fmla="*/ 51120 w 7272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2"/>
                  <a:pt x="21600" y="363"/>
                </a:cubicBezTo>
                <a:lnTo>
                  <a:pt x="21600" y="21237"/>
                </a:lnTo>
                <a:cubicBezTo>
                  <a:pt x="21600" y="2141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Bulle ronde 24"/>
          <p:cNvSpPr/>
          <p:nvPr/>
        </p:nvSpPr>
        <p:spPr>
          <a:xfrm>
            <a:off x="798480" y="5045040"/>
            <a:ext cx="2435400" cy="1366920"/>
          </a:xfrm>
          <a:prstGeom prst="wedgeEllipseCallout">
            <a:avLst>
              <a:gd name="adj1" fmla="val 59740"/>
              <a:gd name="adj2" fmla="val -113583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ZoneTexte 25" descr=""/>
          <p:cNvPicPr/>
          <p:nvPr/>
        </p:nvPicPr>
        <p:blipFill>
          <a:blip r:embed="rId3"/>
          <a:stretch/>
        </p:blipFill>
        <p:spPr>
          <a:xfrm>
            <a:off x="804960" y="5200560"/>
            <a:ext cx="2455920" cy="955800"/>
          </a:xfrm>
          <a:prstGeom prst="rect">
            <a:avLst/>
          </a:prstGeom>
          <a:ln w="0">
            <a:noFill/>
          </a:ln>
        </p:spPr>
      </p:pic>
      <p:sp>
        <p:nvSpPr>
          <p:cNvPr id="206" name="Connecteur droit 26"/>
          <p:cNvSpPr/>
          <p:nvPr/>
        </p:nvSpPr>
        <p:spPr>
          <a:xfrm flipV="1">
            <a:off x="3768840" y="4591080"/>
            <a:ext cx="3467160" cy="14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arenthèse fermante 28"/>
          <p:cNvSpPr/>
          <p:nvPr/>
        </p:nvSpPr>
        <p:spPr>
          <a:xfrm flipH="1">
            <a:off x="7236000" y="4440240"/>
            <a:ext cx="72720" cy="301680"/>
          </a:xfrm>
          <a:custGeom>
            <a:avLst/>
            <a:gdLst>
              <a:gd name="textAreaLeft" fmla="*/ 0 w 72720"/>
              <a:gd name="textAreaRight" fmla="*/ 51120 w 72720"/>
              <a:gd name="textAreaTop" fmla="*/ 2880 h 301680"/>
              <a:gd name="textAreaBottom" fmla="*/ 29880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5"/>
                  <a:pt x="21600" y="429"/>
                </a:cubicBezTo>
                <a:lnTo>
                  <a:pt x="21600" y="21171"/>
                </a:lnTo>
                <a:cubicBezTo>
                  <a:pt x="21600" y="2138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arenthèse fermante 29"/>
          <p:cNvSpPr/>
          <p:nvPr/>
        </p:nvSpPr>
        <p:spPr>
          <a:xfrm>
            <a:off x="3683160" y="4424400"/>
            <a:ext cx="85680" cy="357120"/>
          </a:xfrm>
          <a:custGeom>
            <a:avLst/>
            <a:gdLst>
              <a:gd name="textAreaLeft" fmla="*/ 0 w 85680"/>
              <a:gd name="textAreaRight" fmla="*/ 6012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8"/>
                  <a:pt x="21600" y="435"/>
                </a:cubicBezTo>
                <a:lnTo>
                  <a:pt x="21600" y="21165"/>
                </a:lnTo>
                <a:cubicBezTo>
                  <a:pt x="21600" y="21383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3" descr="geogebra"/>
          <p:cNvPicPr/>
          <p:nvPr/>
        </p:nvPicPr>
        <p:blipFill>
          <a:blip r:embed="rId4"/>
          <a:stretch/>
        </p:blipFill>
        <p:spPr>
          <a:xfrm>
            <a:off x="-12600" y="3881520"/>
            <a:ext cx="8999280" cy="730080"/>
          </a:xfrm>
          <a:prstGeom prst="rect">
            <a:avLst/>
          </a:prstGeom>
          <a:ln w="0">
            <a:noFill/>
          </a:ln>
        </p:spPr>
      </p:pic>
      <p:sp>
        <p:nvSpPr>
          <p:cNvPr id="210" name="Bulle ronde 7"/>
          <p:cNvSpPr/>
          <p:nvPr/>
        </p:nvSpPr>
        <p:spPr>
          <a:xfrm>
            <a:off x="4356000" y="2997360"/>
            <a:ext cx="2376720" cy="955440"/>
          </a:xfrm>
          <a:prstGeom prst="wedgeEllipseCallout">
            <a:avLst>
              <a:gd name="adj1" fmla="val -72305"/>
              <a:gd name="adj2" fmla="val 5305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ZoneTexte 22" descr=""/>
          <p:cNvPicPr/>
          <p:nvPr/>
        </p:nvPicPr>
        <p:blipFill>
          <a:blip r:embed="rId5"/>
          <a:stretch/>
        </p:blipFill>
        <p:spPr>
          <a:xfrm>
            <a:off x="4376880" y="2975040"/>
            <a:ext cx="24620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320" y="27432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Espace réservé du contenu 2" descr=""/>
          <p:cNvPicPr/>
          <p:nvPr/>
        </p:nvPicPr>
        <p:blipFill>
          <a:blip r:embed="rId1"/>
          <a:stretch/>
        </p:blipFill>
        <p:spPr>
          <a:xfrm>
            <a:off x="249120" y="1487520"/>
            <a:ext cx="8748720" cy="1292040"/>
          </a:xfrm>
          <a:prstGeom prst="rect">
            <a:avLst/>
          </a:prstGeom>
          <a:ln w="0">
            <a:noFill/>
          </a:ln>
        </p:spPr>
      </p:pic>
      <p:sp>
        <p:nvSpPr>
          <p:cNvPr id="214" name="Connecteur droit 4"/>
          <p:cNvSpPr/>
          <p:nvPr/>
        </p:nvSpPr>
        <p:spPr>
          <a:xfrm>
            <a:off x="1116000" y="4032360"/>
            <a:ext cx="4014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arenthèse fermante 9"/>
          <p:cNvSpPr/>
          <p:nvPr/>
        </p:nvSpPr>
        <p:spPr>
          <a:xfrm>
            <a:off x="5003640" y="3881520"/>
            <a:ext cx="127080" cy="301680"/>
          </a:xfrm>
          <a:custGeom>
            <a:avLst/>
            <a:gdLst>
              <a:gd name="textAreaLeft" fmla="*/ 0 w 127080"/>
              <a:gd name="textAreaRight" fmla="*/ 89280 w 127080"/>
              <a:gd name="textAreaTop" fmla="*/ 5040 h 301680"/>
              <a:gd name="textAreaBottom" fmla="*/ 2966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77"/>
                  <a:pt x="21600" y="753"/>
                </a:cubicBezTo>
                <a:lnTo>
                  <a:pt x="21600" y="20847"/>
                </a:lnTo>
                <a:cubicBezTo>
                  <a:pt x="21600" y="212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Connecteur droit 11"/>
          <p:cNvSpPr/>
          <p:nvPr/>
        </p:nvSpPr>
        <p:spPr>
          <a:xfrm>
            <a:off x="5130720" y="3660840"/>
            <a:ext cx="286092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arenthèse ouvrante 20"/>
          <p:cNvSpPr/>
          <p:nvPr/>
        </p:nvSpPr>
        <p:spPr>
          <a:xfrm>
            <a:off x="111600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arenthèse fermante 15"/>
          <p:cNvSpPr/>
          <p:nvPr/>
        </p:nvSpPr>
        <p:spPr>
          <a:xfrm>
            <a:off x="7885080" y="3483000"/>
            <a:ext cx="106560" cy="357120"/>
          </a:xfrm>
          <a:custGeom>
            <a:avLst/>
            <a:gdLst>
              <a:gd name="textAreaLeft" fmla="*/ 0 w 106560"/>
              <a:gd name="textAreaRight" fmla="*/ 74880 w 1065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2"/>
                  <a:pt x="21600" y="543"/>
                </a:cubicBezTo>
                <a:lnTo>
                  <a:pt x="21600" y="21057"/>
                </a:lnTo>
                <a:cubicBezTo>
                  <a:pt x="21600" y="2132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geogebra"/>
          <p:cNvPicPr/>
          <p:nvPr/>
        </p:nvPicPr>
        <p:blipFill>
          <a:blip r:embed="rId2"/>
          <a:stretch/>
        </p:blipFill>
        <p:spPr>
          <a:xfrm>
            <a:off x="22320" y="383688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20" name="Parenthèse fermante 21"/>
          <p:cNvSpPr/>
          <p:nvPr/>
        </p:nvSpPr>
        <p:spPr>
          <a:xfrm>
            <a:off x="5003640" y="3483000"/>
            <a:ext cx="123840" cy="357120"/>
          </a:xfrm>
          <a:custGeom>
            <a:avLst/>
            <a:gdLst>
              <a:gd name="textAreaLeft" fmla="*/ 0 w 123840"/>
              <a:gd name="textAreaRight" fmla="*/ 86760 w 123840"/>
              <a:gd name="textAreaTop" fmla="*/ 5040 h 357120"/>
              <a:gd name="textAreaBottom" fmla="*/ 352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13"/>
                  <a:pt x="21600" y="626"/>
                </a:cubicBezTo>
                <a:lnTo>
                  <a:pt x="21600" y="20974"/>
                </a:lnTo>
                <a:cubicBezTo>
                  <a:pt x="21600" y="2128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ZoneTexte 24" descr=""/>
          <p:cNvPicPr/>
          <p:nvPr/>
        </p:nvPicPr>
        <p:blipFill>
          <a:blip r:embed="rId3"/>
          <a:stretch/>
        </p:blipFill>
        <p:spPr>
          <a:xfrm>
            <a:off x="5583240" y="5194440"/>
            <a:ext cx="3305160" cy="1614240"/>
          </a:xfrm>
          <a:prstGeom prst="rect">
            <a:avLst/>
          </a:prstGeom>
          <a:ln w="0">
            <a:noFill/>
          </a:ln>
        </p:spPr>
      </p:pic>
      <p:sp>
        <p:nvSpPr>
          <p:cNvPr id="222" name="Bulle ronde 18"/>
          <p:cNvSpPr/>
          <p:nvPr/>
        </p:nvSpPr>
        <p:spPr>
          <a:xfrm>
            <a:off x="1479600" y="4633920"/>
            <a:ext cx="3117960" cy="1368360"/>
          </a:xfrm>
          <a:prstGeom prst="wedgeEllipseCallout">
            <a:avLst>
              <a:gd name="adj1" fmla="val 66740"/>
              <a:gd name="adj2" fmla="val -7550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ZoneTexte 19" descr=""/>
          <p:cNvPicPr/>
          <p:nvPr/>
        </p:nvPicPr>
        <p:blipFill>
          <a:blip r:embed="rId4"/>
          <a:stretch/>
        </p:blipFill>
        <p:spPr>
          <a:xfrm>
            <a:off x="1481040" y="4998960"/>
            <a:ext cx="30909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Espace réservé du contenu 2" descr=""/>
          <p:cNvPicPr/>
          <p:nvPr/>
        </p:nvPicPr>
        <p:blipFill>
          <a:blip r:embed="rId1"/>
          <a:stretch/>
        </p:blipFill>
        <p:spPr>
          <a:xfrm>
            <a:off x="249120" y="1487520"/>
            <a:ext cx="8748720" cy="1292040"/>
          </a:xfrm>
          <a:prstGeom prst="rect">
            <a:avLst/>
          </a:prstGeom>
          <a:ln w="0">
            <a:noFill/>
          </a:ln>
        </p:spPr>
      </p:pic>
      <p:sp>
        <p:nvSpPr>
          <p:cNvPr id="226" name="Connecteur droit 4"/>
          <p:cNvSpPr/>
          <p:nvPr/>
        </p:nvSpPr>
        <p:spPr>
          <a:xfrm>
            <a:off x="1116000" y="4032360"/>
            <a:ext cx="4014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arenthèse fermante 9"/>
          <p:cNvSpPr/>
          <p:nvPr/>
        </p:nvSpPr>
        <p:spPr>
          <a:xfrm>
            <a:off x="5003640" y="3881520"/>
            <a:ext cx="127080" cy="301680"/>
          </a:xfrm>
          <a:custGeom>
            <a:avLst/>
            <a:gdLst>
              <a:gd name="textAreaLeft" fmla="*/ 0 w 127080"/>
              <a:gd name="textAreaRight" fmla="*/ 89280 w 127080"/>
              <a:gd name="textAreaTop" fmla="*/ 5040 h 301680"/>
              <a:gd name="textAreaBottom" fmla="*/ 2966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77"/>
                  <a:pt x="21600" y="753"/>
                </a:cubicBezTo>
                <a:lnTo>
                  <a:pt x="21600" y="20847"/>
                </a:lnTo>
                <a:cubicBezTo>
                  <a:pt x="21600" y="212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Connecteur droit 11"/>
          <p:cNvSpPr/>
          <p:nvPr/>
        </p:nvSpPr>
        <p:spPr>
          <a:xfrm>
            <a:off x="5130720" y="3660840"/>
            <a:ext cx="286092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arenthèse ouvrante 20"/>
          <p:cNvSpPr/>
          <p:nvPr/>
        </p:nvSpPr>
        <p:spPr>
          <a:xfrm>
            <a:off x="111600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arenthèse fermante 15"/>
          <p:cNvSpPr/>
          <p:nvPr/>
        </p:nvSpPr>
        <p:spPr>
          <a:xfrm>
            <a:off x="7885080" y="3483000"/>
            <a:ext cx="106560" cy="357120"/>
          </a:xfrm>
          <a:custGeom>
            <a:avLst/>
            <a:gdLst>
              <a:gd name="textAreaLeft" fmla="*/ 0 w 106560"/>
              <a:gd name="textAreaRight" fmla="*/ 74880 w 1065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2"/>
                  <a:pt x="21600" y="543"/>
                </a:cubicBezTo>
                <a:lnTo>
                  <a:pt x="21600" y="21057"/>
                </a:lnTo>
                <a:cubicBezTo>
                  <a:pt x="21600" y="2132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geogebra"/>
          <p:cNvPicPr/>
          <p:nvPr/>
        </p:nvPicPr>
        <p:blipFill>
          <a:blip r:embed="rId2"/>
          <a:stretch/>
        </p:blipFill>
        <p:spPr>
          <a:xfrm>
            <a:off x="25560" y="386064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32" name="Parenthèse fermante 21"/>
          <p:cNvSpPr/>
          <p:nvPr/>
        </p:nvSpPr>
        <p:spPr>
          <a:xfrm>
            <a:off x="5003640" y="3483000"/>
            <a:ext cx="123840" cy="357120"/>
          </a:xfrm>
          <a:custGeom>
            <a:avLst/>
            <a:gdLst>
              <a:gd name="textAreaLeft" fmla="*/ 0 w 123840"/>
              <a:gd name="textAreaRight" fmla="*/ 86760 w 123840"/>
              <a:gd name="textAreaTop" fmla="*/ 5040 h 357120"/>
              <a:gd name="textAreaBottom" fmla="*/ 352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13"/>
                  <a:pt x="21600" y="626"/>
                </a:cubicBezTo>
                <a:lnTo>
                  <a:pt x="21600" y="20974"/>
                </a:lnTo>
                <a:cubicBezTo>
                  <a:pt x="21600" y="2128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ZoneTexte 24" descr=""/>
          <p:cNvPicPr/>
          <p:nvPr/>
        </p:nvPicPr>
        <p:blipFill>
          <a:blip r:embed="rId3"/>
          <a:stretch/>
        </p:blipFill>
        <p:spPr>
          <a:xfrm>
            <a:off x="5583240" y="5194440"/>
            <a:ext cx="3305160" cy="1614240"/>
          </a:xfrm>
          <a:prstGeom prst="rect">
            <a:avLst/>
          </a:prstGeom>
          <a:ln w="0">
            <a:noFill/>
          </a:ln>
        </p:spPr>
      </p:pic>
      <p:sp>
        <p:nvSpPr>
          <p:cNvPr id="234" name="Bulle ronde 18"/>
          <p:cNvSpPr/>
          <p:nvPr/>
        </p:nvSpPr>
        <p:spPr>
          <a:xfrm>
            <a:off x="1500120" y="4749840"/>
            <a:ext cx="3117960" cy="1368360"/>
          </a:xfrm>
          <a:prstGeom prst="wedgeEllipseCallout">
            <a:avLst>
              <a:gd name="adj1" fmla="val 64074"/>
              <a:gd name="adj2" fmla="val -8679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ZoneTexte 19" descr=""/>
          <p:cNvPicPr/>
          <p:nvPr/>
        </p:nvPicPr>
        <p:blipFill>
          <a:blip r:embed="rId4"/>
          <a:stretch/>
        </p:blipFill>
        <p:spPr>
          <a:xfrm>
            <a:off x="1481040" y="5114880"/>
            <a:ext cx="3090960" cy="639720"/>
          </a:xfrm>
          <a:prstGeom prst="rect">
            <a:avLst/>
          </a:prstGeom>
          <a:ln w="0">
            <a:noFill/>
          </a:ln>
        </p:spPr>
      </p:pic>
      <p:sp>
        <p:nvSpPr>
          <p:cNvPr id="236" name="Connecteur droit 13"/>
          <p:cNvSpPr/>
          <p:nvPr/>
        </p:nvSpPr>
        <p:spPr>
          <a:xfrm flipV="1">
            <a:off x="1116000" y="4570200"/>
            <a:ext cx="6875640" cy="2988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arenthèse fermante 14"/>
          <p:cNvSpPr/>
          <p:nvPr/>
        </p:nvSpPr>
        <p:spPr>
          <a:xfrm>
            <a:off x="7885080" y="4392720"/>
            <a:ext cx="122400" cy="357120"/>
          </a:xfrm>
          <a:custGeom>
            <a:avLst/>
            <a:gdLst>
              <a:gd name="textAreaLeft" fmla="*/ 0 w 122400"/>
              <a:gd name="textAreaRight" fmla="*/ 86040 w 122400"/>
              <a:gd name="textAreaTop" fmla="*/ 5040 h 357120"/>
              <a:gd name="textAreaBottom" fmla="*/ 352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08"/>
                  <a:pt x="21600" y="616"/>
                </a:cubicBezTo>
                <a:lnTo>
                  <a:pt x="21600" y="20984"/>
                </a:lnTo>
                <a:cubicBezTo>
                  <a:pt x="21600" y="21292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arenthèse fermante 17"/>
          <p:cNvSpPr/>
          <p:nvPr/>
        </p:nvSpPr>
        <p:spPr>
          <a:xfrm flipH="1">
            <a:off x="1135800" y="4422600"/>
            <a:ext cx="109800" cy="357480"/>
          </a:xfrm>
          <a:custGeom>
            <a:avLst/>
            <a:gdLst>
              <a:gd name="textAreaLeft" fmla="*/ -360 w 109800"/>
              <a:gd name="textAreaRight" fmla="*/ 76680 w 109800"/>
              <a:gd name="textAreaTop" fmla="*/ 4320 h 357480"/>
              <a:gd name="textAreaBottom" fmla="*/ 35316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44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414440"/>
            <a:ext cx="9083520" cy="1511280"/>
          </a:xfrm>
          <a:prstGeom prst="rect">
            <a:avLst/>
          </a:prstGeom>
          <a:ln w="0">
            <a:noFill/>
          </a:ln>
        </p:spPr>
      </p:pic>
      <p:sp>
        <p:nvSpPr>
          <p:cNvPr id="241" name="Connecteur droit 4"/>
          <p:cNvSpPr/>
          <p:nvPr/>
        </p:nvSpPr>
        <p:spPr>
          <a:xfrm>
            <a:off x="23760" y="4056120"/>
            <a:ext cx="3862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arenthèse fermante 9"/>
          <p:cNvSpPr/>
          <p:nvPr/>
        </p:nvSpPr>
        <p:spPr>
          <a:xfrm flipH="1" flipV="1">
            <a:off x="3885480" y="3848040"/>
            <a:ext cx="82440" cy="416160"/>
          </a:xfrm>
          <a:custGeom>
            <a:avLst/>
            <a:gdLst>
              <a:gd name="textAreaLeft" fmla="*/ 0 w 82440"/>
              <a:gd name="textAreaRight" fmla="*/ 57960 w 82440"/>
              <a:gd name="textAreaTop" fmla="*/ 3240 h 416160"/>
              <a:gd name="textAreaBottom" fmla="*/ 41292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8"/>
                  <a:pt x="21600" y="356"/>
                </a:cubicBezTo>
                <a:lnTo>
                  <a:pt x="21600" y="21244"/>
                </a:lnTo>
                <a:cubicBezTo>
                  <a:pt x="21600" y="21422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Connecteur droit 11"/>
          <p:cNvSpPr/>
          <p:nvPr/>
        </p:nvSpPr>
        <p:spPr>
          <a:xfrm flipV="1">
            <a:off x="3230640" y="3573000"/>
            <a:ext cx="5327640" cy="180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arenthèse ouvrante 12"/>
          <p:cNvSpPr/>
          <p:nvPr/>
        </p:nvSpPr>
        <p:spPr>
          <a:xfrm>
            <a:off x="3216240" y="3384720"/>
            <a:ext cx="93600" cy="38088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2"/>
                </a:cubicBezTo>
                <a:lnTo>
                  <a:pt x="0" y="21158"/>
                </a:lnTo>
                <a:cubicBezTo>
                  <a:pt x="0" y="21379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Connecteur droit 14"/>
          <p:cNvSpPr/>
          <p:nvPr/>
        </p:nvSpPr>
        <p:spPr>
          <a:xfrm>
            <a:off x="3203640" y="4692600"/>
            <a:ext cx="6411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arenthèse fermante 16"/>
          <p:cNvSpPr/>
          <p:nvPr/>
        </p:nvSpPr>
        <p:spPr>
          <a:xfrm flipH="1">
            <a:off x="3873600" y="453384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arenthèse ouvrante 17"/>
          <p:cNvSpPr/>
          <p:nvPr/>
        </p:nvSpPr>
        <p:spPr>
          <a:xfrm>
            <a:off x="3201840" y="4513320"/>
            <a:ext cx="93960" cy="357120"/>
          </a:xfrm>
          <a:custGeom>
            <a:avLst/>
            <a:gdLst>
              <a:gd name="textAreaLeft" fmla="*/ 27720 w 93960"/>
              <a:gd name="textAreaRight" fmla="*/ 94320 w 93960"/>
              <a:gd name="textAreaTop" fmla="*/ 3600 h 357120"/>
              <a:gd name="textAreaBottom" fmla="*/ 3535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6"/>
                  <a:pt x="0" y="472"/>
                </a:cubicBezTo>
                <a:lnTo>
                  <a:pt x="0" y="21128"/>
                </a:lnTo>
                <a:cubicBezTo>
                  <a:pt x="0" y="2136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249" name="Bulle ronde 24"/>
          <p:cNvSpPr/>
          <p:nvPr/>
        </p:nvSpPr>
        <p:spPr>
          <a:xfrm>
            <a:off x="826920" y="5084640"/>
            <a:ext cx="2521080" cy="720720"/>
          </a:xfrm>
          <a:prstGeom prst="wedgeEllipseCallout">
            <a:avLst>
              <a:gd name="adj1" fmla="val 45967"/>
              <a:gd name="adj2" fmla="val -17975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ZoneTexte 25" descr=""/>
          <p:cNvPicPr/>
          <p:nvPr/>
        </p:nvPicPr>
        <p:blipFill>
          <a:blip r:embed="rId3"/>
          <a:stretch/>
        </p:blipFill>
        <p:spPr>
          <a:xfrm>
            <a:off x="938160" y="5145120"/>
            <a:ext cx="2268720" cy="554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geogebra"/>
          <p:cNvPicPr/>
          <p:nvPr/>
        </p:nvPicPr>
        <p:blipFill>
          <a:blip r:embed="rId4"/>
          <a:stretch/>
        </p:blipFill>
        <p:spPr>
          <a:xfrm>
            <a:off x="-1440" y="3825720"/>
            <a:ext cx="9144000" cy="876600"/>
          </a:xfrm>
          <a:prstGeom prst="rect">
            <a:avLst/>
          </a:prstGeom>
          <a:ln w="0">
            <a:noFill/>
          </a:ln>
        </p:spPr>
      </p:pic>
      <p:sp>
        <p:nvSpPr>
          <p:cNvPr id="252" name="Parenthèse fermante 18"/>
          <p:cNvSpPr/>
          <p:nvPr/>
        </p:nvSpPr>
        <p:spPr>
          <a:xfrm flipH="1">
            <a:off x="8558280" y="344160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1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414440"/>
            <a:ext cx="9083520" cy="1511280"/>
          </a:xfrm>
          <a:prstGeom prst="rect">
            <a:avLst/>
          </a:prstGeom>
          <a:ln w="0">
            <a:noFill/>
          </a:ln>
        </p:spPr>
      </p:pic>
      <p:sp>
        <p:nvSpPr>
          <p:cNvPr id="255" name="Connecteur droit 4"/>
          <p:cNvSpPr/>
          <p:nvPr/>
        </p:nvSpPr>
        <p:spPr>
          <a:xfrm>
            <a:off x="23760" y="4056120"/>
            <a:ext cx="3862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arenthèse fermante 9"/>
          <p:cNvSpPr/>
          <p:nvPr/>
        </p:nvSpPr>
        <p:spPr>
          <a:xfrm flipH="1" flipV="1">
            <a:off x="3885480" y="3848040"/>
            <a:ext cx="82440" cy="416160"/>
          </a:xfrm>
          <a:custGeom>
            <a:avLst/>
            <a:gdLst>
              <a:gd name="textAreaLeft" fmla="*/ 0 w 82440"/>
              <a:gd name="textAreaRight" fmla="*/ 57960 w 82440"/>
              <a:gd name="textAreaTop" fmla="*/ 3240 h 416160"/>
              <a:gd name="textAreaBottom" fmla="*/ 41292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8"/>
                  <a:pt x="21600" y="356"/>
                </a:cubicBezTo>
                <a:lnTo>
                  <a:pt x="21600" y="21244"/>
                </a:lnTo>
                <a:cubicBezTo>
                  <a:pt x="21600" y="21422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Connecteur droit 11"/>
          <p:cNvSpPr/>
          <p:nvPr/>
        </p:nvSpPr>
        <p:spPr>
          <a:xfrm flipV="1">
            <a:off x="3230640" y="3573000"/>
            <a:ext cx="5327640" cy="180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arenthèse ouvrante 12"/>
          <p:cNvSpPr/>
          <p:nvPr/>
        </p:nvSpPr>
        <p:spPr>
          <a:xfrm>
            <a:off x="3216240" y="3384720"/>
            <a:ext cx="93600" cy="38088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2"/>
                </a:cubicBezTo>
                <a:lnTo>
                  <a:pt x="0" y="21158"/>
                </a:lnTo>
                <a:cubicBezTo>
                  <a:pt x="0" y="21379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Connecteur droit 14"/>
          <p:cNvSpPr/>
          <p:nvPr/>
        </p:nvSpPr>
        <p:spPr>
          <a:xfrm flipV="1">
            <a:off x="23760" y="4570200"/>
            <a:ext cx="8588520" cy="6012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arenthèse fermante 16"/>
          <p:cNvSpPr/>
          <p:nvPr/>
        </p:nvSpPr>
        <p:spPr>
          <a:xfrm flipH="1">
            <a:off x="8612280" y="439272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ZoneTexte 6" descr=""/>
          <p:cNvPicPr/>
          <p:nvPr/>
        </p:nvPicPr>
        <p:blipFill>
          <a:blip r:embed="rId2"/>
          <a:stretch/>
        </p:blipFill>
        <p:spPr>
          <a:xfrm>
            <a:off x="4857840" y="4925880"/>
            <a:ext cx="4073400" cy="1760760"/>
          </a:xfrm>
          <a:prstGeom prst="rect">
            <a:avLst/>
          </a:prstGeom>
          <a:ln w="0">
            <a:noFill/>
          </a:ln>
        </p:spPr>
      </p:pic>
      <p:sp>
        <p:nvSpPr>
          <p:cNvPr id="262" name="Bulle ronde 24"/>
          <p:cNvSpPr/>
          <p:nvPr/>
        </p:nvSpPr>
        <p:spPr>
          <a:xfrm>
            <a:off x="826920" y="5084640"/>
            <a:ext cx="2521080" cy="720720"/>
          </a:xfrm>
          <a:prstGeom prst="wedgeEllipseCallout">
            <a:avLst>
              <a:gd name="adj1" fmla="val 45967"/>
              <a:gd name="adj2" fmla="val -17975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ZoneTexte 25" descr=""/>
          <p:cNvPicPr/>
          <p:nvPr/>
        </p:nvPicPr>
        <p:blipFill>
          <a:blip r:embed="rId3"/>
          <a:stretch/>
        </p:blipFill>
        <p:spPr>
          <a:xfrm>
            <a:off x="938160" y="5145120"/>
            <a:ext cx="2268720" cy="554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geogebra"/>
          <p:cNvPicPr/>
          <p:nvPr/>
        </p:nvPicPr>
        <p:blipFill>
          <a:blip r:embed="rId4"/>
          <a:stretch/>
        </p:blipFill>
        <p:spPr>
          <a:xfrm>
            <a:off x="11160" y="3798720"/>
            <a:ext cx="9144000" cy="878040"/>
          </a:xfrm>
          <a:prstGeom prst="rect">
            <a:avLst/>
          </a:prstGeom>
          <a:ln w="0">
            <a:noFill/>
          </a:ln>
        </p:spPr>
      </p:pic>
      <p:sp>
        <p:nvSpPr>
          <p:cNvPr id="265" name="Parenthèse fermante 18"/>
          <p:cNvSpPr/>
          <p:nvPr/>
        </p:nvSpPr>
        <p:spPr>
          <a:xfrm flipH="1">
            <a:off x="8558280" y="344160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0" y="15998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geogebra"/>
          <p:cNvPicPr/>
          <p:nvPr/>
        </p:nvPicPr>
        <p:blipFill>
          <a:blip r:embed="rId2"/>
          <a:stretch/>
        </p:blipFill>
        <p:spPr>
          <a:xfrm>
            <a:off x="61920" y="37591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90" name="Connecteur droit 4"/>
          <p:cNvSpPr/>
          <p:nvPr/>
        </p:nvSpPr>
        <p:spPr>
          <a:xfrm>
            <a:off x="1979640" y="4005360"/>
            <a:ext cx="5807160" cy="7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arenthèse fermante 9"/>
          <p:cNvSpPr/>
          <p:nvPr/>
        </p:nvSpPr>
        <p:spPr>
          <a:xfrm>
            <a:off x="7740720" y="386244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necteur droit 11"/>
          <p:cNvSpPr/>
          <p:nvPr/>
        </p:nvSpPr>
        <p:spPr>
          <a:xfrm>
            <a:off x="2771640" y="3759120"/>
            <a:ext cx="61898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arenthèse ouvrante 12"/>
          <p:cNvSpPr/>
          <p:nvPr/>
        </p:nvSpPr>
        <p:spPr>
          <a:xfrm>
            <a:off x="2771640" y="3568680"/>
            <a:ext cx="144720" cy="380880"/>
          </a:xfrm>
          <a:custGeom>
            <a:avLst/>
            <a:gdLst>
              <a:gd name="textAreaLeft" fmla="*/ 42480 w 144720"/>
              <a:gd name="textAreaRight" fmla="*/ 145080 w 144720"/>
              <a:gd name="textAreaTop" fmla="*/ 5760 h 380880"/>
              <a:gd name="textAreaBottom" fmla="*/ 375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40"/>
                  <a:pt x="0" y="680"/>
                </a:cubicBezTo>
                <a:lnTo>
                  <a:pt x="0" y="20920"/>
                </a:lnTo>
                <a:cubicBezTo>
                  <a:pt x="0" y="2126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necteur droit 14"/>
          <p:cNvSpPr/>
          <p:nvPr/>
        </p:nvSpPr>
        <p:spPr>
          <a:xfrm>
            <a:off x="2843280" y="4565520"/>
            <a:ext cx="49323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arenthèse fermante 16"/>
          <p:cNvSpPr/>
          <p:nvPr/>
        </p:nvSpPr>
        <p:spPr>
          <a:xfrm>
            <a:off x="7704000" y="438768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arenthèse ouvrante 17"/>
          <p:cNvSpPr/>
          <p:nvPr/>
        </p:nvSpPr>
        <p:spPr>
          <a:xfrm>
            <a:off x="2809800" y="4387680"/>
            <a:ext cx="106560" cy="357480"/>
          </a:xfrm>
          <a:custGeom>
            <a:avLst/>
            <a:gdLst>
              <a:gd name="textAreaLeft" fmla="*/ 31320 w 106560"/>
              <a:gd name="textAreaRight" fmla="*/ 106920 w 106560"/>
              <a:gd name="textAreaTop" fmla="*/ 4320 h 357480"/>
              <a:gd name="textAreaBottom" fmla="*/ 35316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241920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241920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1:36:43Z</dcterms:created>
  <dc:creator>auderi</dc:creator>
  <dc:description/>
  <dc:language>en-US</dc:language>
  <cp:lastModifiedBy>auderi</cp:lastModifiedBy>
  <dcterms:modified xsi:type="dcterms:W3CDTF">2016-07-06T08:32:28Z</dcterms:modified>
  <cp:revision>79</cp:revision>
  <dc:subject/>
  <dc:title>"Si" x≤5 "alors" x&gt;π</dc:title>
</cp:coreProperties>
</file>