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ECC-136E-48A9-8308-06812959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E3C-97C6-4C73-AB63-4641D94A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966-01B6-4D1E-93A6-2C8FBE25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275-2F4F-42C0-9F78-3ABF14EB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EB81-A672-473B-AD87-0785E15E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E1BE-70D9-4F70-BAE9-1EF7204E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326A-D943-48EF-B9BB-0CB32058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89B4-D6F9-40DC-9666-58BF6C30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A960-1296-4F69-85EC-16ABFC12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A1ED-EFB6-4DBE-AF5F-E8A6848D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1ECC-89F6-413A-8FBD-7FD6A87D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370-ACAD-4ECF-8D3B-88C1B50D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8444-7084-433A-BE23-2110B991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7700-DF3C-4D8E-B28E-0DBF3DCD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A8F4-7CB0-4EAC-9C9C-3FFFF912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7F61-667C-4125-9F92-E4F01E8C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370A-9109-4E77-933F-12490B35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15F-EE76-4436-AE92-54269575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D49-7254-4B7B-9F03-DBF0A5BF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1EA-8964-47CF-973B-74C6F31D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B35-513E-4AB7-A370-027877D4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367-D01B-47B3-B459-85636E57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8F69-090E-439E-A872-6CA56E60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2FB-72C8-43F8-B456-4BDC4F8F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09D8-DFB1-4F05-97CA-76C36B304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3A5E-3644-4BCC-A62E-DD3FF1F26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4102200"/>
            <a:ext cx="9144000" cy="13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898989"/>
                </a:solidFill>
                <a:latin typeface="Calibri"/>
              </a:rPr>
              <a:t>IMPLICATION - RÉCIPROQU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3"/>
          <p:cNvSpPr/>
          <p:nvPr/>
        </p:nvSpPr>
        <p:spPr>
          <a:xfrm>
            <a:off x="0" y="566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re 1"/>
          <p:cNvSpPr/>
          <p:nvPr/>
        </p:nvSpPr>
        <p:spPr>
          <a:xfrm>
            <a:off x="0" y="977760"/>
            <a:ext cx="914400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251604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SÉRIE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2276280"/>
            <a:ext cx="864216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eux réel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 e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2276280"/>
            <a:ext cx="864216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 :  « 2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+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Q :  «                   = 0 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1270080" y="3933720"/>
                <a:ext cx="1361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²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920" y="2276280"/>
            <a:ext cx="864216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 :  « 2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+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Q :  «                   = 0 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1270080" y="3933720"/>
                <a:ext cx="1361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²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1557000"/>
            <a:ext cx="8642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2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² = 4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à coins arrondis 3"/>
          <p:cNvSpPr/>
          <p:nvPr/>
        </p:nvSpPr>
        <p:spPr>
          <a:xfrm>
            <a:off x="611280" y="479736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4"/>
          <p:cNvSpPr/>
          <p:nvPr/>
        </p:nvSpPr>
        <p:spPr>
          <a:xfrm>
            <a:off x="3995640" y="4932360"/>
            <a:ext cx="4321440" cy="58140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Si </a:t>
            </a:r>
            <a:r>
              <a:rPr b="1" i="1" lang="fr-F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 = 2 alors  </a:t>
            </a:r>
            <a:r>
              <a:rPr b="1" i="1" lang="fr-F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²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 = 2² =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1557000"/>
            <a:ext cx="8642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2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² = 4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à coins arrondis 3"/>
          <p:cNvSpPr/>
          <p:nvPr/>
        </p:nvSpPr>
        <p:spPr>
          <a:xfrm>
            <a:off x="611280" y="479736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ZoneTexte 4" descr=""/>
          <p:cNvPicPr/>
          <p:nvPr/>
        </p:nvPicPr>
        <p:blipFill>
          <a:blip r:embed="rId1"/>
          <a:stretch/>
        </p:blipFill>
        <p:spPr>
          <a:xfrm>
            <a:off x="3114720" y="4840200"/>
            <a:ext cx="58705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1463760"/>
            <a:ext cx="8950320" cy="3120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à coins arrondis 3"/>
          <p:cNvSpPr/>
          <p:nvPr/>
        </p:nvSpPr>
        <p:spPr>
          <a:xfrm>
            <a:off x="611280" y="46753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ZoneTexte 4" descr=""/>
          <p:cNvPicPr/>
          <p:nvPr/>
        </p:nvPicPr>
        <p:blipFill>
          <a:blip r:embed="rId2"/>
          <a:stretch/>
        </p:blipFill>
        <p:spPr>
          <a:xfrm>
            <a:off x="4267080" y="4705200"/>
            <a:ext cx="29149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1463760"/>
            <a:ext cx="8950320" cy="31208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à coins arrondis 3"/>
          <p:cNvSpPr/>
          <p:nvPr/>
        </p:nvSpPr>
        <p:spPr>
          <a:xfrm>
            <a:off x="611280" y="46753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ZoneTexte 4" descr=""/>
          <p:cNvPicPr/>
          <p:nvPr/>
        </p:nvPicPr>
        <p:blipFill>
          <a:blip r:embed="rId2"/>
          <a:stretch/>
        </p:blipFill>
        <p:spPr>
          <a:xfrm>
            <a:off x="3986280" y="4711680"/>
            <a:ext cx="3475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1463760"/>
            <a:ext cx="8950320" cy="3120840"/>
          </a:xfrm>
          <a:prstGeom prst="rect">
            <a:avLst/>
          </a:prstGeom>
          <a:ln w="0">
            <a:noFill/>
          </a:ln>
        </p:spPr>
      </p:pic>
      <p:sp>
        <p:nvSpPr>
          <p:cNvPr id="129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à coins arrondis 4"/>
          <p:cNvSpPr/>
          <p:nvPr/>
        </p:nvSpPr>
        <p:spPr>
          <a:xfrm>
            <a:off x="611280" y="46753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ZoneTexte 5" descr=""/>
          <p:cNvPicPr/>
          <p:nvPr/>
        </p:nvPicPr>
        <p:blipFill>
          <a:blip r:embed="rId2"/>
          <a:stretch/>
        </p:blipFill>
        <p:spPr>
          <a:xfrm>
            <a:off x="3981600" y="4486320"/>
            <a:ext cx="45720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à coins arrondis 4"/>
          <p:cNvSpPr/>
          <p:nvPr/>
        </p:nvSpPr>
        <p:spPr>
          <a:xfrm>
            <a:off x="611280" y="46753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ZoneTexte 7" descr=""/>
          <p:cNvPicPr/>
          <p:nvPr/>
        </p:nvPicPr>
        <p:blipFill>
          <a:blip r:embed="rId1"/>
          <a:stretch/>
        </p:blipFill>
        <p:spPr>
          <a:xfrm>
            <a:off x="3760920" y="4700520"/>
            <a:ext cx="3060720" cy="878040"/>
          </a:xfrm>
          <a:prstGeom prst="rect">
            <a:avLst/>
          </a:prstGeom>
          <a:ln w="0">
            <a:noFill/>
          </a:ln>
        </p:spPr>
      </p:pic>
      <p:pic>
        <p:nvPicPr>
          <p:cNvPr id="135" name="Espace réservé du contenu 2" descr=""/>
          <p:cNvPicPr/>
          <p:nvPr/>
        </p:nvPicPr>
        <p:blipFill>
          <a:blip r:embed="rId2"/>
          <a:stretch/>
        </p:blipFill>
        <p:spPr>
          <a:xfrm>
            <a:off x="96840" y="1463760"/>
            <a:ext cx="89503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Oui ou Non 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557360"/>
            <a:ext cx="86421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ux réels. On considère les propositions suivante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 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 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à coins arrondis 4"/>
          <p:cNvSpPr/>
          <p:nvPr/>
        </p:nvSpPr>
        <p:spPr>
          <a:xfrm>
            <a:off x="611280" y="4653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3276720" y="4778280"/>
            <a:ext cx="5616360" cy="5205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Si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 et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5 on a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y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 et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≠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à coins arrondis 4"/>
          <p:cNvSpPr/>
          <p:nvPr/>
        </p:nvSpPr>
        <p:spPr>
          <a:xfrm>
            <a:off x="611280" y="4653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oneTexte 6"/>
          <p:cNvSpPr/>
          <p:nvPr/>
        </p:nvSpPr>
        <p:spPr>
          <a:xfrm>
            <a:off x="3851280" y="4653000"/>
            <a:ext cx="4537080" cy="9471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Si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 et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on a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y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×0 =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557360"/>
            <a:ext cx="86421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ux réels. On considère les propositions suivante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 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 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560" y="1412640"/>
            <a:ext cx="88930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2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+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                = 0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t 6"/>
              <p:cNvSpPr txBox="1"/>
              <p:nvPr/>
            </p:nvSpPr>
            <p:spPr>
              <a:xfrm>
                <a:off x="1258920" y="3141720"/>
                <a:ext cx="1361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²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ZoneTexte 8"/>
          <p:cNvSpPr/>
          <p:nvPr/>
        </p:nvSpPr>
        <p:spPr>
          <a:xfrm>
            <a:off x="3995640" y="4724280"/>
            <a:ext cx="4464000" cy="14414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Si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 alors 2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²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+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 = 0 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                 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n’est pas défini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1"/>
          <a:stretch/>
        </p:blipFill>
        <p:spPr>
          <a:xfrm>
            <a:off x="4211640" y="5178600"/>
            <a:ext cx="119052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à coins arrondis 15"/>
          <p:cNvSpPr/>
          <p:nvPr/>
        </p:nvSpPr>
        <p:spPr>
          <a:xfrm>
            <a:off x="611280" y="49417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oneTexte 9"/>
          <p:cNvSpPr/>
          <p:nvPr/>
        </p:nvSpPr>
        <p:spPr>
          <a:xfrm>
            <a:off x="3851280" y="4724280"/>
            <a:ext cx="4753080" cy="1008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Si       = 0 alors A = 0 et B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≠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1332000" y="3068640"/>
                <a:ext cx="1361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²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Rectangle à coins arrondis 12"/>
          <p:cNvSpPr/>
          <p:nvPr/>
        </p:nvSpPr>
        <p:spPr>
          <a:xfrm>
            <a:off x="684360" y="4869000"/>
            <a:ext cx="21589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1"/>
          <a:stretch/>
        </p:blipFill>
        <p:spPr>
          <a:xfrm>
            <a:off x="4572000" y="4799160"/>
            <a:ext cx="314280" cy="790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50560" y="1412640"/>
            <a:ext cx="88930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2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+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                = 0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2276640"/>
            <a:ext cx="8642160" cy="34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2 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² = 4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2276640"/>
            <a:ext cx="8642160" cy="34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2 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² = 4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2189160"/>
            <a:ext cx="89503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2189160"/>
            <a:ext cx="89503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2189160"/>
            <a:ext cx="8950320" cy="3705120"/>
          </a:xfrm>
          <a:prstGeom prst="rect">
            <a:avLst/>
          </a:prstGeom>
          <a:ln w="0">
            <a:noFill/>
          </a:ln>
        </p:spPr>
      </p:pic>
      <p:sp>
        <p:nvSpPr>
          <p:cNvPr id="96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2189160"/>
            <a:ext cx="8950320" cy="3705120"/>
          </a:xfrm>
          <a:prstGeom prst="rect">
            <a:avLst/>
          </a:prstGeom>
          <a:ln w="0">
            <a:noFill/>
          </a:ln>
        </p:spPr>
      </p:pic>
      <p:sp>
        <p:nvSpPr>
          <p:cNvPr id="98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2276280"/>
            <a:ext cx="864216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eux réel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 e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dcterms:modified xsi:type="dcterms:W3CDTF">2016-07-06T12:38:47Z</dcterms:modified>
  <cp:revision>77</cp:revision>
  <dc:subject/>
  <dc:title>LOGIQUE</dc:title>
</cp:coreProperties>
</file>