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7709-E966-4554-8B60-8D301620C0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A197-4DD7-4399-ADDD-D04883C32B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DEC-0EB7-4EA1-BCE3-86180258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529-619B-4568-8B0B-B696746C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FEE-FB56-4AE3-905B-C4BC8464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F2A-EFDB-4B12-8C00-4176D522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CC8-8F00-4B03-9A0B-CDAD856A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FC2-0271-4B6A-A481-B48322F3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B78-318A-4915-B047-6F1B2E4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407-354B-45F1-AAD5-693CBDC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C32-A6D7-427A-A0E1-9BC1E3FD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6FC-2E9A-48F3-A7BD-EA4AB84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CCD-EEAA-472F-A68A-E8F65CD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C60-E689-4211-813D-7594702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27C7-9BB6-4AEF-915D-6DEC6DD03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102200"/>
            <a:ext cx="9144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IMPLICATION - RÉCIPROQU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0" y="2516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34100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313200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à coins arrondis 7"/>
          <p:cNvSpPr/>
          <p:nvPr/>
        </p:nvSpPr>
        <p:spPr>
          <a:xfrm>
            <a:off x="197964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8" descr="C:\Users\Christine\AppData\Local\Temp\geogebra.png"/>
          <p:cNvPicPr/>
          <p:nvPr/>
        </p:nvPicPr>
        <p:blipFill>
          <a:blip r:embed="rId1"/>
          <a:srcRect l="16672" t="9213" r="8914" b="7835"/>
          <a:stretch/>
        </p:blipFill>
        <p:spPr>
          <a:xfrm>
            <a:off x="5508720" y="306864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34100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à coins arrondis 3"/>
          <p:cNvSpPr/>
          <p:nvPr/>
        </p:nvSpPr>
        <p:spPr>
          <a:xfrm>
            <a:off x="104292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4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72000" y="4581360"/>
            <a:ext cx="3430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 6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508720" y="3697200"/>
            <a:ext cx="2448000" cy="2540160"/>
          </a:xfrm>
          <a:prstGeom prst="rect">
            <a:avLst/>
          </a:prstGeom>
          <a:ln w="0">
            <a:noFill/>
          </a:ln>
        </p:spPr>
      </p:pic>
      <p:pic>
        <p:nvPicPr>
          <p:cNvPr id="86" name="Image 7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508720" y="3716280"/>
            <a:ext cx="2428920" cy="25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à coins arrondis 8"/>
          <p:cNvSpPr/>
          <p:nvPr/>
        </p:nvSpPr>
        <p:spPr>
          <a:xfrm>
            <a:off x="1619280" y="47973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134100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8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435640" y="3716280"/>
            <a:ext cx="255420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Image 9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435640" y="3716280"/>
            <a:ext cx="255420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10"/>
          <p:cNvSpPr/>
          <p:nvPr/>
        </p:nvSpPr>
        <p:spPr>
          <a:xfrm>
            <a:off x="1692360" y="486900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7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72000" y="3933720"/>
            <a:ext cx="3954600" cy="2132280"/>
          </a:xfrm>
          <a:prstGeom prst="rect">
            <a:avLst/>
          </a:prstGeom>
          <a:ln w="0">
            <a:noFill/>
          </a:ln>
        </p:spPr>
      </p:pic>
      <p:pic>
        <p:nvPicPr>
          <p:cNvPr id="96" name="Image 8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4576680" y="3933720"/>
            <a:ext cx="3956040" cy="2138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à coins arrondis 9"/>
          <p:cNvSpPr/>
          <p:nvPr/>
        </p:nvSpPr>
        <p:spPr>
          <a:xfrm>
            <a:off x="1692360" y="481824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34100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148360" y="3933720"/>
            <a:ext cx="2992320" cy="207504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148360" y="3933720"/>
            <a:ext cx="2992320" cy="207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7"/>
          <p:cNvSpPr/>
          <p:nvPr/>
        </p:nvSpPr>
        <p:spPr>
          <a:xfrm>
            <a:off x="125892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Oui ou Non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34100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00720" y="3933720"/>
            <a:ext cx="3952800" cy="2132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à coins arrondis 4"/>
          <p:cNvSpPr/>
          <p:nvPr/>
        </p:nvSpPr>
        <p:spPr>
          <a:xfrm>
            <a:off x="971640" y="48909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34100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651640" y="3789360"/>
            <a:ext cx="2582640" cy="2351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à coins arrondis 4"/>
          <p:cNvSpPr/>
          <p:nvPr/>
        </p:nvSpPr>
        <p:spPr>
          <a:xfrm>
            <a:off x="971640" y="486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3"/>
          <p:cNvSpPr/>
          <p:nvPr/>
        </p:nvSpPr>
        <p:spPr>
          <a:xfrm>
            <a:off x="971640" y="486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 4" descr="C:\Users\Christine\AppData\Local\Temp\geogebra.png"/>
          <p:cNvPicPr/>
          <p:nvPr/>
        </p:nvPicPr>
        <p:blipFill>
          <a:blip r:embed="rId1"/>
          <a:srcRect l="3511" t="0" r="4654" b="0"/>
          <a:stretch/>
        </p:blipFill>
        <p:spPr>
          <a:xfrm>
            <a:off x="4500720" y="3933720"/>
            <a:ext cx="3484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4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108000" y="4460760"/>
            <a:ext cx="3647880" cy="1847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à coins arrondis 5"/>
          <p:cNvSpPr/>
          <p:nvPr/>
        </p:nvSpPr>
        <p:spPr>
          <a:xfrm>
            <a:off x="3059280" y="41497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 7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153040" y="3075120"/>
            <a:ext cx="40273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224748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224748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1:50:44Z</dcterms:modified>
  <cp:revision>65</cp:revision>
  <dc:subject/>
  <dc:title>LOGIQUE</dc:title>
</cp:coreProperties>
</file>