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F7F-314F-4D78-98AC-F0E8214BB1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80B-2C14-43BF-9884-07773D4A65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FF62-9C58-46E2-BDAD-B1E564EFBF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61E8-471F-4997-8253-496D3541AD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B68A-46F6-4C83-9A2B-38F5A6D90D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E655-4782-4EDD-A823-5D5D6E18C5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EF2D-FBAD-4F22-A15F-F801D11BE9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B68A-F70F-479F-8C16-161570B049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9673-63B7-489F-859E-9A1E8A5F4D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6D10-74A9-4B0A-8161-42ECBA6B56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F8AD-FF55-4EF6-8B51-FD59404A31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DB75-9CBD-4E3C-8ACA-EC67118D4B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EC2C-2D7C-4484-B6B3-FE67FBA65E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CC7-130F-4ED9-84B2-3C5171A06D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F7AE-FD41-435D-8E79-5109CB6535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258-302D-46CC-974F-E7024C4F12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5ED8-D1C6-40B5-9A49-77AEC020A4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4B1F-56A2-47B9-BD80-017F48D2F6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1643-1C37-452F-BD98-2BF380A3A8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102D-1155-4C8F-A974-7DBC2C4AFA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6998-8FC5-470B-967C-EE8AE52C6B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41B8-B1D6-418B-8187-C1CA08784C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A738-BB84-4B79-A856-CD97A6015C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9B83-47C3-4FDA-A957-A936105453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6955-6BC2-4D01-BE00-E2307F6C95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223-64ED-4674-B9CC-A200AA8E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720-0DC5-403F-800D-5EAC215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7DC-0199-4E6C-AC1C-DF50E3D6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644-5E2D-47CA-B99A-6EE8DA9E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812-FBE6-4EB7-9ADA-2FCBF128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849-DF8C-4153-8E26-FFC5291C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EF5-BE4D-467E-9807-0C613EE9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6F6-B56D-4F8D-92A5-A60968F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D28-F06E-462D-AC0F-795FA82A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B44-EFE0-47F3-9100-79A7F75F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BED-EEE5-4EB0-B70F-C063BF7F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2A6-D73E-4540-BE15-717FDC6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979-8AD0-4ACC-8C97-B17618B595C1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5EBB-D3F4-4E6C-ADA9-C6C9EB4132B8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262080" y="1414440"/>
            <a:ext cx="8583480" cy="2895480"/>
            <a:chOff x="262080" y="1414440"/>
            <a:chExt cx="858348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62080" y="1414440"/>
              <a:ext cx="85834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MÉLI-MÉL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765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triangle rectangle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éterminer la valeur de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e 14"/>
          <p:cNvGrpSpPr/>
          <p:nvPr/>
        </p:nvGrpSpPr>
        <p:grpSpPr>
          <a:xfrm>
            <a:off x="2483280" y="2071440"/>
            <a:ext cx="3600720" cy="3446280"/>
            <a:chOff x="2483280" y="2071440"/>
            <a:chExt cx="3600720" cy="3446280"/>
          </a:xfrm>
        </p:grpSpPr>
        <p:grpSp>
          <p:nvGrpSpPr>
            <p:cNvPr id="92" name="Groupe 13"/>
            <p:cNvGrpSpPr/>
            <p:nvPr/>
          </p:nvGrpSpPr>
          <p:grpSpPr>
            <a:xfrm>
              <a:off x="2483280" y="2071440"/>
              <a:ext cx="3600720" cy="3446280"/>
              <a:chOff x="2483280" y="2071440"/>
              <a:chExt cx="3600720" cy="3446280"/>
            </a:xfrm>
          </p:grpSpPr>
          <p:sp>
            <p:nvSpPr>
              <p:cNvPr id="93" name="Triangle rectangle 8"/>
              <p:cNvSpPr/>
              <p:nvPr/>
            </p:nvSpPr>
            <p:spPr>
              <a:xfrm rot="8622600">
                <a:off x="2843280" y="2714400"/>
                <a:ext cx="2880720" cy="2160360"/>
              </a:xfrm>
              <a:prstGeom prst="rtTriangle">
                <a:avLst/>
              </a:prstGeom>
              <a:solidFill>
                <a:srgbClr val="9d9d9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"/>
              <p:cNvSpPr/>
              <p:nvPr/>
            </p:nvSpPr>
            <p:spPr>
              <a:xfrm rot="8622600">
                <a:off x="4629960" y="2128680"/>
                <a:ext cx="288000" cy="288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ZoneTexte 10"/>
            <p:cNvSpPr/>
            <p:nvPr/>
          </p:nvSpPr>
          <p:spPr>
            <a:xfrm>
              <a:off x="5437080" y="234936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ZoneTexte 11"/>
            <p:cNvSpPr/>
            <p:nvPr/>
          </p:nvSpPr>
          <p:spPr>
            <a:xfrm>
              <a:off x="3275640" y="236124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ZoneTexte 12"/>
            <p:cNvSpPr/>
            <p:nvPr/>
          </p:nvSpPr>
          <p:spPr>
            <a:xfrm>
              <a:off x="4212000" y="37296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Utiliser les interva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6 e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2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 = 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dmet une solution : 6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s 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ou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–1 », est 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; –1]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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]1 ; +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tre 1"/>
          <p:cNvSpPr/>
          <p:nvPr/>
        </p:nvSpPr>
        <p:spPr>
          <a:xfrm>
            <a:off x="-36360" y="1152360"/>
            <a:ext cx="932472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image de –1 est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(–1) = 9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4² = 5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dmet deux solutions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3 et –3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 est bien un antécédent de 0 car </a:t>
            </a:r>
            <a:r>
              <a:rPr b="0" i="1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3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1009800" y="3068640"/>
                <a:ext cx="69260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Croix 7"/>
          <p:cNvSpPr/>
          <p:nvPr/>
        </p:nvSpPr>
        <p:spPr>
          <a:xfrm rot="2679000">
            <a:off x="1810800" y="1244160"/>
            <a:ext cx="162900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Bouée 8"/>
          <p:cNvSpPr/>
          <p:nvPr/>
        </p:nvSpPr>
        <p:spPr>
          <a:xfrm>
            <a:off x="4572000" y="1413000"/>
            <a:ext cx="2664000" cy="1368360"/>
          </a:xfrm>
          <a:custGeom>
            <a:avLst/>
            <a:gdLst/>
            <a:ahLst/>
            <a:rect l="l" t="t" r="r" b="b"/>
            <a:pathLst>
              <a:path w="2664296" h="1368152">
                <a:moveTo>
                  <a:pt x="0" y="684076"/>
                </a:moveTo>
                <a:cubicBezTo>
                  <a:pt x="0" y="306271"/>
                  <a:pt x="596423" y="0"/>
                  <a:pt x="1332148" y="0"/>
                </a:cubicBezTo>
                <a:cubicBezTo>
                  <a:pt x="2067873" y="0"/>
                  <a:pt x="2664296" y="306271"/>
                  <a:pt x="2664296" y="684076"/>
                </a:cubicBezTo>
                <a:cubicBezTo>
                  <a:pt x="2664296" y="1061881"/>
                  <a:pt x="2067873" y="1368152"/>
                  <a:pt x="1332148" y="1368152"/>
                </a:cubicBezTo>
                <a:cubicBezTo>
                  <a:pt x="596423" y="1368152"/>
                  <a:pt x="0" y="1061881"/>
                  <a:pt x="0" y="684076"/>
                </a:cubicBezTo>
                <a:close/>
                <a:moveTo>
                  <a:pt x="109589" y="684076"/>
                </a:moveTo>
                <a:cubicBezTo>
                  <a:pt x="109589" y="1001356"/>
                  <a:pt x="656947" y="1258563"/>
                  <a:pt x="1332148" y="1258563"/>
                </a:cubicBezTo>
                <a:cubicBezTo>
                  <a:pt x="2007349" y="1258563"/>
                  <a:pt x="2554707" y="1001356"/>
                  <a:pt x="2554707" y="684076"/>
                </a:cubicBezTo>
                <a:cubicBezTo>
                  <a:pt x="2554707" y="366796"/>
                  <a:pt x="2007349" y="109589"/>
                  <a:pt x="1332148" y="109589"/>
                </a:cubicBezTo>
                <a:cubicBezTo>
                  <a:pt x="656947" y="109589"/>
                  <a:pt x="109589" y="366796"/>
                  <a:pt x="109589" y="684076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rrondie à l’unité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ce nombre est 4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rcRect l="0" t="66992" r="0" b="9371"/>
          <a:stretch/>
        </p:blipFill>
        <p:spPr>
          <a:xfrm>
            <a:off x="539640" y="2852640"/>
            <a:ext cx="80884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765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triangle rectangle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a valeur de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 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est 4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e 14"/>
          <p:cNvGrpSpPr/>
          <p:nvPr/>
        </p:nvGrpSpPr>
        <p:grpSpPr>
          <a:xfrm>
            <a:off x="2483280" y="2071440"/>
            <a:ext cx="3600720" cy="3446280"/>
            <a:chOff x="2483280" y="2071440"/>
            <a:chExt cx="3600720" cy="3446280"/>
          </a:xfrm>
        </p:grpSpPr>
        <p:grpSp>
          <p:nvGrpSpPr>
            <p:cNvPr id="149" name="Groupe 13"/>
            <p:cNvGrpSpPr/>
            <p:nvPr/>
          </p:nvGrpSpPr>
          <p:grpSpPr>
            <a:xfrm>
              <a:off x="2483280" y="2071440"/>
              <a:ext cx="3600720" cy="3446280"/>
              <a:chOff x="2483280" y="2071440"/>
              <a:chExt cx="3600720" cy="3446280"/>
            </a:xfrm>
          </p:grpSpPr>
          <p:sp>
            <p:nvSpPr>
              <p:cNvPr id="150" name="Triangle rectangle 8"/>
              <p:cNvSpPr/>
              <p:nvPr/>
            </p:nvSpPr>
            <p:spPr>
              <a:xfrm rot="8622600">
                <a:off x="2843280" y="2714400"/>
                <a:ext cx="2880720" cy="2160360"/>
              </a:xfrm>
              <a:prstGeom prst="rtTriangle">
                <a:avLst/>
              </a:prstGeom>
              <a:solidFill>
                <a:srgbClr val="9d9d9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9"/>
              <p:cNvSpPr/>
              <p:nvPr/>
            </p:nvSpPr>
            <p:spPr>
              <a:xfrm rot="8622600">
                <a:off x="4629960" y="2128680"/>
                <a:ext cx="288000" cy="288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ZoneTexte 10"/>
            <p:cNvSpPr/>
            <p:nvPr/>
          </p:nvSpPr>
          <p:spPr>
            <a:xfrm>
              <a:off x="5437080" y="234936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ZoneTexte 11"/>
            <p:cNvSpPr/>
            <p:nvPr/>
          </p:nvSpPr>
          <p:spPr>
            <a:xfrm>
              <a:off x="3275640" y="236124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ZoneTexte 12"/>
            <p:cNvSpPr/>
            <p:nvPr/>
          </p:nvSpPr>
          <p:spPr>
            <a:xfrm>
              <a:off x="4212000" y="37296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s qu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6 e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2 », est 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[6 ; + </a:t>
            </a:r>
            <a:r>
              <a:rPr b="0" lang="fr-FR" sz="8000" spc="-1" strike="noStrike">
                <a:solidFill>
                  <a:srgbClr val="0048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admet deux solutions :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0 et 2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 = 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tiliser les interva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ou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–1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-36360" y="1152360"/>
            <a:ext cx="932472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Calculer l’image de –1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4² = 5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 est-il u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ntécédent de 0 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1009800" y="3068640"/>
                <a:ext cx="69260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rrondi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 l’unité de ce nomb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rcRect l="0" t="66992" r="0" b="9371"/>
          <a:stretch/>
        </p:blipFill>
        <p:spPr>
          <a:xfrm>
            <a:off x="539640" y="2852640"/>
            <a:ext cx="80884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08T20:43:59Z</dcterms:modified>
  <cp:revision>269</cp:revision>
  <dc:subject/>
  <dc:title>Diapositive 0</dc:title>
</cp:coreProperties>
</file>