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94B-0539-4336-916C-70593A70C9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82B-9227-4D01-8766-1774EF9E3B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4C8-B99D-4C09-A88E-598AF4924B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310-0198-4B8B-A5A9-53776DCF7E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CCF-2253-41F4-B68E-3C82E2AE75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835-F2FC-4AB5-8D42-40D350FFE5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3E37-FEF2-4E4C-8119-5637F2E800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CD9-5C54-4DB8-AFE4-6194467970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2AAC-FD3A-4D8D-B879-2C066A6FC8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AC72-6537-409B-9C4D-9DA1CF776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7ACC-DE68-4C76-8444-B02D91692E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B0E-52F0-4AEC-9F81-57012F256E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DFA5-F12D-499F-9476-7723DB4BA3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571-B146-4F3D-B4B5-2F25053AD8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713-AD85-461C-B050-AB21C37D64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3E6-CFFF-47EE-8633-443E06381B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99EE-9B47-4E3F-975B-03A38F891D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78E-70ED-4131-9F41-863A5DFC95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DB1-4449-43D4-A8EC-0A05E764DC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E3C-3FA5-453C-B1A5-3E90ACB911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8F8-B0C8-4F51-B3A2-497F1D25A1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B89-CCA3-4D50-BB7A-0C4E9DDA33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89F-1E7A-4C4B-996C-A2308873D2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796-B698-41A3-AE6F-4672F37696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DE37-6929-4FAA-8748-756DA490FD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3B5C-FF11-4ADA-99A7-FE52F8A165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DB6-27D4-4D15-9EF4-417641C5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620-5ED7-45F2-9F0E-4310CEE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8BF-3CE0-4945-ABBC-5B3896EF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A5F-0A76-4FEB-8427-A7B07B78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14C-24F1-4CCE-B016-E2B04102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F97-1FA5-4BC1-8C8A-0171070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18D-7C35-48C4-837F-8170BDC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B5F-5343-4D39-8D31-ABBF4ACC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D14-A5AE-43AE-9841-F803A37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D9C-E872-4E2B-A20D-2CBB388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A7A-AA24-44B4-96AB-7018B12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24F-0CB4-408A-AA9A-0C1557E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AD9E-382B-44A4-9F6C-1D880D12E62F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F3E-748D-41E2-BD01-6222C832EC85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MÉLI-MÉLO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Écri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(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un réel différent de 1 et de –1)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176560" y="3686040"/>
                <a:ext cx="459108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Quel est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36360" y="4365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 et 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re 1"/>
          <p:cNvSpPr/>
          <p:nvPr/>
        </p:nvSpPr>
        <p:spPr>
          <a:xfrm>
            <a:off x="0" y="287964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n’est pas solution de l’inéquation ca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– 4 + 2)×(–(– 4) – 5) = 2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98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deux solutions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t         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1019160" cy="1123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1638360" cy="11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3024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e développe en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– 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² – 10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– 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xpression – (</a:t>
            </a:r>
            <a:r>
              <a:rPr b="0" i="1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∞ ; –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 –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 ∞ ; – 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– 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a simplification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87240" y="3406680"/>
                <a:ext cx="7570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roix 7"/>
          <p:cNvSpPr/>
          <p:nvPr/>
        </p:nvSpPr>
        <p:spPr>
          <a:xfrm rot="2679000">
            <a:off x="5127120" y="3476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ouée 8"/>
          <p:cNvSpPr/>
          <p:nvPr/>
        </p:nvSpPr>
        <p:spPr>
          <a:xfrm>
            <a:off x="1332000" y="364500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25600" y="2987640"/>
                <a:ext cx="7894440" cy="24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08000" y="3724200"/>
                <a:ext cx="900108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écritu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donne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roix 7"/>
          <p:cNvSpPr/>
          <p:nvPr/>
        </p:nvSpPr>
        <p:spPr>
          <a:xfrm rot="2679000">
            <a:off x="5127120" y="2900520"/>
            <a:ext cx="1629000" cy="163656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Bouée 8"/>
          <p:cNvSpPr/>
          <p:nvPr/>
        </p:nvSpPr>
        <p:spPr>
          <a:xfrm>
            <a:off x="1332000" y="306864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3636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ar exemple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5) &gt; 0.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re 1"/>
          <p:cNvSpPr/>
          <p:nvPr/>
        </p:nvSpPr>
        <p:spPr>
          <a:xfrm>
            <a:off x="-3636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l’ensemble vide noté </a:t>
            </a:r>
            <a:r>
              <a:rPr b="0" lang="fr-FR" sz="6600" spc="-1" strike="noStrike">
                <a:solidFill>
                  <a:srgbClr val="004800"/>
                </a:solidFill>
                <a:latin typeface="Symbol"/>
                <a:ea typeface="Symbol"/>
              </a:rPr>
              <a:t>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36360" y="184464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 » 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70028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est-il solution de l’inéquation suivant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évelopper l’expression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Quel est l’ensemble de définition de la fonction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95640" y="2060640"/>
                <a:ext cx="446400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Simplifier le nombre suivant où </a:t>
            </a:r>
            <a:r>
              <a:rPr b="0" i="1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st un réel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1400" y="3325680"/>
                <a:ext cx="65228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Calculer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411200" y="2908440"/>
                <a:ext cx="6121440" cy="26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4-21T08:23:01Z</dcterms:modified>
  <cp:revision>274</cp:revision>
  <dc:subject/>
  <dc:title>Diapositive 0</dc:title>
</cp:coreProperties>
</file>