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BFD-16DC-4144-84FA-5DA0417484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890-7E71-404E-AF0A-CD201EACE7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061F-485D-4B99-A3D8-64DFCF0DF8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10C-8732-47C8-A4CF-71AEF5B979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C4B-3314-49A2-8CE4-857497E7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478-0A72-42D6-A323-2FBAC17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78E-8404-44B8-A6F4-0DAC8C2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7E9-6DC6-479D-B38D-E6FFBC42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BAF-D9DE-4A4A-ABD9-23451371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B55-5A37-4D12-94BC-03968680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E18D-D648-448F-AEC4-9EA330A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C0A-5D9E-425B-BA63-B7D38BE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DCDF-1A30-46A7-8A49-1360E70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75E-8C1D-4ECB-9B58-9EAB82DC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81D-05CC-4814-AF5D-4EBBCF3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2B5-8FA2-4352-A6A4-58D9813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10C7-13FE-4F01-89F9-617CEE6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091A-7B8C-4633-983E-DB2143C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0E8A-D4B6-4A35-B7AE-9D2EE37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018-7A0F-4AD3-8658-CB8669D2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1E1-CB94-4995-869B-228FA9DC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F86-C798-44A5-A768-8FA8226C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998-1228-4797-ABFE-277AD1C1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C74-F7C2-4580-A0A1-9A002AE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8C5-7EBE-473A-8203-73D2027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CE0-8AA9-476D-A10A-F0F0AED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93A-EB5D-44AB-B8B6-28C3EA5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EB0-89EE-4A79-B4A9-58E872F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867-3DA3-43E1-90A2-8A9BB3D528A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DD6B-CF2E-4AD3-92DE-9EF203034FD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est-il isocèle en B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  <p:cxnSp>
        <p:nvCxnSpPr>
          <p:cNvPr id="234" name="Connecteur droit avec flèche 3"/>
          <p:cNvCxnSpPr/>
          <p:nvPr/>
        </p:nvCxnSpPr>
        <p:spPr>
          <a:xfrm>
            <a:off x="906480" y="3627000"/>
            <a:ext cx="1504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Connecteur droit avec flèche 10"/>
          <p:cNvCxnSpPr/>
          <p:nvPr/>
        </p:nvCxnSpPr>
        <p:spPr>
          <a:xfrm flipV="1">
            <a:off x="2387160" y="2829960"/>
            <a:ext cx="1080" cy="81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Connecteur droit avec flèche 13"/>
          <p:cNvCxnSpPr/>
          <p:nvPr/>
        </p:nvCxnSpPr>
        <p:spPr>
          <a:xfrm flipV="1">
            <a:off x="906480" y="2836440"/>
            <a:ext cx="1504080" cy="77544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37" name="ZoneTexte 5" descr=""/>
          <p:cNvPicPr/>
          <p:nvPr/>
        </p:nvPicPr>
        <p:blipFill>
          <a:blip r:embed="rId3"/>
          <a:stretch/>
        </p:blipFill>
        <p:spPr>
          <a:xfrm>
            <a:off x="7705800" y="2981160"/>
            <a:ext cx="8586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ensées 7" descr=""/>
          <p:cNvPicPr/>
          <p:nvPr/>
        </p:nvPicPr>
        <p:blipFill>
          <a:blip r:embed="rId2"/>
          <a:stretch/>
        </p:blipFill>
        <p:spPr>
          <a:xfrm>
            <a:off x="4632480" y="2743200"/>
            <a:ext cx="4316400" cy="2511360"/>
          </a:xfrm>
          <a:prstGeom prst="rect">
            <a:avLst/>
          </a:prstGeom>
          <a:ln w="0">
            <a:noFill/>
          </a:ln>
        </p:spPr>
      </p:pic>
      <p:cxnSp>
        <p:nvCxnSpPr>
          <p:cNvPr id="242" name="Connecteur droit avec flèche 3"/>
          <p:cNvCxnSpPr/>
          <p:nvPr/>
        </p:nvCxnSpPr>
        <p:spPr>
          <a:xfrm>
            <a:off x="906120" y="3615840"/>
            <a:ext cx="1478520" cy="785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3" name="Connecteur droit avec flèche 12"/>
          <p:cNvCxnSpPr/>
          <p:nvPr/>
        </p:nvCxnSpPr>
        <p:spPr>
          <a:xfrm flipV="1">
            <a:off x="898560" y="2857320"/>
            <a:ext cx="1502640" cy="77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Connecteur droit avec flèche 14"/>
          <p:cNvCxnSpPr/>
          <p:nvPr/>
        </p:nvCxnSpPr>
        <p:spPr>
          <a:xfrm>
            <a:off x="906120" y="3623760"/>
            <a:ext cx="296460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45" name="ZoneTexte 8" descr=""/>
          <p:cNvPicPr/>
          <p:nvPr/>
        </p:nvPicPr>
        <p:blipFill>
          <a:blip r:embed="rId3"/>
          <a:stretch/>
        </p:blipFill>
        <p:spPr>
          <a:xfrm>
            <a:off x="7345440" y="3236760"/>
            <a:ext cx="8604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Image 2" descr=""/>
          <p:cNvPicPr/>
          <p:nvPr/>
        </p:nvPicPr>
        <p:blipFill>
          <a:blip r:embed="rId1"/>
          <a:srcRect l="0" t="0" r="10572" b="11741"/>
          <a:stretch/>
        </p:blipFill>
        <p:spPr>
          <a:xfrm>
            <a:off x="658800" y="3438360"/>
            <a:ext cx="3733920" cy="3237120"/>
          </a:xfrm>
          <a:prstGeom prst="rect">
            <a:avLst/>
          </a:prstGeom>
          <a:ln w="0">
            <a:noFill/>
          </a:ln>
        </p:spPr>
      </p:pic>
      <p:sp>
        <p:nvSpPr>
          <p:cNvPr id="328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0560" y="1817640"/>
            <a:ext cx="43084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our le triangle ABC 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C’est l’orthocentr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 et Q appartiennent au cercle de diamètre [AB] donc APB et AQB sont respectivement rectangles en P et Q. Le point D est donc l’intersection des hauteurs (BP) et (AQ)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11080" y="3495600"/>
            <a:ext cx="3392640" cy="3044880"/>
          </a:xfrm>
          <a:prstGeom prst="rect">
            <a:avLst/>
          </a:prstGeom>
          <a:ln w="0">
            <a:noFill/>
          </a:ln>
        </p:spPr>
      </p:pic>
      <p:sp>
        <p:nvSpPr>
          <p:cNvPr id="333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74960" y="1995480"/>
            <a:ext cx="4203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O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D est l’orthocentre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La droite (CD) est la troisième hauteur du triangle ABC, elle coupe donc  [AB] perpendiculair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onnecteur droit 3"/>
          <p:cNvSpPr/>
          <p:nvPr/>
        </p:nvSpPr>
        <p:spPr>
          <a:xfrm flipH="1" flipV="1">
            <a:off x="2000160" y="3336840"/>
            <a:ext cx="7920" cy="318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023920" y="6188040"/>
            <a:ext cx="189000" cy="19692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1824"/>
              <a:gd name="adj2" fmla="val -8016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1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pic>
        <p:nvPicPr>
          <p:cNvPr id="342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772320" cy="26211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54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501560" y="3836520"/>
            <a:ext cx="65610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(EI) est une médiane du triangle 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7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pic>
        <p:nvPicPr>
          <p:cNvPr id="368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564240" cy="26211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7760" y="1439640"/>
            <a:ext cx="847404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75200" y="1775880"/>
            <a:ext cx="39038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BC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6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75200" y="1995480"/>
            <a:ext cx="39038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lles sont les coordonnées du point I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44:10Z</dcterms:created>
  <dc:creator>Isabelle</dc:creator>
  <dc:description/>
  <dc:language>en-US</dc:language>
  <cp:lastModifiedBy>auderi</cp:lastModifiedBy>
  <dcterms:modified xsi:type="dcterms:W3CDTF">2016-07-11T19:07:53Z</dcterms:modified>
  <cp:revision>52</cp:revision>
  <dc:subject/>
  <dc:title>Présentation PowerPoint</dc:title>
</cp:coreProperties>
</file>