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D86-C0E0-49D6-856A-99C742E3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8A3-6A38-4C2E-A262-1398D93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E45-3BE4-4843-8668-66A305DF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973-905F-458C-AD60-0ED7E495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F572-783F-4AD3-99E1-991D9064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EFE4-CC10-4F32-BC6A-FCA901CA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058F-79E6-4191-9F30-2074463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A91-6684-41C6-8854-CE71D9DB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4F0-90DB-4ACB-AEB1-5F4879BE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DFD-FAEC-4EDA-BB3F-FBDBBE7F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49C-3587-479D-9C8F-CF9C396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D50-954B-409E-B6BB-53CB72AB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61D-BF76-4CAC-BE0F-BED0EFF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F834-91C0-4455-8D16-9445EA1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B54-345F-4DCC-8BCC-32D6162C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74CE-1111-4834-8298-2BF0D3C1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C839-370E-48E0-8C45-A30F14C4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7EA8-E369-4DD5-AD70-628426DA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D678-C8CE-40C3-8726-87CB6BC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317E-DCB1-4496-B888-775C522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F7A7-EB22-4E9C-9515-8D34C26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A866-1754-4FEE-8443-B9762A7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046-AC8D-491B-A9C7-614C5847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969A-6EA6-4EFE-84E1-560956F6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E287-5629-491A-9228-B7ADDFA1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0787-59D1-4FE6-93DA-82B81ED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E461-19E8-4B72-A1D9-D5B4DFE0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2AB6-9BEC-42B9-9D6E-3FC625C5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D4FB-38E9-4038-A1EB-0E3010C5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CDCE-3E17-4FBE-B8EB-D74A0A90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79A4-E4D1-4EFA-9A10-01397D82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F2DB-C07A-436E-83D3-74AFAE5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B053-A6D1-4FC8-912B-252921B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BB9-DA2C-4511-B45C-A66437A1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E45A-1DF7-4921-9980-C066278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DE8A-20A9-4DD8-AEFD-871C5CD9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091C-D692-4E6D-98D8-4218FD1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1990-9F66-474C-A5A2-58C43402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8B22-B681-4FB4-BD72-A943B991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B583B-02C2-4E6F-8D24-CBB8AEA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D06D-D4B0-43AF-9C38-56E9BEC6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C949-BAAE-43FF-B314-FF2D5644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D267-BC39-401D-932A-6BCAD8A5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76B-1C0A-46DE-A7F3-AB526A34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75C-7E5E-430A-8961-F5CABDB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CE6-BAF3-477C-9AEF-DC2291E5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A72-A051-4F45-8B80-869F40D9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867-47AC-4C56-91CC-2D2E696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880-21EC-4FB1-8865-A3A7A697E45B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21C-7AFE-4406-ABF8-4093027477C6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0618-075A-4498-AC82-FBC02BF936B0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19B9-6951-4E6E-BA4B-FE99AAE0CDE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6282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89ca3"/>
                </a:solidFill>
                <a:latin typeface="Constantia"/>
              </a:rPr>
              <a:t>Coordonnées de points du pla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89ca3"/>
                </a:solidFill>
                <a:latin typeface="Constantia"/>
              </a:rPr>
              <a:t>Série 3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itre 1"/>
          <p:cNvSpPr/>
          <p:nvPr/>
        </p:nvSpPr>
        <p:spPr>
          <a:xfrm>
            <a:off x="0" y="481968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686d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 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411280" y="907920"/>
            <a:ext cx="4676760" cy="4819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3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587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83763"/>
                </a:solidFill>
                <a:latin typeface="Constantia"/>
              </a:rPr>
              <a:t>[AB] est un diamètre du cerc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23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3)          B( 4 ; 7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−3)       B( 4 ; </a:t>
            </a:r>
            <a:r>
              <a:rPr b="0" lang="fr-FR" sz="6600" spc="-1" strike="noStrike">
                <a:solidFill>
                  <a:srgbClr val="004e6d"/>
                </a:solidFill>
                <a:latin typeface="Constantia"/>
              </a:rPr>
              <a:t>−</a:t>
            </a: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1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01400" y="90792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2637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3763"/>
                </a:solidFill>
                <a:latin typeface="Constantia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llipse 2"/>
          <p:cNvSpPr/>
          <p:nvPr/>
        </p:nvSpPr>
        <p:spPr>
          <a:xfrm>
            <a:off x="108000" y="2351160"/>
            <a:ext cx="19429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Image 1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484360" y="911160"/>
            <a:ext cx="5419800" cy="5467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ZoneTexte 12" descr=""/>
          <p:cNvPicPr/>
          <p:nvPr/>
        </p:nvPicPr>
        <p:blipFill>
          <a:blip r:embed="rId2"/>
          <a:stretch/>
        </p:blipFill>
        <p:spPr>
          <a:xfrm>
            <a:off x="371520" y="2548080"/>
            <a:ext cx="14144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llipse 2"/>
          <p:cNvSpPr/>
          <p:nvPr/>
        </p:nvSpPr>
        <p:spPr>
          <a:xfrm>
            <a:off x="179280" y="2346480"/>
            <a:ext cx="1944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Image 7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556000" y="933480"/>
            <a:ext cx="5362560" cy="5429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ZoneTexte 13" descr=""/>
          <p:cNvPicPr/>
          <p:nvPr/>
        </p:nvPicPr>
        <p:blipFill>
          <a:blip r:embed="rId2"/>
          <a:stretch/>
        </p:blipFill>
        <p:spPr>
          <a:xfrm>
            <a:off x="444600" y="2541600"/>
            <a:ext cx="141444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llipse 2"/>
          <p:cNvSpPr/>
          <p:nvPr/>
        </p:nvSpPr>
        <p:spPr>
          <a:xfrm>
            <a:off x="19080" y="194796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Image 12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635280" y="1020600"/>
            <a:ext cx="5010120" cy="5391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ZoneTexte 15" descr=""/>
          <p:cNvPicPr/>
          <p:nvPr/>
        </p:nvPicPr>
        <p:blipFill>
          <a:blip r:embed="rId2"/>
          <a:stretch/>
        </p:blipFill>
        <p:spPr>
          <a:xfrm>
            <a:off x="262080" y="2114640"/>
            <a:ext cx="33717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llipse 2"/>
          <p:cNvSpPr/>
          <p:nvPr/>
        </p:nvSpPr>
        <p:spPr>
          <a:xfrm>
            <a:off x="0" y="1859040"/>
            <a:ext cx="353520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Image 14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606840" y="930240"/>
            <a:ext cx="4857840" cy="54770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ZoneTexte 17" descr=""/>
          <p:cNvPicPr/>
          <p:nvPr/>
        </p:nvPicPr>
        <p:blipFill>
          <a:blip r:embed="rId2"/>
          <a:stretch/>
        </p:blipFill>
        <p:spPr>
          <a:xfrm>
            <a:off x="841320" y="2030400"/>
            <a:ext cx="1846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llipse 2"/>
          <p:cNvSpPr/>
          <p:nvPr/>
        </p:nvSpPr>
        <p:spPr>
          <a:xfrm>
            <a:off x="44280" y="242100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Image 19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3708360" y="1341360"/>
            <a:ext cx="5176800" cy="49021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87" name="ZoneTexte 20" descr=""/>
          <p:cNvPicPr/>
          <p:nvPr/>
        </p:nvPicPr>
        <p:blipFill>
          <a:blip r:embed="rId2"/>
          <a:stretch/>
        </p:blipFill>
        <p:spPr>
          <a:xfrm>
            <a:off x="328680" y="2590920"/>
            <a:ext cx="33782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llipse 2"/>
          <p:cNvSpPr/>
          <p:nvPr/>
        </p:nvSpPr>
        <p:spPr>
          <a:xfrm>
            <a:off x="34920" y="226548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Image 21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3924360" y="1128600"/>
            <a:ext cx="5029200" cy="49644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307" name="ZoneTexte 22" descr=""/>
          <p:cNvPicPr/>
          <p:nvPr/>
        </p:nvPicPr>
        <p:blipFill>
          <a:blip r:embed="rId2"/>
          <a:stretch/>
        </p:blipFill>
        <p:spPr>
          <a:xfrm>
            <a:off x="152280" y="2432160"/>
            <a:ext cx="377352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46852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6686d"/>
                </a:solidFill>
                <a:latin typeface="Constantia"/>
              </a:rPr>
              <a:t>Déterminer la distance AB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llipse 2"/>
          <p:cNvSpPr/>
          <p:nvPr/>
        </p:nvSpPr>
        <p:spPr>
          <a:xfrm>
            <a:off x="0" y="254016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5" name="Image 20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780000" y="1170000"/>
            <a:ext cx="5038560" cy="4943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ZoneTexte 23" descr=""/>
          <p:cNvPicPr/>
          <p:nvPr/>
        </p:nvPicPr>
        <p:blipFill>
          <a:blip r:embed="rId2"/>
          <a:stretch/>
        </p:blipFill>
        <p:spPr>
          <a:xfrm>
            <a:off x="244440" y="2706840"/>
            <a:ext cx="35784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llipse 2"/>
          <p:cNvSpPr/>
          <p:nvPr/>
        </p:nvSpPr>
        <p:spPr>
          <a:xfrm>
            <a:off x="1800360" y="771480"/>
            <a:ext cx="5543280" cy="105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Image 2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233440" y="1822320"/>
            <a:ext cx="4677120" cy="4819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ZoneTexte 3" descr=""/>
          <p:cNvPicPr/>
          <p:nvPr/>
        </p:nvPicPr>
        <p:blipFill>
          <a:blip r:embed="rId2"/>
          <a:stretch/>
        </p:blipFill>
        <p:spPr>
          <a:xfrm>
            <a:off x="2060640" y="1011240"/>
            <a:ext cx="5022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1934640"/>
            <a:ext cx="9144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3)        B( 4 ; 7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Ellipse 5"/>
          <p:cNvSpPr/>
          <p:nvPr/>
        </p:nvSpPr>
        <p:spPr>
          <a:xfrm>
            <a:off x="2340000" y="378936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ZoneTexte 7" descr=""/>
          <p:cNvPicPr/>
          <p:nvPr/>
        </p:nvPicPr>
        <p:blipFill>
          <a:blip r:embed="rId1"/>
          <a:stretch/>
        </p:blipFill>
        <p:spPr>
          <a:xfrm>
            <a:off x="2743200" y="3956040"/>
            <a:ext cx="31399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0" y="1935000"/>
            <a:ext cx="9144000" cy="28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−3)      B( 4 ; −1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Ellipse 5"/>
          <p:cNvSpPr/>
          <p:nvPr/>
        </p:nvSpPr>
        <p:spPr>
          <a:xfrm>
            <a:off x="2411280" y="384660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01400" y="90792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ZoneTexte 11" descr=""/>
          <p:cNvPicPr/>
          <p:nvPr/>
        </p:nvPicPr>
        <p:blipFill>
          <a:blip r:embed="rId1"/>
          <a:stretch/>
        </p:blipFill>
        <p:spPr>
          <a:xfrm>
            <a:off x="2755800" y="4017960"/>
            <a:ext cx="3376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278136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3763"/>
                </a:solidFill>
                <a:latin typeface="Constant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 5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1862280" y="907920"/>
            <a:ext cx="5419440" cy="5467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199" name="Rectangle 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 4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1890720" y="922320"/>
            <a:ext cx="5362560" cy="5429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1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 3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066760" y="907920"/>
            <a:ext cx="5010480" cy="5391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3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Image 2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235240" y="907920"/>
            <a:ext cx="4857840" cy="54770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5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2050920" y="1170000"/>
            <a:ext cx="5400720" cy="5067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2050920" y="1125360"/>
            <a:ext cx="5224680" cy="5040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 3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052720" y="1077840"/>
            <a:ext cx="5038560" cy="4943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2:33:28Z</dcterms:created>
  <dc:creator>RIGAUX</dc:creator>
  <dc:description/>
  <dc:language>en-US</dc:language>
  <cp:lastModifiedBy>auderi</cp:lastModifiedBy>
  <dcterms:modified xsi:type="dcterms:W3CDTF">2016-07-02T13:53:41Z</dcterms:modified>
  <cp:revision>52</cp:revision>
  <dc:subject/>
  <dc:title>Calculer une distance</dc:title>
</cp:coreProperties>
</file>