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EDFD-AF4A-48B6-A351-8DD0564A87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A460-0CCC-4CE2-9EEE-28423A138F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FA5-1481-43A6-BA64-CD1421A7E2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B61-0A92-40E8-9B85-288C0CD7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AD9-AF05-4127-B3F6-ADE9261E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DB3-AB3B-46A6-BD52-D7A0083E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2E3-D41F-4E43-A40C-95988505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0AC-F76B-4E2C-80BA-A42164E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0A9-E3A6-4BC8-A6D5-AB010C19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A78-5840-420D-95DE-870313D0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623-02EA-42F1-A748-3E75A41D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86B-A4DE-4420-B13D-0007D254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41D-4FE6-4F8E-A83B-89E4F086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695-7281-4041-8594-7D500959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F68-F2D8-4EC9-A6AA-7E76FA1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AD0-FC96-43F4-BC60-2E4BDB0218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240" y="2133360"/>
            <a:ext cx="911376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Géométrie dans l’espace : solides et volumes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219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5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5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1599840"/>
            <a:ext cx="9144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988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Donner le nom du solid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(ex : cube, pyramide, …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0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7"/>
          <p:cNvSpPr/>
          <p:nvPr/>
        </p:nvSpPr>
        <p:spPr>
          <a:xfrm>
            <a:off x="0" y="486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avé droit  ou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arallélépipède rectang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yramid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98864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Donner le nom du solid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(ex : cube, pyramide, …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risme dro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 5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 10" descr=""/>
          <p:cNvPicPr/>
          <p:nvPr/>
        </p:nvPicPr>
        <p:blipFill>
          <a:blip r:embed="rId1"/>
          <a:stretch/>
        </p:blipFill>
        <p:spPr>
          <a:xfrm>
            <a:off x="71280" y="1143000"/>
            <a:ext cx="900144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Tétraèd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7"/>
          <p:cNvSpPr/>
          <p:nvPr/>
        </p:nvSpPr>
        <p:spPr>
          <a:xfrm>
            <a:off x="0" y="486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Prisme droi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0" y="1960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er le volu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u soli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1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ensées 10"/>
          <p:cNvSpPr/>
          <p:nvPr/>
        </p:nvSpPr>
        <p:spPr>
          <a:xfrm>
            <a:off x="0" y="4005360"/>
            <a:ext cx="385128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vé droit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yramid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)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7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19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mage 6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9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8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30  </a:t>
            </a:r>
            <a:r>
              <a:rPr b="0" lang="fr-FR" sz="3600" spc="-1" strike="noStrike">
                <a:solidFill>
                  <a:srgbClr val="4a452a"/>
                </a:solidFill>
                <a:latin typeface="Calibri"/>
              </a:rPr>
              <a:t>    B = (4</a:t>
            </a:r>
            <a:r>
              <a:rPr b="0" lang="fr-FR" sz="2800" spc="-1" strike="noStrike">
                <a:solidFill>
                  <a:srgbClr val="4a452a"/>
                </a:solidFill>
                <a:latin typeface="Calibri"/>
              </a:rPr>
              <a:t>x</a:t>
            </a:r>
            <a:r>
              <a:rPr b="0" lang="fr-FR" sz="3600" spc="-1" strike="noStrike">
                <a:solidFill>
                  <a:srgbClr val="4a452a"/>
                </a:solidFill>
                <a:latin typeface="Calibri"/>
              </a:rPr>
              <a:t>3)/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ism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Image 6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mage 13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9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10    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B = (4</a:t>
            </a:r>
            <a:r>
              <a:rPr b="0" lang="fr-FR" sz="2800" spc="-1" strike="noStrike">
                <a:solidFill>
                  <a:srgbClr val="4a452a"/>
                </a:solidFill>
                <a:latin typeface="Calibri"/>
              </a:rPr>
              <a:t>x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3)/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ensées 10"/>
          <p:cNvSpPr/>
          <p:nvPr/>
        </p:nvSpPr>
        <p:spPr>
          <a:xfrm>
            <a:off x="0" y="4005360"/>
            <a:ext cx="3708360" cy="2303280"/>
          </a:xfrm>
          <a:prstGeom prst="cloudCallout">
            <a:avLst>
              <a:gd name="adj1" fmla="val 77699"/>
              <a:gd name="adj2" fmla="val 5523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Tétraèdre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B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H)/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Image 6" descr=""/>
          <p:cNvPicPr/>
          <p:nvPr/>
        </p:nvPicPr>
        <p:blipFill>
          <a:blip r:embed="rId1"/>
          <a:stretch/>
        </p:blipFill>
        <p:spPr>
          <a:xfrm>
            <a:off x="15840" y="1143000"/>
            <a:ext cx="9112320" cy="4572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5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8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10) Solide DIBCHJF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 milieu de [AB]                            J milieu de [EF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oneTexte 7"/>
          <p:cNvSpPr/>
          <p:nvPr/>
        </p:nvSpPr>
        <p:spPr>
          <a:xfrm>
            <a:off x="0" y="4869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4a452a"/>
                </a:solidFill>
                <a:latin typeface="Calibri"/>
              </a:rPr>
              <a:t>                               </a:t>
            </a:r>
            <a:r>
              <a:rPr b="0" lang="fr-FR" sz="6600" spc="-1" strike="noStrike">
                <a:solidFill>
                  <a:srgbClr val="4a452a"/>
                </a:solidFill>
                <a:latin typeface="Calibri"/>
              </a:rPr>
              <a:t>90     </a:t>
            </a:r>
            <a:r>
              <a:rPr b="0" lang="fr-FR" sz="4000" spc="-1" strike="noStrike">
                <a:solidFill>
                  <a:srgbClr val="4a452a"/>
                </a:solidFill>
                <a:latin typeface="Calibri"/>
              </a:rPr>
              <a:t>(120 − 3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ensées 10"/>
          <p:cNvSpPr/>
          <p:nvPr/>
        </p:nvSpPr>
        <p:spPr>
          <a:xfrm>
            <a:off x="0" y="4653000"/>
            <a:ext cx="3635280" cy="1944720"/>
          </a:xfrm>
          <a:prstGeom prst="cloudCallout">
            <a:avLst>
              <a:gd name="adj1" fmla="val 77699"/>
              <a:gd name="adj2" fmla="val -3879"/>
            </a:avLst>
          </a:pr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V(pavé) − V(JEHIA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360" y="1557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2) Solide JABC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3) Solide JEHI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4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4) Solide JAD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5) Solide DIBCHJF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7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960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er le volu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u solide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6) Solide ABCDEFG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0" y="558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 milieu de [AB], J milieu de [EF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5" descr=""/>
          <p:cNvPicPr/>
          <p:nvPr/>
        </p:nvPicPr>
        <p:blipFill>
          <a:blip r:embed="rId1"/>
          <a:stretch/>
        </p:blipFill>
        <p:spPr>
          <a:xfrm>
            <a:off x="14400" y="1143000"/>
            <a:ext cx="91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gaux</dc:creator>
  <dc:description/>
  <dc:language>en-US</dc:language>
  <cp:lastModifiedBy>auderi</cp:lastModifiedBy>
  <dcterms:modified xsi:type="dcterms:W3CDTF">2016-06-30T08:29:37Z</dcterms:modified>
  <cp:revision>107</cp:revision>
  <dc:subject/>
  <dc:title>Espace: solides et volumes</dc:title>
</cp:coreProperties>
</file>