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AC7F-139A-4DFA-A1CE-F605C4468C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144-1A6D-4416-830D-8A82F26770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8DE-A365-4DAE-B2AF-6029F86032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688-E8B7-4C49-B1D3-B348004660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8F75-A847-4E77-A168-6F9D659163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338-A16C-4571-AEA9-75F2FCD1E4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C11-CB75-470F-9B0F-2CC3D108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4DD-5FCD-462D-AA25-338920BA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D46-BB1D-4FE7-AA5C-FD8733E7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F85-89B4-4186-9CF1-77243E9C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A6E-AC9C-4C47-B4F0-BCA9632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343-1C13-43C3-97E3-8B8FC663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BA7-D0C7-4990-841A-4A1375A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C70-3371-47C6-81B6-38AE9FE2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A9E-2644-49A3-853E-E324003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5E9-9729-4D1E-91D4-044F84C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589-98B0-42DD-BF08-8AE8242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64E-9E2B-4A9B-ACDD-53E8D42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FAD6-6E4E-44F5-A9F6-DC1F50EAF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3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17672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8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216036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c00000"/>
                </a:solidFill>
                <a:latin typeface="Calibri"/>
              </a:rPr>
              <a:t>Usain Bol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rd du monde au 100 m 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3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Pour le suivre sur sa course, nous pourrions util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971640" y="38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A 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un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4716360" y="3860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B 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un sc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6"/>
          <p:cNvSpPr/>
          <p:nvPr/>
        </p:nvSpPr>
        <p:spPr>
          <a:xfrm>
            <a:off x="990720" y="49528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 :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une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7"/>
          <p:cNvSpPr/>
          <p:nvPr/>
        </p:nvSpPr>
        <p:spPr>
          <a:xfrm>
            <a:off x="4716360" y="4941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 :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Red Bull de Sebastian Ve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9"/>
          <p:cNvSpPr/>
          <p:nvPr/>
        </p:nvSpPr>
        <p:spPr>
          <a:xfrm>
            <a:off x="305928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 s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3"/>
          <p:cNvSpPr/>
          <p:nvPr/>
        </p:nvSpPr>
        <p:spPr>
          <a:xfrm>
            <a:off x="611280" y="76500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r la feuille blanch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près avoir noté tes nom et préno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 rédigeras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une argumen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justifiant le choix de ta ré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après recherche sur le brouill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n texte devra être suffisamment cl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être projeté et présenté à la c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000" y="692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groupes de trois ou quatre, échangez vos productions et choisissez la mieux about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peut être envisagé de faire une nouvelle copie commune regroupant plusieurs idé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rapporteur sera désigné pour présenter votre réponse à la cla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lon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Selon vous, Usain cou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3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4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0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) En courant le 100 m à ses côtés, quelle distance auriez-vous couru lorsque Usain franchit la ligne d’arrivée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3) Les records d’Usain : 100 m : 9 s 58  ;  200 m : 19 s 1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st-il plus rapide sur le 100 m ou le 200 m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56:15Z</dcterms:created>
  <dc:creator>COVINHES</dc:creator>
  <dc:description/>
  <dc:language>en-US</dc:language>
  <cp:lastModifiedBy>maman</cp:lastModifiedBy>
  <dcterms:modified xsi:type="dcterms:W3CDTF">2012-07-03T16:55:40Z</dcterms:modified>
  <cp:revision>14</cp:revision>
  <dc:subject/>
  <dc:title>Diapositive 1</dc:title>
</cp:coreProperties>
</file>