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0AB57-E752-41E0-ACDD-32D09D79F132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7A426-40F3-4625-982B-308F58121376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676ED-AC38-4F70-A01A-5A4537F48696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BCD0B-E99D-4C6D-A054-13FBF0248269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92CFD-E3E5-430F-9329-1261F1A29248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961B8-0350-413E-9F33-301EDAD73A9D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95CB9-3B7D-4E2D-A7B2-1F48DBDCC1B2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1D662-1945-425E-8CEC-1BF47E557C64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344FE-6D03-406B-AD7E-3A711FC7D735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46B50-5FD0-4A38-A3A6-730C87683EA2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DC49F-4DA3-4672-8BFE-CC36107FACA9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9AE92-2594-493A-85DA-3BA33F66FD0C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9C499-94AC-40BC-A986-6337BB185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58086-7A25-4204-8CD7-4D520B3FF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0386C-2D60-443A-B9D5-D8A6FCCFC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26CD8-1655-4F05-91C8-48C776702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C3262-300F-4E2C-AEA4-837377A5E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50B1D-D53C-4E31-91B6-1DADA9D53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0B274-6F46-4524-B10B-ECD15121D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6BEF0-2B2A-410F-8654-B96E32C11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6039A-D9EE-400D-9241-77CB04334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E1254-80F7-4025-B23D-54D0D689F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E62B7-B971-453B-984F-F1168F69A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B1DF3-8417-4926-928C-F7B4D1802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CD85E-0FAA-448A-A2E3-9E0CCE2CC57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0160" y="1844280"/>
            <a:ext cx="912348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ff6600"/>
                </a:solidFill>
                <a:latin typeface="Georgia"/>
                <a:ea typeface="Arial"/>
              </a:rPr>
              <a:t>TRIGONOMÉTRIE</a:t>
            </a:r>
            <a:br>
              <a:rPr sz="6600"/>
            </a:br>
            <a:r>
              <a:rPr b="1" lang="fr-FR" sz="6600" spc="-1" strike="noStrike">
                <a:solidFill>
                  <a:srgbClr val="ff6600"/>
                </a:solidFill>
                <a:latin typeface="Georgia"/>
                <a:ea typeface="Arial"/>
              </a:rPr>
              <a:t>SÉRIE 2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itre 1"/>
          <p:cNvSpPr/>
          <p:nvPr/>
        </p:nvSpPr>
        <p:spPr>
          <a:xfrm>
            <a:off x="20520" y="4508640"/>
            <a:ext cx="9144000" cy="13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00"/>
                </a:solidFill>
                <a:latin typeface="Arial"/>
                <a:ea typeface="Arial"/>
              </a:rPr>
              <a:t>Calcul mental et automatismes – IREM de Clermont-Ferra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360" y="339480"/>
            <a:ext cx="3995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6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Espace réservé du contenu 2" descr=""/>
          <p:cNvPicPr/>
          <p:nvPr/>
        </p:nvPicPr>
        <p:blipFill>
          <a:blip r:embed="rId1"/>
          <a:stretch/>
        </p:blipFill>
        <p:spPr>
          <a:xfrm>
            <a:off x="324000" y="2335320"/>
            <a:ext cx="3181320" cy="26082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" descr="geogebra"/>
          <p:cNvPicPr/>
          <p:nvPr/>
        </p:nvPicPr>
        <p:blipFill>
          <a:blip r:embed="rId2"/>
          <a:stretch/>
        </p:blipFill>
        <p:spPr>
          <a:xfrm>
            <a:off x="2884320" y="549360"/>
            <a:ext cx="6204240" cy="594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-360" y="339480"/>
            <a:ext cx="3995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7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Espace réservé du contenu 2" descr=""/>
          <p:cNvPicPr/>
          <p:nvPr/>
        </p:nvPicPr>
        <p:blipFill>
          <a:blip r:embed="rId1"/>
          <a:stretch/>
        </p:blipFill>
        <p:spPr>
          <a:xfrm>
            <a:off x="324000" y="2335320"/>
            <a:ext cx="2962080" cy="23763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" descr="geogebra"/>
          <p:cNvPicPr/>
          <p:nvPr/>
        </p:nvPicPr>
        <p:blipFill>
          <a:blip r:embed="rId2"/>
          <a:stretch/>
        </p:blipFill>
        <p:spPr>
          <a:xfrm>
            <a:off x="2884320" y="549360"/>
            <a:ext cx="6204240" cy="594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-360" y="339480"/>
            <a:ext cx="3995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8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Espace réservé du contenu 2" descr=""/>
          <p:cNvPicPr/>
          <p:nvPr/>
        </p:nvPicPr>
        <p:blipFill>
          <a:blip r:embed="rId1"/>
          <a:stretch/>
        </p:blipFill>
        <p:spPr>
          <a:xfrm>
            <a:off x="324000" y="2335320"/>
            <a:ext cx="2962080" cy="23763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2" descr="geogebra"/>
          <p:cNvPicPr/>
          <p:nvPr/>
        </p:nvPicPr>
        <p:blipFill>
          <a:blip r:embed="rId2"/>
          <a:stretch/>
        </p:blipFill>
        <p:spPr>
          <a:xfrm>
            <a:off x="2884320" y="549360"/>
            <a:ext cx="6204240" cy="594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-360" y="339480"/>
            <a:ext cx="3995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9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Espace réservé du contenu 2" descr=""/>
          <p:cNvPicPr/>
          <p:nvPr/>
        </p:nvPicPr>
        <p:blipFill>
          <a:blip r:embed="rId1"/>
          <a:stretch/>
        </p:blipFill>
        <p:spPr>
          <a:xfrm>
            <a:off x="324000" y="2206800"/>
            <a:ext cx="3035160" cy="25174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geogebra"/>
          <p:cNvPicPr/>
          <p:nvPr/>
        </p:nvPicPr>
        <p:blipFill>
          <a:blip r:embed="rId2"/>
          <a:stretch/>
        </p:blipFill>
        <p:spPr>
          <a:xfrm>
            <a:off x="2884320" y="549360"/>
            <a:ext cx="6204240" cy="594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-360" y="339480"/>
            <a:ext cx="3995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0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Espace réservé du contenu 2" descr=""/>
          <p:cNvPicPr/>
          <p:nvPr/>
        </p:nvPicPr>
        <p:blipFill>
          <a:blip r:embed="rId1"/>
          <a:stretch/>
        </p:blipFill>
        <p:spPr>
          <a:xfrm>
            <a:off x="324000" y="2206800"/>
            <a:ext cx="3035160" cy="25174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" descr="geogebra"/>
          <p:cNvPicPr/>
          <p:nvPr/>
        </p:nvPicPr>
        <p:blipFill>
          <a:blip r:embed="rId2"/>
          <a:stretch/>
        </p:blipFill>
        <p:spPr>
          <a:xfrm>
            <a:off x="2884320" y="549360"/>
            <a:ext cx="6204240" cy="594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2565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ff6600"/>
                </a:solidFill>
                <a:latin typeface="Georgia"/>
              </a:rPr>
              <a:t>FIN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2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 segments orange partagent le cercle trigonométrique en douze angles de 30° et les segments verts en huit angles de 45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" descr="geogebra"/>
          <p:cNvPicPr/>
          <p:nvPr/>
        </p:nvPicPr>
        <p:blipFill>
          <a:blip r:embed="rId2"/>
          <a:stretch/>
        </p:blipFill>
        <p:spPr>
          <a:xfrm>
            <a:off x="1835280" y="1601640"/>
            <a:ext cx="548460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2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er chacun des nombr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onnés à un point du cercle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" descr="geogebra"/>
          <p:cNvPicPr/>
          <p:nvPr/>
        </p:nvPicPr>
        <p:blipFill>
          <a:blip r:embed="rId2"/>
          <a:stretch/>
        </p:blipFill>
        <p:spPr>
          <a:xfrm>
            <a:off x="1835280" y="1601640"/>
            <a:ext cx="548460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-360" y="339480"/>
            <a:ext cx="3995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0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Espace réservé du contenu 2" descr=""/>
          <p:cNvPicPr/>
          <p:nvPr/>
        </p:nvPicPr>
        <p:blipFill>
          <a:blip r:embed="rId1"/>
          <a:stretch/>
        </p:blipFill>
        <p:spPr>
          <a:xfrm>
            <a:off x="573120" y="2541600"/>
            <a:ext cx="2962080" cy="23781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" descr="geogebra"/>
          <p:cNvPicPr/>
          <p:nvPr/>
        </p:nvPicPr>
        <p:blipFill>
          <a:blip r:embed="rId2"/>
          <a:stretch/>
        </p:blipFill>
        <p:spPr>
          <a:xfrm>
            <a:off x="2884320" y="549360"/>
            <a:ext cx="6204240" cy="5946840"/>
          </a:xfrm>
          <a:prstGeom prst="rect">
            <a:avLst/>
          </a:prstGeom>
          <a:ln w="0">
            <a:noFill/>
          </a:ln>
        </p:spPr>
      </p:pic>
      <p:sp>
        <p:nvSpPr>
          <p:cNvPr id="59" name="Flèche courbée vers le haut 3"/>
          <p:cNvSpPr/>
          <p:nvPr/>
        </p:nvSpPr>
        <p:spPr>
          <a:xfrm>
            <a:off x="2050920" y="3728880"/>
            <a:ext cx="1258920" cy="576360"/>
          </a:xfrm>
          <a:custGeom>
            <a:avLst/>
            <a:gdLst>
              <a:gd name="textAreaLeft" fmla="*/ 260640 w 1258920"/>
              <a:gd name="textAreaRight" fmla="*/ 926280 w 1258920"/>
              <a:gd name="textAreaTop" fmla="*/ 77040 h 576360"/>
              <a:gd name="textAreaBottom" fmla="*/ 4993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8946" hR="21600" stAng="10800000" swAng="-5400000"/>
                <a:lnTo>
                  <a:pt x="11418" y="21600"/>
                </a:lnTo>
                <a:arcTo wR="8946" hR="21600" stAng="5400000" swAng="-3483591"/>
                <a:lnTo>
                  <a:pt x="21316" y="5400"/>
                </a:lnTo>
                <a:lnTo>
                  <a:pt x="19128" y="0"/>
                </a:lnTo>
                <a:lnTo>
                  <a:pt x="16372" y="5400"/>
                </a:lnTo>
                <a:lnTo>
                  <a:pt x="17608" y="5400"/>
                </a:lnTo>
                <a:arcTo wR="8946" hR="21600" stAng="1916409" swAng="3285191"/>
                <a:lnTo>
                  <a:pt x="10182" y="21393"/>
                </a:lnTo>
                <a:arcTo wR="8946" hR="21600" stAng="5598400" swAng="5201600"/>
                <a:close/>
              </a:path>
              <a:path fill="darkenLess" w="21600" h="21600">
                <a:moveTo>
                  <a:pt x="0" y="0"/>
                </a:moveTo>
                <a:arcTo wR="8946" hR="21600" stAng="10800000" swAng="-5400000"/>
                <a:lnTo>
                  <a:pt x="11418" y="21600"/>
                </a:lnTo>
                <a:arcTo wR="8946" hR="21600" stAng="5400000" swAng="198400"/>
                <a:lnTo>
                  <a:pt x="10182" y="21393"/>
                </a:lnTo>
                <a:arcTo wR="8946" hR="21600" stAng="5598400" swAng="5201600"/>
                <a:close/>
              </a:path>
            </a:pathLst>
          </a:custGeom>
          <a:solidFill>
            <a:srgbClr val="ff6600"/>
          </a:solidFill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339480"/>
            <a:ext cx="3995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Espace réservé du contenu 2" descr=""/>
          <p:cNvPicPr/>
          <p:nvPr/>
        </p:nvPicPr>
        <p:blipFill>
          <a:blip r:embed="rId1"/>
          <a:stretch/>
        </p:blipFill>
        <p:spPr>
          <a:xfrm>
            <a:off x="542880" y="2494080"/>
            <a:ext cx="2962440" cy="23763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" descr="geogebra"/>
          <p:cNvPicPr/>
          <p:nvPr/>
        </p:nvPicPr>
        <p:blipFill>
          <a:blip r:embed="rId2"/>
          <a:stretch/>
        </p:blipFill>
        <p:spPr>
          <a:xfrm>
            <a:off x="2884320" y="549360"/>
            <a:ext cx="6204240" cy="594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-360" y="339480"/>
            <a:ext cx="3995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2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Espace réservé du contenu 2" descr=""/>
          <p:cNvPicPr/>
          <p:nvPr/>
        </p:nvPicPr>
        <p:blipFill>
          <a:blip r:embed="rId1"/>
          <a:stretch/>
        </p:blipFill>
        <p:spPr>
          <a:xfrm>
            <a:off x="542880" y="2494080"/>
            <a:ext cx="2962440" cy="23763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" descr="geogebra"/>
          <p:cNvPicPr/>
          <p:nvPr/>
        </p:nvPicPr>
        <p:blipFill>
          <a:blip r:embed="rId2"/>
          <a:stretch/>
        </p:blipFill>
        <p:spPr>
          <a:xfrm>
            <a:off x="2884320" y="549360"/>
            <a:ext cx="6204240" cy="594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-360" y="339480"/>
            <a:ext cx="3995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3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Espace réservé du contenu 2" descr=""/>
          <p:cNvPicPr/>
          <p:nvPr/>
        </p:nvPicPr>
        <p:blipFill>
          <a:blip r:embed="rId1"/>
          <a:stretch/>
        </p:blipFill>
        <p:spPr>
          <a:xfrm>
            <a:off x="469800" y="2419200"/>
            <a:ext cx="2962440" cy="23781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geogebra"/>
          <p:cNvPicPr/>
          <p:nvPr/>
        </p:nvPicPr>
        <p:blipFill>
          <a:blip r:embed="rId2"/>
          <a:stretch/>
        </p:blipFill>
        <p:spPr>
          <a:xfrm>
            <a:off x="2884320" y="549360"/>
            <a:ext cx="6204240" cy="594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-360" y="339480"/>
            <a:ext cx="3995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4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Espace réservé du contenu 2" descr=""/>
          <p:cNvPicPr/>
          <p:nvPr/>
        </p:nvPicPr>
        <p:blipFill>
          <a:blip r:embed="rId1"/>
          <a:stretch/>
        </p:blipFill>
        <p:spPr>
          <a:xfrm>
            <a:off x="469800" y="2335320"/>
            <a:ext cx="3102120" cy="25351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" descr="geogebra"/>
          <p:cNvPicPr/>
          <p:nvPr/>
        </p:nvPicPr>
        <p:blipFill>
          <a:blip r:embed="rId2"/>
          <a:stretch/>
        </p:blipFill>
        <p:spPr>
          <a:xfrm>
            <a:off x="2884320" y="549360"/>
            <a:ext cx="6204240" cy="594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360" y="339480"/>
            <a:ext cx="3995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5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Espace réservé du contenu 2" descr=""/>
          <p:cNvPicPr/>
          <p:nvPr/>
        </p:nvPicPr>
        <p:blipFill>
          <a:blip r:embed="rId1"/>
          <a:stretch/>
        </p:blipFill>
        <p:spPr>
          <a:xfrm>
            <a:off x="542880" y="2494080"/>
            <a:ext cx="2962440" cy="23763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" descr="geogebra"/>
          <p:cNvPicPr/>
          <p:nvPr/>
        </p:nvPicPr>
        <p:blipFill>
          <a:blip r:embed="rId2"/>
          <a:stretch/>
        </p:blipFill>
        <p:spPr>
          <a:xfrm>
            <a:off x="2884320" y="549360"/>
            <a:ext cx="6204240" cy="594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6-10T08:43:32Z</dcterms:created>
  <dc:creator>auderi</dc:creator>
  <dc:description/>
  <dc:language>en-US</dc:language>
  <cp:lastModifiedBy>auderi</cp:lastModifiedBy>
  <dcterms:modified xsi:type="dcterms:W3CDTF">2016-07-12T08:02:28Z</dcterms:modified>
  <cp:revision>18</cp:revision>
  <dc:subject/>
  <dc:title>Trigonométrie Série n°1</dc:title>
</cp:coreProperties>
</file>