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2AFB-0CB7-414B-A492-E8D668EA97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C946-C7DA-4F66-AAD1-0AF89722B4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D4D-7E10-48FB-9359-BCF07356BF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6355-1D37-4101-B811-EF4B5977FC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FC2A-9DB3-4DB4-9485-4FB1124CE7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EB2A-AB9C-427F-B939-7D3AF1FFCA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DCF-A8F7-4763-96AD-65C46A1ABB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22E4-5247-43CA-9B9A-3A3B761874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4D94-EA49-44F7-AD9C-4CB5DF7B8E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709-DED3-4259-AB40-6F236BCE98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6BCA-5A2B-42CC-A581-F2933FEB62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C32A-BEB9-490B-8AD3-2D813910B9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3047-513C-406D-B962-53A1761E0E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AE2C-94AE-4B06-8128-F7DCDB8754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1F8-8988-40F3-887F-EFB5B1B005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670A-B1FC-4BF4-B447-B1C7DF15B8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572-05C8-4113-8221-F4FAD6725F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DA56-C8D3-446A-BA63-473659D342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345-5520-4EE9-86D4-E1625ECCFB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090C-0C1C-49DE-9CEA-44C4709668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C221-E951-41A6-9CDB-ED839C4B3D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AB5-3BB7-445C-A85E-A18DA732D6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5EA3-CC20-4D2A-9BAF-C8BA179454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B84-420A-452B-9F82-B2085170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360-1DF8-4EA5-A97D-48C92BBE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795-5910-4D60-9382-0E8449EF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777-209C-4F1F-B253-A3CE9DFC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9F3-2BEA-498B-911B-DE58AC3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FC1-14D3-416C-958E-4EFEF6E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C1A-0D27-430D-860C-DCBAA408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F3E-4708-423B-A2EB-DD700090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A60-86F3-4313-80CC-0C30CBE9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D84-EEA0-4AC6-B857-BE0D825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C54-8CED-4924-8629-707CCD8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D4E-633C-4CCB-B1C5-003FC0BA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9EF1-553A-4AB6-B8C9-1B104D43A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58136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206800"/>
            <a:ext cx="2963880" cy="251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2962080" cy="253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206800"/>
            <a:ext cx="2963880" cy="2371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2262240"/>
            <a:ext cx="3036960" cy="251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3035160" cy="251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3"/>
          <p:cNvSpPr/>
          <p:nvPr/>
        </p:nvSpPr>
        <p:spPr>
          <a:xfrm>
            <a:off x="395280" y="4508640"/>
            <a:ext cx="2664000" cy="1987560"/>
          </a:xfrm>
          <a:prstGeom prst="wedgeRoundRectCallout">
            <a:avLst>
              <a:gd name="adj1" fmla="val 251717"/>
              <a:gd name="adj2" fmla="val -91962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4" descr=""/>
          <p:cNvPicPr/>
          <p:nvPr/>
        </p:nvPicPr>
        <p:blipFill>
          <a:blip r:embed="rId3"/>
          <a:stretch/>
        </p:blipFill>
        <p:spPr>
          <a:xfrm>
            <a:off x="360360" y="5010120"/>
            <a:ext cx="273672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Espace réservé du contenu 2" descr=""/>
          <p:cNvPicPr/>
          <p:nvPr/>
        </p:nvPicPr>
        <p:blipFill>
          <a:blip r:embed="rId1"/>
          <a:stretch/>
        </p:blipFill>
        <p:spPr>
          <a:xfrm>
            <a:off x="16524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à coins arrondis 3"/>
          <p:cNvSpPr/>
          <p:nvPr/>
        </p:nvSpPr>
        <p:spPr>
          <a:xfrm>
            <a:off x="0" y="4508640"/>
            <a:ext cx="3419640" cy="1987560"/>
          </a:xfrm>
          <a:prstGeom prst="wedgeRoundRectCallout">
            <a:avLst>
              <a:gd name="adj1" fmla="val 46726"/>
              <a:gd name="adj2" fmla="val -92662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ZoneTexte 4" descr=""/>
          <p:cNvPicPr/>
          <p:nvPr/>
        </p:nvPicPr>
        <p:blipFill>
          <a:blip r:embed="rId3"/>
          <a:stretch/>
        </p:blipFill>
        <p:spPr>
          <a:xfrm>
            <a:off x="-255600" y="5010120"/>
            <a:ext cx="392580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554120"/>
            <a:ext cx="2963880" cy="252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à coins arrondis 3"/>
          <p:cNvSpPr/>
          <p:nvPr/>
        </p:nvSpPr>
        <p:spPr>
          <a:xfrm>
            <a:off x="174600" y="4232160"/>
            <a:ext cx="3024360" cy="2509920"/>
          </a:xfrm>
          <a:prstGeom prst="wedgeRoundRectCallout">
            <a:avLst>
              <a:gd name="adj1" fmla="val 135296"/>
              <a:gd name="adj2" fmla="val 32986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ZoneTexte 4" descr=""/>
          <p:cNvPicPr/>
          <p:nvPr/>
        </p:nvPicPr>
        <p:blipFill>
          <a:blip r:embed="rId3"/>
          <a:stretch/>
        </p:blipFill>
        <p:spPr>
          <a:xfrm>
            <a:off x="304920" y="4230720"/>
            <a:ext cx="28954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Espace réservé du contenu 2" descr=""/>
          <p:cNvPicPr/>
          <p:nvPr/>
        </p:nvPicPr>
        <p:blipFill>
          <a:blip r:embed="rId1"/>
          <a:stretch/>
        </p:blipFill>
        <p:spPr>
          <a:xfrm>
            <a:off x="133200" y="1627200"/>
            <a:ext cx="2963880" cy="237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à coins arrondis 3"/>
          <p:cNvSpPr/>
          <p:nvPr/>
        </p:nvSpPr>
        <p:spPr>
          <a:xfrm>
            <a:off x="0" y="4268880"/>
            <a:ext cx="3419640" cy="2589120"/>
          </a:xfrm>
          <a:prstGeom prst="wedgeRoundRectCallout">
            <a:avLst>
              <a:gd name="adj1" fmla="val 120055"/>
              <a:gd name="adj2" fmla="val -182384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4" descr=""/>
          <p:cNvPicPr/>
          <p:nvPr/>
        </p:nvPicPr>
        <p:blipFill>
          <a:blip r:embed="rId3"/>
          <a:stretch/>
        </p:blipFill>
        <p:spPr>
          <a:xfrm>
            <a:off x="-115920" y="4267080"/>
            <a:ext cx="341964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segments orange partagent le cercle trigonométrique en douze angles de 30° et les segments verts en huit angles de 45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geogebra"/>
          <p:cNvPicPr/>
          <p:nvPr/>
        </p:nvPicPr>
        <p:blipFill>
          <a:blip r:embed="rId1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Espace réservé du contenu 2" descr=""/>
          <p:cNvPicPr/>
          <p:nvPr/>
        </p:nvPicPr>
        <p:blipFill>
          <a:blip r:embed="rId1"/>
          <a:stretch/>
        </p:blipFill>
        <p:spPr>
          <a:xfrm>
            <a:off x="13320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à coins arrondis 3"/>
          <p:cNvSpPr/>
          <p:nvPr/>
        </p:nvSpPr>
        <p:spPr>
          <a:xfrm>
            <a:off x="0" y="4083120"/>
            <a:ext cx="3203640" cy="2647800"/>
          </a:xfrm>
          <a:prstGeom prst="wedgeRoundRectCallout">
            <a:avLst>
              <a:gd name="adj1" fmla="val 85675"/>
              <a:gd name="adj2" fmla="val 18888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ZoneTexte 4" descr=""/>
          <p:cNvPicPr/>
          <p:nvPr/>
        </p:nvPicPr>
        <p:blipFill>
          <a:blip r:embed="rId3"/>
          <a:stretch/>
        </p:blipFill>
        <p:spPr>
          <a:xfrm>
            <a:off x="-103320" y="4095720"/>
            <a:ext cx="34196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Espace réservé du contenu 2" descr=""/>
          <p:cNvPicPr/>
          <p:nvPr/>
        </p:nvPicPr>
        <p:blipFill>
          <a:blip r:embed="rId1"/>
          <a:stretch/>
        </p:blipFill>
        <p:spPr>
          <a:xfrm>
            <a:off x="13320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à coins arrondis 3"/>
          <p:cNvSpPr/>
          <p:nvPr/>
        </p:nvSpPr>
        <p:spPr>
          <a:xfrm>
            <a:off x="0" y="4083120"/>
            <a:ext cx="3564000" cy="2647800"/>
          </a:xfrm>
          <a:prstGeom prst="wedgeRoundRectCallout">
            <a:avLst>
              <a:gd name="adj1" fmla="val 151388"/>
              <a:gd name="adj2" fmla="val 20981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ZoneTexte 4" descr=""/>
          <p:cNvPicPr/>
          <p:nvPr/>
        </p:nvPicPr>
        <p:blipFill>
          <a:blip r:embed="rId3"/>
          <a:stretch/>
        </p:blipFill>
        <p:spPr>
          <a:xfrm>
            <a:off x="-152280" y="4095720"/>
            <a:ext cx="3882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Espace réservé du contenu 2" descr=""/>
          <p:cNvPicPr/>
          <p:nvPr/>
        </p:nvPicPr>
        <p:blipFill>
          <a:blip r:embed="rId1"/>
          <a:stretch/>
        </p:blipFill>
        <p:spPr>
          <a:xfrm>
            <a:off x="304920" y="1627200"/>
            <a:ext cx="2962080" cy="245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à coins arrondis 3"/>
          <p:cNvSpPr/>
          <p:nvPr/>
        </p:nvSpPr>
        <p:spPr>
          <a:xfrm>
            <a:off x="179280" y="4083120"/>
            <a:ext cx="3168720" cy="2647800"/>
          </a:xfrm>
          <a:prstGeom prst="wedgeRoundRectCallout">
            <a:avLst>
              <a:gd name="adj1" fmla="val 62620"/>
              <a:gd name="adj2" fmla="val 8949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ZoneTexte 4" descr=""/>
          <p:cNvPicPr/>
          <p:nvPr/>
        </p:nvPicPr>
        <p:blipFill>
          <a:blip r:embed="rId3"/>
          <a:stretch/>
        </p:blipFill>
        <p:spPr>
          <a:xfrm>
            <a:off x="-152280" y="4095720"/>
            <a:ext cx="38829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à coins arrondis 3"/>
          <p:cNvSpPr/>
          <p:nvPr/>
        </p:nvSpPr>
        <p:spPr>
          <a:xfrm>
            <a:off x="0" y="4083120"/>
            <a:ext cx="3348000" cy="2647800"/>
          </a:xfrm>
          <a:prstGeom prst="wedgeRoundRectCallout">
            <a:avLst>
              <a:gd name="adj1" fmla="val 68745"/>
              <a:gd name="adj2" fmla="val -137504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ZoneTexte 4" descr=""/>
          <p:cNvPicPr/>
          <p:nvPr/>
        </p:nvPicPr>
        <p:blipFill>
          <a:blip r:embed="rId3"/>
          <a:stretch/>
        </p:blipFill>
        <p:spPr>
          <a:xfrm>
            <a:off x="-268200" y="4108320"/>
            <a:ext cx="3889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à coins arrondis 3"/>
          <p:cNvSpPr/>
          <p:nvPr/>
        </p:nvSpPr>
        <p:spPr>
          <a:xfrm>
            <a:off x="108000" y="4221000"/>
            <a:ext cx="3095640" cy="2509920"/>
          </a:xfrm>
          <a:prstGeom prst="wedgeRoundRectCallout">
            <a:avLst>
              <a:gd name="adj1" fmla="val 60222"/>
              <a:gd name="adj2" fmla="val -124921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4" descr=""/>
          <p:cNvPicPr/>
          <p:nvPr/>
        </p:nvPicPr>
        <p:blipFill>
          <a:blip r:embed="rId3"/>
          <a:stretch/>
        </p:blipFill>
        <p:spPr>
          <a:xfrm>
            <a:off x="-285840" y="4194000"/>
            <a:ext cx="3888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Espace réservé du contenu 2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2963880" cy="2451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à coins arrondis 3"/>
          <p:cNvSpPr/>
          <p:nvPr/>
        </p:nvSpPr>
        <p:spPr>
          <a:xfrm>
            <a:off x="108000" y="4221000"/>
            <a:ext cx="3168720" cy="2521080"/>
          </a:xfrm>
          <a:prstGeom prst="wedgeRoundRectCallout">
            <a:avLst>
              <a:gd name="adj1" fmla="val 207148"/>
              <a:gd name="adj2" fmla="val -18824"/>
              <a:gd name="adj3" fmla="val 16667"/>
            </a:avLst>
          </a:prstGeom>
          <a:solidFill>
            <a:srgbClr val="c3d69b">
              <a:alpha val="75000"/>
            </a:srgbClr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4" descr=""/>
          <p:cNvPicPr/>
          <p:nvPr/>
        </p:nvPicPr>
        <p:blipFill>
          <a:blip r:embed="rId3"/>
          <a:stretch/>
        </p:blipFill>
        <p:spPr>
          <a:xfrm>
            <a:off x="165240" y="4218120"/>
            <a:ext cx="316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er chacun des nombr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és à un point du cer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geogebra"/>
          <p:cNvPicPr/>
          <p:nvPr/>
        </p:nvPicPr>
        <p:blipFill>
          <a:blip r:embed="rId1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Espace réservé du contenu 2" descr=""/>
          <p:cNvPicPr/>
          <p:nvPr/>
        </p:nvPicPr>
        <p:blipFill>
          <a:blip r:embed="rId1"/>
          <a:stretch/>
        </p:blipFill>
        <p:spPr>
          <a:xfrm>
            <a:off x="573120" y="2541600"/>
            <a:ext cx="2962080" cy="2378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Flèche courbée vers le haut 3"/>
          <p:cNvSpPr/>
          <p:nvPr/>
        </p:nvSpPr>
        <p:spPr>
          <a:xfrm>
            <a:off x="2050920" y="3728880"/>
            <a:ext cx="1258920" cy="576360"/>
          </a:xfrm>
          <a:custGeom>
            <a:avLst/>
            <a:gdLst>
              <a:gd name="textAreaLeft" fmla="*/ 260640 w 1258920"/>
              <a:gd name="textAreaRight" fmla="*/ 926280 w 12589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-3483591"/>
                <a:lnTo>
                  <a:pt x="21316" y="5400"/>
                </a:lnTo>
                <a:lnTo>
                  <a:pt x="19128" y="0"/>
                </a:lnTo>
                <a:lnTo>
                  <a:pt x="16372" y="5400"/>
                </a:lnTo>
                <a:lnTo>
                  <a:pt x="17608" y="5400"/>
                </a:lnTo>
                <a:arcTo wR="8946" hR="21600" stAng="1916409" swAng="3285191"/>
                <a:lnTo>
                  <a:pt x="10182" y="21393"/>
                </a:lnTo>
                <a:arcTo wR="8946" hR="21600" stAng="5598400" swAng="5201600"/>
                <a:close/>
              </a:path>
              <a:path fill="darkenLess"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198400"/>
                <a:lnTo>
                  <a:pt x="10182" y="21393"/>
                </a:lnTo>
                <a:arcTo wR="8946" hR="21600" stAng="5598400" swAng="5201600"/>
                <a:close/>
              </a:path>
            </a:pathLst>
          </a:cu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Espace réservé du contenu 2" descr=""/>
          <p:cNvPicPr/>
          <p:nvPr/>
        </p:nvPicPr>
        <p:blipFill>
          <a:blip r:embed="rId1"/>
          <a:stretch/>
        </p:blipFill>
        <p:spPr>
          <a:xfrm>
            <a:off x="10944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Espace réservé du contenu 2" descr=""/>
          <p:cNvPicPr/>
          <p:nvPr/>
        </p:nvPicPr>
        <p:blipFill>
          <a:blip r:embed="rId1"/>
          <a:stretch/>
        </p:blipFill>
        <p:spPr>
          <a:xfrm>
            <a:off x="10944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Espace réservé du contenu 2" descr=""/>
          <p:cNvPicPr/>
          <p:nvPr/>
        </p:nvPicPr>
        <p:blipFill>
          <a:blip r:embed="rId1"/>
          <a:stretch/>
        </p:blipFill>
        <p:spPr>
          <a:xfrm>
            <a:off x="249120" y="2189160"/>
            <a:ext cx="3036960" cy="266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2206800"/>
            <a:ext cx="2962080" cy="23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Espace réservé du contenu 2" descr=""/>
          <p:cNvPicPr/>
          <p:nvPr/>
        </p:nvPicPr>
        <p:blipFill>
          <a:blip r:embed="rId1"/>
          <a:stretch/>
        </p:blipFill>
        <p:spPr>
          <a:xfrm>
            <a:off x="396720" y="2206800"/>
            <a:ext cx="2962440" cy="26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7-12T08:01:59Z</dcterms:modified>
  <cp:revision>53</cp:revision>
  <dc:subject/>
  <dc:title>Trigonométrie Série n°1</dc:title>
</cp:coreProperties>
</file>