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F68-22B1-44F7-B90F-6B98E87747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8A7-AA63-4438-9564-8A0DEC5EEE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F78-5CC6-4D1D-A891-460373A77A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BF2-CC41-4B9F-BF15-4C7A6165F3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DB5-4C84-4432-97A1-E0D0AD2A98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FB1-6707-4F0A-BAE9-D1D64200F7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BFDF-7BEB-4FF7-8B02-EFACB3AFFE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2F91-6EA1-478E-811D-4D6C92DFF5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5A50-8077-4E15-907E-5808FACBA5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161-92C8-48BE-A170-DAEE1441C3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842-EF79-4CC8-8B10-57EC762E70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1C4-14F3-497D-8CE2-1EECDA09BF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78B-8A6C-4BDA-B995-DB7C248BB5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1116-AE9A-4BAD-94E2-811702B857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E185-346F-4F6A-A965-C5BCE26E5D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18E-2311-4896-9FD0-98B2F8B83E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B958-0CC0-4255-949C-48852C8083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94E-D5D1-497B-9AFB-CAB83496F4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F58-605C-4870-87FE-6588294CB8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F1D-6C8B-44F2-9162-709A9E8161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62F-B627-4E78-ACED-8E75FB6D29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117-94B8-4F04-8933-80342D49E7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1D94-CE75-4676-BE67-1E2359F265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36D-B2B9-477C-B405-61C4D4B0F0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D425-E689-4313-B96C-F38B28FB08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FEF-9D32-47A9-A1BF-645B1EC3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067-A86E-4814-8517-52A70A5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A45-015B-47F6-ADC7-E5A4E916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BB8-B8A4-4B30-84FB-B10D733D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2FC-9AAC-42C7-8BE1-28C7F40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27D-399B-465C-BB6B-97B3D32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6B0-8833-4B07-A1C0-BC6DAB4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AEC-C789-4D26-A9CC-53DC07E3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4F3-10AF-461B-9AC9-E29A51A5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3BD-F833-4E6F-BFF1-EA9E1E7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4B7-1ABE-4387-9CBF-71BB3C8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407-D7EA-45B4-82B4-AB0B664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63F3-C2D9-4B24-8785-E403816033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E57-0D95-44C7-B631-EC2A9A913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90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 de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ectangle à coins arrondis 7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7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99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F + … =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Connecteur droit avec flèche 9"/>
            <p:cNvCxnSpPr/>
            <p:nvPr/>
          </p:nvCxnSpPr>
          <p:spPr>
            <a:xfrm>
              <a:off x="3275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1" name="Connecteur droit avec flèche 12"/>
            <p:cNvCxnSpPr/>
            <p:nvPr/>
          </p:nvCxnSpPr>
          <p:spPr>
            <a:xfrm>
              <a:off x="5436360" y="5291280"/>
              <a:ext cx="504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05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F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7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11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E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17" name="Connecteur droit avec flèche 6"/>
          <p:cNvCxnSpPr/>
          <p:nvPr/>
        </p:nvCxnSpPr>
        <p:spPr>
          <a:xfrm flipH="1" flipV="1">
            <a:off x="5685840" y="742680"/>
            <a:ext cx="1105560" cy="1915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8" name="Connecteur droit avec flèche 17"/>
          <p:cNvCxnSpPr/>
          <p:nvPr/>
        </p:nvCxnSpPr>
        <p:spPr>
          <a:xfrm flipH="1">
            <a:off x="3477600" y="748800"/>
            <a:ext cx="22215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19" name="Connecteur droit avec flèche 20"/>
          <p:cNvCxnSpPr/>
          <p:nvPr/>
        </p:nvCxnSpPr>
        <p:spPr>
          <a:xfrm flipH="1" flipV="1">
            <a:off x="3475800" y="742680"/>
            <a:ext cx="3320280" cy="1915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20" name="Groupe 3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121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3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4" name="Groupe 32"/>
          <p:cNvGrpSpPr/>
          <p:nvPr/>
        </p:nvGrpSpPr>
        <p:grpSpPr>
          <a:xfrm>
            <a:off x="3203640" y="5219640"/>
            <a:ext cx="3097080" cy="1191240"/>
            <a:chOff x="3203640" y="5219640"/>
            <a:chExt cx="3097080" cy="1191240"/>
          </a:xfrm>
        </p:grpSpPr>
        <p:sp>
          <p:nvSpPr>
            <p:cNvPr id="125" name="ZoneTexte 23"/>
            <p:cNvSpPr/>
            <p:nvPr/>
          </p:nvSpPr>
          <p:spPr>
            <a:xfrm>
              <a:off x="3203640" y="5219640"/>
              <a:ext cx="3097080" cy="1191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A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Connecteur droit avec flèche 24"/>
            <p:cNvCxnSpPr/>
            <p:nvPr/>
          </p:nvCxnSpPr>
          <p:spPr>
            <a:xfrm>
              <a:off x="550836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7" name="Connecteur droit avec flèche 25"/>
            <p:cNvCxnSpPr/>
            <p:nvPr/>
          </p:nvCxnSpPr>
          <p:spPr>
            <a:xfrm>
              <a:off x="320364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8" name="Connecteur droit avec flèche 26"/>
            <p:cNvCxnSpPr/>
            <p:nvPr/>
          </p:nvCxnSpPr>
          <p:spPr>
            <a:xfrm>
              <a:off x="4356000" y="52894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6"/>
          <p:cNvCxnSpPr/>
          <p:nvPr/>
        </p:nvCxnSpPr>
        <p:spPr>
          <a:xfrm flipH="1" flipV="1">
            <a:off x="5679720" y="737640"/>
            <a:ext cx="1152720" cy="1943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2" name="Connecteur droit avec flèche 9"/>
          <p:cNvCxnSpPr/>
          <p:nvPr/>
        </p:nvCxnSpPr>
        <p:spPr>
          <a:xfrm flipH="1">
            <a:off x="2382120" y="728640"/>
            <a:ext cx="3313800" cy="194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Connecteur droit avec flèche 12"/>
          <p:cNvCxnSpPr/>
          <p:nvPr/>
        </p:nvCxnSpPr>
        <p:spPr>
          <a:xfrm flipH="1">
            <a:off x="2358720" y="2671560"/>
            <a:ext cx="4464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ZoneTexte 7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B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10"/>
          <p:cNvCxnSpPr/>
          <p:nvPr/>
        </p:nvCxnSpPr>
        <p:spPr>
          <a:xfrm>
            <a:off x="3203640" y="529236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Connecteur droit avec flèche 11"/>
          <p:cNvCxnSpPr/>
          <p:nvPr/>
        </p:nvCxnSpPr>
        <p:spPr>
          <a:xfrm>
            <a:off x="4356000" y="529236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44952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40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FE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Connecteur droit avec flèche 12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Connecteur droit avec flèche 7"/>
          <p:cNvCxnSpPr/>
          <p:nvPr/>
        </p:nvCxnSpPr>
        <p:spPr>
          <a:xfrm flipH="1" flipV="1">
            <a:off x="5679720" y="718560"/>
            <a:ext cx="1152720" cy="19436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4" name="Connecteur droit avec flèche 10"/>
          <p:cNvCxnSpPr/>
          <p:nvPr/>
        </p:nvCxnSpPr>
        <p:spPr>
          <a:xfrm flipH="1">
            <a:off x="3466800" y="4587480"/>
            <a:ext cx="2232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45" name="Connecteur droit avec flèche 11"/>
          <p:cNvCxnSpPr/>
          <p:nvPr/>
        </p:nvCxnSpPr>
        <p:spPr>
          <a:xfrm flipH="1" flipV="1">
            <a:off x="3438000" y="728280"/>
            <a:ext cx="3385440" cy="1944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ZoneTexte 27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FE = 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Connecteur droit avec flèche 28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Connecteur droit avec flèche 29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Connecteur droit avec flèche 30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48148E-006 L 4.72222E-006 -0.55995 E">
                                      <p:cBhvr>
                                        <p:cTn id="6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22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 + OE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onnecteur droit avec flèche 23"/>
          <p:cNvCxnSpPr/>
          <p:nvPr/>
        </p:nvCxnSpPr>
        <p:spPr>
          <a:xfrm>
            <a:off x="3276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Connecteur droit avec flèche 24"/>
          <p:cNvCxnSpPr/>
          <p:nvPr/>
        </p:nvCxnSpPr>
        <p:spPr>
          <a:xfrm>
            <a:off x="4427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onnecteur droit avec flèche 6"/>
          <p:cNvCxnSpPr/>
          <p:nvPr/>
        </p:nvCxnSpPr>
        <p:spPr>
          <a:xfrm flipV="1">
            <a:off x="4581360" y="738000"/>
            <a:ext cx="1115280" cy="1910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6" name="Connecteur droit avec flèche 7"/>
          <p:cNvCxnSpPr/>
          <p:nvPr/>
        </p:nvCxnSpPr>
        <p:spPr>
          <a:xfrm flipH="1">
            <a:off x="3482640" y="2685600"/>
            <a:ext cx="1070640" cy="19026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7" name="ZoneTexte 25"/>
          <p:cNvSpPr/>
          <p:nvPr/>
        </p:nvSpPr>
        <p:spPr>
          <a:xfrm>
            <a:off x="3203640" y="5219640"/>
            <a:ext cx="29527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 + OE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Connecteur droit avec flèche 26"/>
          <p:cNvCxnSpPr/>
          <p:nvPr/>
        </p:nvCxnSpPr>
        <p:spPr>
          <a:xfrm>
            <a:off x="3276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Connecteur droit avec flèche 27"/>
          <p:cNvCxnSpPr/>
          <p:nvPr/>
        </p:nvCxnSpPr>
        <p:spPr>
          <a:xfrm>
            <a:off x="4427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Connecteur droit avec flèche 28"/>
          <p:cNvCxnSpPr/>
          <p:nvPr/>
        </p:nvCxnSpPr>
        <p:spPr>
          <a:xfrm>
            <a:off x="5580000" y="5219280"/>
            <a:ext cx="432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12205 -0.27801 E">
                                      <p:cBhvr>
                                        <p:cTn id="11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AO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12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65" name="Image 7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cxnSp>
        <p:nvCxnSpPr>
          <p:cNvPr id="166" name="Connecteur droit avec flèche 10"/>
          <p:cNvCxnSpPr/>
          <p:nvPr/>
        </p:nvCxnSpPr>
        <p:spPr>
          <a:xfrm flipH="1" flipV="1">
            <a:off x="5698440" y="766440"/>
            <a:ext cx="1112040" cy="1900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7" name="Connecteur droit avec flèche 11"/>
          <p:cNvCxnSpPr/>
          <p:nvPr/>
        </p:nvCxnSpPr>
        <p:spPr>
          <a:xfrm flipH="1">
            <a:off x="4562280" y="2671560"/>
            <a:ext cx="2232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8" name="Connecteur droit avec flèche 13"/>
          <p:cNvCxnSpPr/>
          <p:nvPr/>
        </p:nvCxnSpPr>
        <p:spPr>
          <a:xfrm flipH="1" flipV="1">
            <a:off x="3447360" y="737640"/>
            <a:ext cx="3385080" cy="19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9" name="ZoneTexte 14"/>
          <p:cNvSpPr/>
          <p:nvPr/>
        </p:nvSpPr>
        <p:spPr>
          <a:xfrm>
            <a:off x="3203640" y="5219640"/>
            <a:ext cx="309708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AO = 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Connecteur droit avec flèche 15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Connecteur droit avec flèche 16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Connecteur droit avec flèche 17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-0.12205 -0.28334 E">
                                      <p:cBhvr>
                                        <p:cTn id="1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76" name="ZoneTexte 1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Connecteur droit avec flèche 17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Connecteur droit avec flèche 18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Connecteur droit avec flèche 6"/>
          <p:cNvCxnSpPr/>
          <p:nvPr/>
        </p:nvCxnSpPr>
        <p:spPr>
          <a:xfrm flipH="1">
            <a:off x="5695560" y="2666520"/>
            <a:ext cx="1086480" cy="1924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0" name="Connecteur droit avec flèche 7"/>
          <p:cNvCxnSpPr/>
          <p:nvPr/>
        </p:nvCxnSpPr>
        <p:spPr>
          <a:xfrm flipH="1">
            <a:off x="2351880" y="728640"/>
            <a:ext cx="1121400" cy="19771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1" name="Connecteur droit avec flèche 9"/>
          <p:cNvCxnSpPr/>
          <p:nvPr/>
        </p:nvCxnSpPr>
        <p:spPr>
          <a:xfrm flipH="1">
            <a:off x="3485880" y="762120"/>
            <a:ext cx="2210400" cy="3829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ZoneTexte 24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cteur droit avec flèche 25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Connecteur droit avec flèche 26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27"/>
          <p:cNvCxnSpPr/>
          <p:nvPr/>
        </p:nvCxnSpPr>
        <p:spPr>
          <a:xfrm>
            <a:off x="5508360" y="5219280"/>
            <a:ext cx="719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-0.12014 -0.28634 E">
                                      <p:cBhvr>
                                        <p:cTn id="20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12587 0.27824 E">
                                      <p:cBhvr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Arial"/>
              </a:rPr>
              <a:t>ABCDEF est un hexagone régulier.</a:t>
            </a:r>
            <a:br>
              <a:rPr sz="4000"/>
            </a:br>
            <a:r>
              <a:rPr b="0" lang="fr-FR" sz="4000" spc="-1" strike="noStrike">
                <a:solidFill>
                  <a:srgbClr val="005bd3"/>
                </a:solidFill>
                <a:latin typeface="Georgia"/>
                <a:ea typeface="Arial"/>
              </a:rPr>
              <a:t>Pour chaque question, compléter l’égalité en utilisant la figu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3" descr="Figure-Vecteurs.jpg"/>
          <p:cNvPicPr/>
          <p:nvPr/>
        </p:nvPicPr>
        <p:blipFill>
          <a:blip r:embed="rId1"/>
          <a:stretch/>
        </p:blipFill>
        <p:spPr>
          <a:xfrm>
            <a:off x="2268360" y="404640"/>
            <a:ext cx="4191120" cy="36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188" name="ZoneTexte 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B + … =  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Connecteur droit avec flèche 9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Connecteur droit avec flèche 12"/>
          <p:cNvCxnSpPr/>
          <p:nvPr/>
        </p:nvCxnSpPr>
        <p:spPr>
          <a:xfrm>
            <a:off x="5435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1" name="Groupe 20" descr=""/>
          <p:cNvPicPr/>
          <p:nvPr/>
        </p:nvPicPr>
        <p:blipFill>
          <a:blip r:embed="rId2"/>
          <a:stretch/>
        </p:blipFill>
        <p:spPr>
          <a:xfrm>
            <a:off x="3017880" y="5102280"/>
            <a:ext cx="3425760" cy="987480"/>
          </a:xfrm>
          <a:prstGeom prst="rect">
            <a:avLst/>
          </a:prstGeom>
          <a:ln w="0">
            <a:noFill/>
          </a:ln>
        </p:spPr>
      </p:pic>
      <p:cxnSp>
        <p:nvCxnSpPr>
          <p:cNvPr id="192" name="Connecteur droit avec flèche 14"/>
          <p:cNvCxnSpPr/>
          <p:nvPr/>
        </p:nvCxnSpPr>
        <p:spPr>
          <a:xfrm flipH="1" flipV="1">
            <a:off x="5662080" y="737640"/>
            <a:ext cx="11534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3" name="Connecteur droit avec flèche 15"/>
          <p:cNvCxnSpPr/>
          <p:nvPr/>
        </p:nvCxnSpPr>
        <p:spPr>
          <a:xfrm flipH="1">
            <a:off x="3470040" y="726840"/>
            <a:ext cx="2232720" cy="388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4" name="Connecteur droit avec flèche 16"/>
          <p:cNvCxnSpPr/>
          <p:nvPr/>
        </p:nvCxnSpPr>
        <p:spPr>
          <a:xfrm flipH="1">
            <a:off x="3461760" y="2660760"/>
            <a:ext cx="3385080" cy="19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e 11"/>
          <p:cNvGrpSpPr/>
          <p:nvPr/>
        </p:nvGrpSpPr>
        <p:grpSpPr>
          <a:xfrm>
            <a:off x="3203640" y="5219280"/>
            <a:ext cx="3097080" cy="642960"/>
            <a:chOff x="3203640" y="5219280"/>
            <a:chExt cx="3097080" cy="642960"/>
          </a:xfrm>
        </p:grpSpPr>
        <p:sp>
          <p:nvSpPr>
            <p:cNvPr id="19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F + .…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Connecteur droit avec flèche 9"/>
            <p:cNvCxnSpPr/>
            <p:nvPr/>
          </p:nvCxnSpPr>
          <p:spPr>
            <a:xfrm>
              <a:off x="3275640" y="5219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0" name="Connecteur droit avec flèche 12"/>
            <p:cNvCxnSpPr/>
            <p:nvPr/>
          </p:nvCxnSpPr>
          <p:spPr>
            <a:xfrm>
              <a:off x="5436360" y="5219280"/>
              <a:ext cx="5043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01" name="Connecteur droit avec flèche 28"/>
          <p:cNvCxnSpPr/>
          <p:nvPr/>
        </p:nvCxnSpPr>
        <p:spPr>
          <a:xfrm>
            <a:off x="4582800" y="2671560"/>
            <a:ext cx="11516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202" name="Groupe 13" descr=""/>
          <p:cNvPicPr/>
          <p:nvPr/>
        </p:nvPicPr>
        <p:blipFill>
          <a:blip r:embed="rId2"/>
          <a:stretch/>
        </p:blipFill>
        <p:spPr>
          <a:xfrm>
            <a:off x="3017880" y="5102280"/>
            <a:ext cx="3120840" cy="1012680"/>
          </a:xfrm>
          <a:prstGeom prst="rect">
            <a:avLst/>
          </a:prstGeom>
          <a:ln w="0">
            <a:noFill/>
          </a:ln>
        </p:spPr>
      </p:pic>
      <p:sp>
        <p:nvSpPr>
          <p:cNvPr id="20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Connecteur droit avec flèche 14"/>
          <p:cNvCxnSpPr/>
          <p:nvPr/>
        </p:nvCxnSpPr>
        <p:spPr>
          <a:xfrm flipH="1" flipV="1">
            <a:off x="4535280" y="2592000"/>
            <a:ext cx="1152720" cy="19440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e 1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20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F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0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11" name="Connecteur droit avec flèche 7"/>
          <p:cNvCxnSpPr/>
          <p:nvPr/>
        </p:nvCxnSpPr>
        <p:spPr>
          <a:xfrm flipH="1" flipV="1">
            <a:off x="5673240" y="737640"/>
            <a:ext cx="11534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12" name="Connecteur droit avec flèche 10"/>
          <p:cNvCxnSpPr/>
          <p:nvPr/>
        </p:nvCxnSpPr>
        <p:spPr>
          <a:xfrm flipH="1">
            <a:off x="3512520" y="748800"/>
            <a:ext cx="216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13" name="Connecteur droit avec flèche 11"/>
          <p:cNvCxnSpPr/>
          <p:nvPr/>
        </p:nvCxnSpPr>
        <p:spPr>
          <a:xfrm flipH="1" flipV="1">
            <a:off x="2350440" y="2660400"/>
            <a:ext cx="3383640" cy="194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4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32244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1198 -0.28426 E">
                                      <p:cBhvr>
                                        <p:cTn id="29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e 13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218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E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221" name="Connecteur droit avec flèche 7"/>
          <p:cNvCxnSpPr/>
          <p:nvPr/>
        </p:nvCxnSpPr>
        <p:spPr>
          <a:xfrm flipH="1" flipV="1">
            <a:off x="5673240" y="758520"/>
            <a:ext cx="1153440" cy="19454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22" name="Connecteur droit avec flèche 10"/>
          <p:cNvCxnSpPr/>
          <p:nvPr/>
        </p:nvCxnSpPr>
        <p:spPr>
          <a:xfrm flipV="1">
            <a:off x="2350800" y="737640"/>
            <a:ext cx="115164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23" name="Connecteur droit avec flèche 11"/>
          <p:cNvCxnSpPr/>
          <p:nvPr/>
        </p:nvCxnSpPr>
        <p:spPr>
          <a:xfrm flipV="1">
            <a:off x="3470040" y="769320"/>
            <a:ext cx="1080" cy="388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4" name="Groupe 14" descr=""/>
          <p:cNvPicPr/>
          <p:nvPr/>
        </p:nvPicPr>
        <p:blipFill>
          <a:blip r:embed="rId2"/>
          <a:stretch/>
        </p:blipFill>
        <p:spPr>
          <a:xfrm>
            <a:off x="3017880" y="5126040"/>
            <a:ext cx="3535200" cy="96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-0.36216 0.27824 E">
                                      <p:cBhvr>
                                        <p:cTn id="3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58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C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64" name="ZoneTexte 7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BD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onnecteur droit avec flèche 10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Connecteur droit avec flèche 11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70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FE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e 6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76" name="ZoneTexte 22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OB + OE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Connecteur droit avec flèche 23"/>
            <p:cNvCxnSpPr/>
            <p:nvPr/>
          </p:nvCxnSpPr>
          <p:spPr>
            <a:xfrm>
              <a:off x="3275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Connecteur droit avec flèche 24"/>
            <p:cNvCxnSpPr/>
            <p:nvPr/>
          </p:nvCxnSpPr>
          <p:spPr>
            <a:xfrm>
              <a:off x="4428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82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AO =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" name="Connecteur droit avec flèche 12"/>
            <p:cNvCxnSpPr/>
            <p:nvPr/>
          </p:nvCxnSpPr>
          <p:spPr>
            <a:xfrm>
              <a:off x="435600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16"/>
          <p:cNvSpPr/>
          <p:nvPr/>
        </p:nvSpPr>
        <p:spPr>
          <a:xfrm>
            <a:off x="3203640" y="5219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 + CD =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Connecteur droit avec flèche 17"/>
          <p:cNvCxnSpPr/>
          <p:nvPr/>
        </p:nvCxnSpPr>
        <p:spPr>
          <a:xfrm>
            <a:off x="320364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Connecteur droit avec flèche 18"/>
          <p:cNvCxnSpPr/>
          <p:nvPr/>
        </p:nvCxnSpPr>
        <p:spPr>
          <a:xfrm>
            <a:off x="4356000" y="5219280"/>
            <a:ext cx="72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0"/>
            <a:ext cx="1800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 4" descr="Figure-Vecteurs.jpg"/>
          <p:cNvPicPr/>
          <p:nvPr/>
        </p:nvPicPr>
        <p:blipFill>
          <a:blip r:embed="rId1"/>
          <a:stretch/>
        </p:blipFill>
        <p:spPr>
          <a:xfrm>
            <a:off x="1979640" y="360360"/>
            <a:ext cx="5359320" cy="46958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e 7"/>
          <p:cNvGrpSpPr/>
          <p:nvPr/>
        </p:nvGrpSpPr>
        <p:grpSpPr>
          <a:xfrm>
            <a:off x="3203640" y="5219640"/>
            <a:ext cx="3097080" cy="642600"/>
            <a:chOff x="3203640" y="5219640"/>
            <a:chExt cx="3097080" cy="642600"/>
          </a:xfrm>
        </p:grpSpPr>
        <p:sp>
          <p:nvSpPr>
            <p:cNvPr id="93" name="ZoneTexte 6"/>
            <p:cNvSpPr/>
            <p:nvPr/>
          </p:nvSpPr>
          <p:spPr>
            <a:xfrm>
              <a:off x="3203640" y="521964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Arial"/>
                </a:rPr>
                <a:t>AB + … =  A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Connecteur droit avec flèche 9"/>
            <p:cNvCxnSpPr/>
            <p:nvPr/>
          </p:nvCxnSpPr>
          <p:spPr>
            <a:xfrm>
              <a:off x="320364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" name="Connecteur droit avec flèche 12"/>
            <p:cNvCxnSpPr/>
            <p:nvPr/>
          </p:nvCxnSpPr>
          <p:spPr>
            <a:xfrm>
              <a:off x="5436360" y="5291280"/>
              <a:ext cx="720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Xavier Malbert</dc:creator>
  <dc:description/>
  <dc:language>en-US</dc:language>
  <cp:lastModifiedBy>auderi</cp:lastModifiedBy>
  <dcterms:modified xsi:type="dcterms:W3CDTF">2016-07-02T17:27:52Z</dcterms:modified>
  <cp:revision>306</cp:revision>
  <dc:subject/>
  <dc:title>Fonction ou Pas fonction</dc:title>
</cp:coreProperties>
</file>