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F4EF-B2CF-48F4-A05C-B295FD5338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DE02-D9A7-4517-ACCD-EA809E6971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6FAE-1392-4853-A2E7-4B8181ED9F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087-9E88-427F-870A-CAE4AC0E7C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2089-7E3B-4BEE-8E48-51A50AC2A6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8C66-37C3-41EA-A0AF-20EAA5A235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6E07-DEB2-43D2-8B60-53B80C8419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9579-399C-4E84-9017-A283BAFA55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08DE-44E5-47AC-A6A2-D6633DE810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2B79-670A-4EC9-83B0-8D26BD21F4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1059-5E28-4A61-A47C-60100CD776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B175-1D04-47A0-A3C6-F306C6814C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507B-26D7-458D-9553-3C19563C98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6609-210B-4AEA-B429-0F0102819D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EFD-FA66-4990-9162-D106C312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3A4-C91C-4A57-B5E6-9DDC2659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FE6-D22E-433F-A111-BE9E3EA9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447-5F43-476F-9DD3-B15ABE8E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CD8-D7D6-41F3-80E1-6A719B68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F0B-BD81-4D85-87C2-99B294BA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CCF-8E7C-49AB-9168-8DA9FBFD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558-EB08-46A3-A98E-648F1657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EA2-0E88-41B7-8D31-3650ED62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326-C638-4059-8C72-5599CC2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AC4-5BE5-4594-911D-59F413F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7A8-0DC3-40CB-8E09-89339F4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E9FD-A210-4621-B769-F508D85242E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FBB9-D663-4B58-B8CA-2E2C646C4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</a:rPr>
                <a:t>Série 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903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cteurs, segments et longu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Rectangle à coins arrondis 32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Rectangle à coins arrondis 34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3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Rectangle à coins arrondis 35" descr=""/>
          <p:cNvPicPr/>
          <p:nvPr/>
        </p:nvPicPr>
        <p:blipFill>
          <a:blip r:embed="rId2"/>
          <a:stretch/>
        </p:blipFill>
        <p:spPr>
          <a:xfrm>
            <a:off x="3797280" y="3962520"/>
            <a:ext cx="537696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Répondre par </a:t>
            </a:r>
            <a:br>
              <a:rPr sz="6000"/>
            </a:br>
            <a:r>
              <a:rPr b="0" lang="fr-FR" sz="6000" spc="-1" strike="noStrike">
                <a:solidFill>
                  <a:srgbClr val="0042c8"/>
                </a:solidFill>
                <a:latin typeface="Georgia"/>
                <a:ea typeface="Times New Roman"/>
              </a:rPr>
              <a:t>OUI ou N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à coins arrondis 49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328840"/>
          </a:xfrm>
          <a:prstGeom prst="rect">
            <a:avLst/>
          </a:prstGeom>
          <a:ln w="0">
            <a:noFill/>
          </a:ln>
        </p:spPr>
      </p:pic>
      <p:sp>
        <p:nvSpPr>
          <p:cNvPr id="70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à coins arrondis 30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à coins arrondis 34" descr=""/>
          <p:cNvPicPr/>
          <p:nvPr/>
        </p:nvPicPr>
        <p:blipFill>
          <a:blip r:embed="rId2"/>
          <a:stretch/>
        </p:blipFill>
        <p:spPr>
          <a:xfrm>
            <a:off x="3724200" y="3962520"/>
            <a:ext cx="541332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Rectangle à coins arrondis 31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ctangle à coins arrondis 36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297760" cy="23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à coins arrondis 33" descr=""/>
          <p:cNvPicPr/>
          <p:nvPr/>
        </p:nvPicPr>
        <p:blipFill>
          <a:blip r:embed="rId2"/>
          <a:stretch/>
        </p:blipFill>
        <p:spPr>
          <a:xfrm>
            <a:off x="3906720" y="3962520"/>
            <a:ext cx="5145120" cy="23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77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tre 1"/>
          <p:cNvSpPr/>
          <p:nvPr/>
        </p:nvSpPr>
        <p:spPr>
          <a:xfrm>
            <a:off x="0" y="0"/>
            <a:ext cx="1440000" cy="1079640"/>
          </a:xfrm>
          <a:prstGeom prst="rect">
            <a:avLst/>
          </a:prstGeom>
          <a:solidFill>
            <a:srgbClr val="f1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Rectangle à coins arrondis 35" descr=""/>
          <p:cNvPicPr/>
          <p:nvPr/>
        </p:nvPicPr>
        <p:blipFill>
          <a:blip r:embed="rId2"/>
          <a:stretch/>
        </p:blipFill>
        <p:spPr>
          <a:xfrm>
            <a:off x="3797280" y="3962520"/>
            <a:ext cx="5376960" cy="227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7-11T08:39:41Z</dcterms:modified>
  <cp:revision>342</cp:revision>
  <dc:subject/>
  <dc:title>Diapositive 0</dc:title>
</cp:coreProperties>
</file>