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1E5-A8FD-4807-AFAC-3745EA18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63F-AFD1-4C36-AF04-F08BAC8C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E21-38A6-4B0E-95B0-0BA6948E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8D4-98E9-4A14-A3CA-DE8D5816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055-FCE3-4A6F-8F75-E0B0FFE6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89A-6D56-465F-A3D4-D21E67AD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6C8-7825-49EE-ADA0-BFBB48E6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ED5-4565-4B29-9C50-91A70CD6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571-BBF6-4224-9564-31ADC4AF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531-C53A-49AF-B8D4-45C5178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8A0-47B7-4E3E-A2D2-6B98ABE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A51-EC08-401D-8731-389C85CF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0ADFE-A76C-493D-A493-3405250D7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54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 calc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9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7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0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0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H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4 , 6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 4" descr=""/>
          <p:cNvPicPr/>
          <p:nvPr/>
        </p:nvPicPr>
        <p:blipFill>
          <a:blip r:embed="rId1"/>
          <a:stretch/>
        </p:blipFill>
        <p:spPr>
          <a:xfrm>
            <a:off x="1644480" y="3402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6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8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635040"/>
          </a:xfrm>
          <a:prstGeom prst="rect">
            <a:avLst/>
          </a:prstGeom>
          <a:ln w="0">
            <a:noFill/>
          </a:ln>
        </p:spPr>
      </p:pic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049480" y="441000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6700680" y="4410000"/>
            <a:ext cx="129240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11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12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182232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860760" cy="1224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16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17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13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9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2049480" y="4410000"/>
            <a:ext cx="182088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756480" y="4410000"/>
            <a:ext cx="1292040" cy="1224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14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008080" y="4410000"/>
            <a:ext cx="223848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1292400" cy="1224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035080" y="4410000"/>
            <a:ext cx="2389320" cy="12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854280" cy="122400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13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oneTexte 14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5521320" y="2319480"/>
            <a:ext cx="1809720" cy="752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978200" y="2243520"/>
            <a:ext cx="42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ans le repè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2" descr=""/>
          <p:cNvPicPr/>
          <p:nvPr/>
        </p:nvPicPr>
        <p:blipFill>
          <a:blip r:embed="rId2"/>
          <a:stretch/>
        </p:blipFill>
        <p:spPr>
          <a:xfrm>
            <a:off x="5383080" y="2252520"/>
            <a:ext cx="2019600" cy="92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05876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alculer les coordonnées de chaque vecteur à l’aide des coordonné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des point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3" descr=""/>
          <p:cNvPicPr/>
          <p:nvPr/>
        </p:nvPicPr>
        <p:blipFill>
          <a:blip r:embed="rId3"/>
          <a:stretch/>
        </p:blipFill>
        <p:spPr>
          <a:xfrm>
            <a:off x="7182000" y="2773440"/>
            <a:ext cx="22068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979640" y="4410000"/>
            <a:ext cx="3051000" cy="12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1280880" cy="122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228560" y="13327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8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257200" cy="122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1290600" cy="1224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28560" y="129456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Image 7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9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979640" y="4410000"/>
            <a:ext cx="27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3"/>
          <a:stretch/>
        </p:blipFill>
        <p:spPr>
          <a:xfrm>
            <a:off x="6840360" y="4410000"/>
            <a:ext cx="860760" cy="1224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20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39076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866520" cy="1224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H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4 , 6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Image 4" descr=""/>
          <p:cNvPicPr/>
          <p:nvPr/>
        </p:nvPicPr>
        <p:blipFill>
          <a:blip r:embed="rId1"/>
          <a:stretch/>
        </p:blipFill>
        <p:spPr>
          <a:xfrm>
            <a:off x="1644480" y="3402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6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75904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6729480" y="4410000"/>
            <a:ext cx="128088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ZoneTexte 14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143000" cy="88884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5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119320" y="4411800"/>
            <a:ext cx="182088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6715080" y="4411800"/>
            <a:ext cx="8683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8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635040"/>
          </a:xfrm>
          <a:prstGeom prst="rect">
            <a:avLst/>
          </a:prstGeom>
          <a:ln w="0">
            <a:noFill/>
          </a:ln>
        </p:spPr>
      </p:pic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11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8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9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1:15Z</dcterms:modified>
  <cp:revision>80</cp:revision>
  <dc:subject/>
  <dc:title>Vecteurs égaux et parallélogrammes</dc:title>
</cp:coreProperties>
</file>